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DD4E-3735-4ADA-B721-2FBBA8285DE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ADFA-0EE0-43DB-A2B8-A4F6F6F7C00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FEF1-B5F4-4E97-9040-D1216EEB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0A5D-6D9F-4CE8-B3FC-EEE67CA3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3E88-2DE4-44F4-8E0E-1D6AF68B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234D-6F8C-4657-8E7C-CA3E46AB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81AAA-FDAB-4B46-A771-FAD99B0A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09F9F-E84C-4EA3-B47B-F7011208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E5FA3-10DC-4C68-A849-63E6BFF1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51FF9-D82B-4FF5-B5C7-CBF8037D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0193C-9512-4CBC-A194-6EF85B77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D13AB-1B90-45F7-A936-8068774D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9C270-A97A-4830-B3C6-52216B3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57C9-8CF4-4C8B-A661-995ECCFE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3A549-B132-415B-9E67-F1957B41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DA6A4-7C73-4A33-BE6C-E33F8CB6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36921-889E-4975-9780-2989A6CE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A5714-030E-46D0-B23B-C559DE42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9EB93-0517-436C-B827-BF33D5E7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698D-0C29-470D-A2AB-57B374AF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44CE-4AAF-4499-8921-3BBC4322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32BB-771C-4684-AAE4-69F3C934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0295-C29C-4B9F-A61B-F928C92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D27A-FEF6-4549-B8F6-B0BDCB29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F275B-06BC-4D0A-83B1-EBF0AC05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0CB1-3EDC-408B-9DEE-93122BD4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4BC2-B140-43EC-B14A-AF95A73BD01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5.png"/>
          <p:cNvPicPr/>
          <p:nvPr/>
        </p:nvPicPr>
        <p:blipFill>
          <a:blip r:embed="rId3"/>
          <a:stretch/>
        </p:blipFill>
        <p:spPr>
          <a:xfrm>
            <a:off x="-32083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4"/>
          <a:stretch/>
        </p:blipFill>
        <p:spPr>
          <a:xfrm>
            <a:off x="-19162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5"/>
          <a:stretch/>
        </p:blipFill>
        <p:spPr>
          <a:xfrm>
            <a:off x="-19875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580E-3B82-43D8-AFC4-29D6DC80D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0" y="765000"/>
            <a:ext cx="93528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放牛班的春天</a:t>
            </a:r>
            <a:endParaRPr b="1" lang="en-US" sz="5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453440" y="278100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感 悟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音乐的魅力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84" name="Picture 3" descr="0003"/>
          <p:cNvPicPr/>
          <p:nvPr/>
        </p:nvPicPr>
        <p:blipFill>
          <a:blip r:embed="rId1"/>
          <a:stretch/>
        </p:blipFill>
        <p:spPr>
          <a:xfrm>
            <a:off x="-177840" y="1270080"/>
            <a:ext cx="4656240" cy="3670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6458177469_l"/>
          <p:cNvPicPr/>
          <p:nvPr/>
        </p:nvPicPr>
        <p:blipFill>
          <a:blip r:embed="rId2"/>
          <a:stretch/>
        </p:blipFill>
        <p:spPr>
          <a:xfrm>
            <a:off x="4429080" y="1270080"/>
            <a:ext cx="4680000" cy="3684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-320760" y="5149800"/>
            <a:ext cx="928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神圣而纯净的音乐不但净化了孩子们的心灵，更对他们今后的人生道路产生了重大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童声合唱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-249120" y="-168120"/>
            <a:ext cx="8829720" cy="7215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8313120" y="-600120"/>
            <a:ext cx="911880" cy="712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音乐拯救了迷失在泥潭中的皮埃尔和他的同学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-95760"/>
            <a:ext cx="7238880" cy="5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91" name="Picture 3" descr="34bbf8cd0646cc420eb34547"/>
          <p:cNvPicPr/>
          <p:nvPr/>
        </p:nvPicPr>
        <p:blipFill>
          <a:blip r:embed="rId1"/>
          <a:stretch/>
        </p:blipFill>
        <p:spPr>
          <a:xfrm>
            <a:off x="179280" y="836640"/>
            <a:ext cx="4362480" cy="642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28fddfd216a4809d6887d93"/>
          <p:cNvPicPr/>
          <p:nvPr/>
        </p:nvPicPr>
        <p:blipFill>
          <a:blip r:embed="rId2"/>
          <a:stretch/>
        </p:blipFill>
        <p:spPr>
          <a:xfrm>
            <a:off x="4500720" y="836640"/>
            <a:ext cx="455292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8720" y="18864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1125360"/>
            <a:ext cx="83534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黄石的孩子》被称为中国版的《放牛班的春天》，《黄石的孩子》的何克和《放牛班的春天》的克莱门特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修都是拯救孩子们的天使。相近的年代，不同的国度，迥异的背景，却表达了一个相同的主题：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春风化雨的教育融化了一群受伤孩子日渐冰封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说《黄石的孩子》犹如一阵雷雨，刹那间有着极强的震撼力，那么《放牛班的春天》就是连绵不绝春雨，虽然仅仅是淅淅沥沥似乎有些微弱，但却那样持久地搅动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8000" y="1125360"/>
            <a:ext cx="763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牛班的春天在片子结尾姗姗来迟，但我们在影片中途就已经感觉到了暖意，顽劣的学生开始唱歌，刻薄的校长不再可怕，童心开始绽放光芒，少年开始直视这个世界。生活将会很美好，孩子们将来会走向各种岗位。他们将会散布到世界上任何一个角落，活得精彩。生活将是一盒甜美的巧克力，你永远不知道下一个是什么味道，但我们也已感受到了，永远不要轻易放弃希望，因为，一个生命的存在便是最大的希望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134136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部影片在告诉我们：这样的寄宿学校到处都有，有这样的问题孩子到处都是，但是这样的学校里可能更多的是对问题学生天生厌恶的老师，而很少有马修出现。所以我们会感动，我们会被《放牛班的春天》感动，因为他给了一个现实中不容易得到的感动，让我们在现实中失落的心灵在观赏影片时得以抚慰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电影是浪漫的，是理想化的，但却是受欢迎的，也是必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1" lang="en-US" sz="48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小组成员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7360" y="1269720"/>
            <a:ext cx="410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冀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董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卲其雷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张东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王怀亮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高凤旭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潘海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郑俊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2009042412260389"/>
          <p:cNvPicPr/>
          <p:nvPr/>
        </p:nvPicPr>
        <p:blipFill>
          <a:blip r:embed="rId1"/>
          <a:stretch/>
        </p:blipFill>
        <p:spPr>
          <a:xfrm>
            <a:off x="2268360" y="1341360"/>
            <a:ext cx="60804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放牛班春天的电影剧照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00" name="Picture 3" descr="5236149608_l"/>
          <p:cNvPicPr/>
          <p:nvPr/>
        </p:nvPicPr>
        <p:blipFill>
          <a:blip r:embed="rId1"/>
          <a:stretch/>
        </p:blipFill>
        <p:spPr>
          <a:xfrm>
            <a:off x="252360" y="1125360"/>
            <a:ext cx="382752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211640" y="1773360"/>
            <a:ext cx="518472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的票房冠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奥斯卡最佳外语片提名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金球奖最佳电影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法国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800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多万人在电影院看过此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  <a:ea typeface="宋体"/>
              </a:rPr>
              <a:t>放牛班的春天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4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6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9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11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4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6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9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21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故事简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影片情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精彩对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生感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826920" y="4994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26920" y="4148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26920" y="329724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2692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故事简介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324000" y="2120760"/>
            <a:ext cx="3371400" cy="466560"/>
            <a:chOff x="324000" y="2120760"/>
            <a:chExt cx="3371400" cy="466560"/>
          </a:xfrm>
        </p:grpSpPr>
        <p:sp>
          <p:nvSpPr>
            <p:cNvPr id="139" name="AutoShape 6"/>
            <p:cNvSpPr/>
            <p:nvPr/>
          </p:nvSpPr>
          <p:spPr>
            <a:xfrm>
              <a:off x="324000" y="2120760"/>
              <a:ext cx="33714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58b9a"/>
                </a:gs>
                <a:gs pos="100000">
                  <a:srgbClr val="1bafc3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7"/>
            <p:cNvGrpSpPr/>
            <p:nvPr/>
          </p:nvGrpSpPr>
          <p:grpSpPr>
            <a:xfrm>
              <a:off x="3521880" y="2182680"/>
              <a:ext cx="165960" cy="341280"/>
              <a:chOff x="3521880" y="2182680"/>
              <a:chExt cx="165960" cy="34128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2188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9"/>
              <p:cNvSpPr/>
              <p:nvPr/>
            </p:nvSpPr>
            <p:spPr>
              <a:xfrm>
                <a:off x="364572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10"/>
            <p:cNvGrpSpPr/>
            <p:nvPr/>
          </p:nvGrpSpPr>
          <p:grpSpPr>
            <a:xfrm>
              <a:off x="349200" y="2182680"/>
              <a:ext cx="165960" cy="341280"/>
              <a:chOff x="349200" y="2182680"/>
              <a:chExt cx="165960" cy="34128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0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12"/>
              <p:cNvSpPr/>
              <p:nvPr/>
            </p:nvSpPr>
            <p:spPr>
              <a:xfrm>
                <a:off x="36936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13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95ec6"/>
                </a:gs>
                <a:gs pos="100000">
                  <a:srgbClr val="646ade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5"/>
            <p:cNvGrpSpPr/>
            <p:nvPr/>
          </p:nvGrpSpPr>
          <p:grpSpPr>
            <a:xfrm>
              <a:off x="8039880" y="2182680"/>
              <a:ext cx="140040" cy="341280"/>
              <a:chOff x="8039880" y="2182680"/>
              <a:chExt cx="140040" cy="34128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8"/>
            <p:cNvGrpSpPr/>
            <p:nvPr/>
          </p:nvGrpSpPr>
          <p:grpSpPr>
            <a:xfrm>
              <a:off x="5357880" y="2182680"/>
              <a:ext cx="140040" cy="341280"/>
              <a:chOff x="5357880" y="2182680"/>
              <a:chExt cx="140040" cy="34128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20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324000" y="2684520"/>
            <a:ext cx="33843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39640" y="220500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08720" y="32130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《放牛班的春天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(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原名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LesChoris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是由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hristophe Barratier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导演的电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0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3"/>
            <p:cNvSpPr/>
            <p:nvPr/>
          </p:nvSpPr>
          <p:spPr>
            <a:xfrm>
              <a:off x="5504400" y="290952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31"/>
          <p:cNvSpPr/>
          <p:nvPr/>
        </p:nvSpPr>
        <p:spPr>
          <a:xfrm>
            <a:off x="946080" y="2984400"/>
            <a:ext cx="261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324000" y="2781360"/>
            <a:ext cx="331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著名指挥家皮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ierre Morhang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贝汉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回法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出席母亲的葬礼，他的旧友送给他一本陈旧的日记，看着这本当年音乐启蒙老师克莱门特遗下的日记，皮埃尔慢慢细味着老师当年的心境，一幕幕童年的回忆也浮出自己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深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66" name="Picture 3" descr="100724145458c2795233bf3826"/>
          <p:cNvPicPr/>
          <p:nvPr/>
        </p:nvPicPr>
        <p:blipFill>
          <a:blip r:embed="rId1"/>
          <a:stretch/>
        </p:blipFill>
        <p:spPr>
          <a:xfrm>
            <a:off x="179280" y="1270080"/>
            <a:ext cx="4353120" cy="32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Img223677512"/>
          <p:cNvPicPr/>
          <p:nvPr/>
        </p:nvPicPr>
        <p:blipFill>
          <a:blip r:embed="rId2"/>
          <a:stretch/>
        </p:blipFill>
        <p:spPr>
          <a:xfrm>
            <a:off x="5364000" y="1270080"/>
            <a:ext cx="326088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79280" y="4870440"/>
            <a:ext cx="42498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莱门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马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Clement Mathie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杰拉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朱诺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性格沉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才华横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13440" y="4653000"/>
            <a:ext cx="2664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校的残暴校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弗朗索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贝尔兰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自私贪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刻薄威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71" name="Picture 3" descr="944b1d9139e9395b6f068cd0"/>
          <p:cNvPicPr/>
          <p:nvPr/>
        </p:nvPicPr>
        <p:blipFill>
          <a:blip r:embed="rId1"/>
          <a:stretch/>
        </p:blipFill>
        <p:spPr>
          <a:xfrm>
            <a:off x="108000" y="1197000"/>
            <a:ext cx="4932360" cy="5105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5148360" y="1917720"/>
            <a:ext cx="3746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著名指挥家皮埃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朗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erre Morh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佩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ean Baptiste Mauni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-33480" y="3502080"/>
            <a:ext cx="9141120" cy="142920"/>
            <a:chOff x="-33480" y="3502080"/>
            <a:chExt cx="9141120" cy="142920"/>
          </a:xfrm>
        </p:grpSpPr>
        <p:sp>
          <p:nvSpPr>
            <p:cNvPr id="175" name="Rectangle 3"/>
            <p:cNvSpPr/>
            <p:nvPr/>
          </p:nvSpPr>
          <p:spPr>
            <a:xfrm>
              <a:off x="-33480" y="3502080"/>
              <a:ext cx="914112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-33480" y="3578400"/>
              <a:ext cx="914112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6445080" y="2637000"/>
            <a:ext cx="2381040" cy="3832920"/>
            <a:chOff x="6445080" y="2637000"/>
            <a:chExt cx="2381040" cy="3832920"/>
          </a:xfrm>
        </p:grpSpPr>
        <p:grpSp>
          <p:nvGrpSpPr>
            <p:cNvPr id="178" name="Group 7"/>
            <p:cNvGrpSpPr/>
            <p:nvPr/>
          </p:nvGrpSpPr>
          <p:grpSpPr>
            <a:xfrm>
              <a:off x="7113240" y="3780720"/>
              <a:ext cx="1712880" cy="2689200"/>
              <a:chOff x="7113240" y="3780720"/>
              <a:chExt cx="1712880" cy="2689200"/>
            </a:xfrm>
          </p:grpSpPr>
          <p:grpSp>
            <p:nvGrpSpPr>
              <p:cNvPr id="179" name="Group 8"/>
              <p:cNvGrpSpPr/>
              <p:nvPr/>
            </p:nvGrpSpPr>
            <p:grpSpPr>
              <a:xfrm>
                <a:off x="7113240" y="3960360"/>
                <a:ext cx="1584000" cy="2509560"/>
                <a:chOff x="7113240" y="3960360"/>
                <a:chExt cx="1584000" cy="2509560"/>
              </a:xfrm>
            </p:grpSpPr>
            <p:sp>
              <p:nvSpPr>
                <p:cNvPr id="180" name="Freeform 8"/>
                <p:cNvSpPr/>
                <p:nvPr/>
              </p:nvSpPr>
              <p:spPr>
                <a:xfrm rot="3876600">
                  <a:off x="6649200" y="4934520"/>
                  <a:ext cx="2511720" cy="560880"/>
                </a:xfrm>
                <a:custGeom>
                  <a:avLst/>
                  <a:gdLst>
                    <a:gd name="textAreaLeft" fmla="*/ 0 w 2511720"/>
                    <a:gd name="textAreaRight" fmla="*/ 2512080 w 251172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9"/>
                <p:cNvSpPr/>
                <p:nvPr/>
              </p:nvSpPr>
              <p:spPr>
                <a:xfrm rot="3876600">
                  <a:off x="8159040" y="5906160"/>
                  <a:ext cx="394560" cy="4590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1"/>
              <p:cNvGrpSpPr/>
              <p:nvPr/>
            </p:nvGrpSpPr>
            <p:grpSpPr>
              <a:xfrm>
                <a:off x="7610760" y="3780720"/>
                <a:ext cx="1215360" cy="1925640"/>
                <a:chOff x="7610760" y="3780720"/>
                <a:chExt cx="1215360" cy="1925640"/>
              </a:xfrm>
            </p:grpSpPr>
            <p:sp>
              <p:nvSpPr>
                <p:cNvPr id="183" name="Freeform 11"/>
                <p:cNvSpPr/>
                <p:nvPr/>
              </p:nvSpPr>
              <p:spPr>
                <a:xfrm flipV="1" rot="3876600">
                  <a:off x="7254360" y="4528080"/>
                  <a:ext cx="1927440" cy="430200"/>
                </a:xfrm>
                <a:custGeom>
                  <a:avLst/>
                  <a:gdLst>
                    <a:gd name="textAreaLeft" fmla="*/ 0 w 1927440"/>
                    <a:gd name="textAreaRight" fmla="*/ 1927800 w 1927440"/>
                    <a:gd name="textAreaTop" fmla="*/ -360 h 430200"/>
                    <a:gd name="textAreaBottom" fmla="*/ 430200 h 430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2"/>
                <p:cNvSpPr/>
                <p:nvPr/>
              </p:nvSpPr>
              <p:spPr>
                <a:xfrm flipV="1" rot="3876600">
                  <a:off x="8395200" y="5281920"/>
                  <a:ext cx="302760" cy="35208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360 h 352080"/>
                    <a:gd name="textAreaBottom" fmla="*/ 352800 h 3520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Oval 13"/>
            <p:cNvSpPr/>
            <p:nvPr/>
          </p:nvSpPr>
          <p:spPr>
            <a:xfrm>
              <a:off x="6445080" y="263700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ffffff"/>
                </a:gs>
                <a:gs pos="100000">
                  <a:srgbClr val="1bafc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"/>
            <p:cNvSpPr/>
            <p:nvPr/>
          </p:nvSpPr>
          <p:spPr>
            <a:xfrm>
              <a:off x="6449760" y="264168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5"/>
            <p:cNvSpPr/>
            <p:nvPr/>
          </p:nvSpPr>
          <p:spPr>
            <a:xfrm>
              <a:off x="6540840" y="2750040"/>
              <a:ext cx="1510560" cy="150516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0f5f6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6"/>
            <p:cNvSpPr/>
            <p:nvPr/>
          </p:nvSpPr>
          <p:spPr>
            <a:xfrm>
              <a:off x="6535800" y="2741760"/>
              <a:ext cx="1510920" cy="15051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6615720" y="2826360"/>
              <a:ext cx="1360440" cy="135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9"/>
            <p:cNvGrpSpPr/>
            <p:nvPr/>
          </p:nvGrpSpPr>
          <p:grpSpPr>
            <a:xfrm>
              <a:off x="6646320" y="2846880"/>
              <a:ext cx="1319040" cy="1314000"/>
              <a:chOff x="6646320" y="2846880"/>
              <a:chExt cx="1319040" cy="1314000"/>
            </a:xfrm>
          </p:grpSpPr>
          <p:sp>
            <p:nvSpPr>
              <p:cNvPr id="191" name="Oval 19"/>
              <p:cNvSpPr/>
              <p:nvPr/>
            </p:nvSpPr>
            <p:spPr>
              <a:xfrm>
                <a:off x="6646320" y="2846880"/>
                <a:ext cx="1319040" cy="1314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0"/>
              <p:cNvSpPr/>
              <p:nvPr/>
            </p:nvSpPr>
            <p:spPr>
              <a:xfrm>
                <a:off x="6663240" y="2854080"/>
                <a:ext cx="1287360" cy="1281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1"/>
              <p:cNvSpPr/>
              <p:nvPr/>
            </p:nvSpPr>
            <p:spPr>
              <a:xfrm>
                <a:off x="6676560" y="2866680"/>
                <a:ext cx="1224000" cy="119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2"/>
              <p:cNvSpPr/>
              <p:nvPr/>
            </p:nvSpPr>
            <p:spPr>
              <a:xfrm>
                <a:off x="6748560" y="2900160"/>
                <a:ext cx="1088280" cy="9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3"/>
            <p:cNvSpPr/>
            <p:nvPr/>
          </p:nvSpPr>
          <p:spPr>
            <a:xfrm rot="3925800">
              <a:off x="7189560" y="49057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的离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 rot="3925800">
              <a:off x="7629840" y="4604760"/>
              <a:ext cx="1005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6"/>
          <p:cNvGrpSpPr/>
          <p:nvPr/>
        </p:nvGrpSpPr>
        <p:grpSpPr>
          <a:xfrm>
            <a:off x="4572000" y="2852640"/>
            <a:ext cx="2144880" cy="3506400"/>
            <a:chOff x="4572000" y="2852640"/>
            <a:chExt cx="2144880" cy="3506400"/>
          </a:xfrm>
        </p:grpSpPr>
        <p:grpSp>
          <p:nvGrpSpPr>
            <p:cNvPr id="198" name="Group 27"/>
            <p:cNvGrpSpPr/>
            <p:nvPr/>
          </p:nvGrpSpPr>
          <p:grpSpPr>
            <a:xfrm>
              <a:off x="5004720" y="3668760"/>
              <a:ext cx="1712160" cy="2690280"/>
              <a:chOff x="5004720" y="3668760"/>
              <a:chExt cx="1712160" cy="2690280"/>
            </a:xfrm>
          </p:grpSpPr>
          <p:grpSp>
            <p:nvGrpSpPr>
              <p:cNvPr id="199" name="Group 28"/>
              <p:cNvGrpSpPr/>
              <p:nvPr/>
            </p:nvGrpSpPr>
            <p:grpSpPr>
              <a:xfrm>
                <a:off x="5004720" y="3848760"/>
                <a:ext cx="1584000" cy="2510280"/>
                <a:chOff x="5004720" y="3848760"/>
                <a:chExt cx="1584000" cy="2510280"/>
              </a:xfrm>
            </p:grpSpPr>
            <p:sp>
              <p:nvSpPr>
                <p:cNvPr id="200" name="Freeform 28"/>
                <p:cNvSpPr/>
                <p:nvPr/>
              </p:nvSpPr>
              <p:spPr>
                <a:xfrm rot="3876600">
                  <a:off x="454032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9"/>
                <p:cNvSpPr/>
                <p:nvPr/>
              </p:nvSpPr>
              <p:spPr>
                <a:xfrm rot="3876600">
                  <a:off x="605052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1"/>
              <p:cNvGrpSpPr/>
              <p:nvPr/>
            </p:nvGrpSpPr>
            <p:grpSpPr>
              <a:xfrm>
                <a:off x="5501520" y="3668760"/>
                <a:ext cx="1215360" cy="1926360"/>
                <a:chOff x="5501520" y="3668760"/>
                <a:chExt cx="1215360" cy="1926360"/>
              </a:xfrm>
            </p:grpSpPr>
            <p:sp>
              <p:nvSpPr>
                <p:cNvPr id="203" name="Freeform 31"/>
                <p:cNvSpPr/>
                <p:nvPr/>
              </p:nvSpPr>
              <p:spPr>
                <a:xfrm flipV="1" rot="3876600">
                  <a:off x="514512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 flipV="1" rot="3876600">
                  <a:off x="628632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Text Box 33"/>
            <p:cNvSpPr/>
            <p:nvPr/>
          </p:nvSpPr>
          <p:spPr>
            <a:xfrm rot="3925800">
              <a:off x="5302080" y="4714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籁之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4"/>
            <p:cNvSpPr/>
            <p:nvPr/>
          </p:nvSpPr>
          <p:spPr>
            <a:xfrm rot="3925800">
              <a:off x="551376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5"/>
            <p:cNvSpPr/>
            <p:nvPr/>
          </p:nvSpPr>
          <p:spPr>
            <a:xfrm>
              <a:off x="4572000" y="285264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6"/>
            <p:cNvSpPr/>
            <p:nvPr/>
          </p:nvSpPr>
          <p:spPr>
            <a:xfrm>
              <a:off x="4572000" y="287640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7"/>
            <p:cNvSpPr/>
            <p:nvPr/>
          </p:nvSpPr>
          <p:spPr>
            <a:xfrm>
              <a:off x="4662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8"/>
            <p:cNvSpPr/>
            <p:nvPr/>
          </p:nvSpPr>
          <p:spPr>
            <a:xfrm>
              <a:off x="4648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9"/>
            <p:cNvSpPr/>
            <p:nvPr/>
          </p:nvSpPr>
          <p:spPr>
            <a:xfrm>
              <a:off x="4725000" y="301968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1"/>
            <p:cNvGrpSpPr/>
            <p:nvPr/>
          </p:nvGrpSpPr>
          <p:grpSpPr>
            <a:xfrm>
              <a:off x="4749120" y="3027600"/>
              <a:ext cx="1098000" cy="1110600"/>
              <a:chOff x="4749120" y="3027600"/>
              <a:chExt cx="1098000" cy="1110600"/>
            </a:xfrm>
          </p:grpSpPr>
          <p:sp>
            <p:nvSpPr>
              <p:cNvPr id="213" name="Oval 41"/>
              <p:cNvSpPr/>
              <p:nvPr/>
            </p:nvSpPr>
            <p:spPr>
              <a:xfrm>
                <a:off x="4749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2"/>
              <p:cNvSpPr/>
              <p:nvPr/>
            </p:nvSpPr>
            <p:spPr>
              <a:xfrm>
                <a:off x="4763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3"/>
              <p:cNvSpPr/>
              <p:nvPr/>
            </p:nvSpPr>
            <p:spPr>
              <a:xfrm>
                <a:off x="4774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4"/>
              <p:cNvSpPr/>
              <p:nvPr/>
            </p:nvSpPr>
            <p:spPr>
              <a:xfrm>
                <a:off x="4834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46"/>
          <p:cNvGrpSpPr/>
          <p:nvPr/>
        </p:nvGrpSpPr>
        <p:grpSpPr>
          <a:xfrm>
            <a:off x="2556000" y="2852640"/>
            <a:ext cx="2144520" cy="3506400"/>
            <a:chOff x="2556000" y="2852640"/>
            <a:chExt cx="2144520" cy="3506400"/>
          </a:xfrm>
        </p:grpSpPr>
        <p:grpSp>
          <p:nvGrpSpPr>
            <p:cNvPr id="218" name="Group 47"/>
            <p:cNvGrpSpPr/>
            <p:nvPr/>
          </p:nvGrpSpPr>
          <p:grpSpPr>
            <a:xfrm>
              <a:off x="2988360" y="3668760"/>
              <a:ext cx="1712160" cy="2690280"/>
              <a:chOff x="2988360" y="3668760"/>
              <a:chExt cx="1712160" cy="2690280"/>
            </a:xfrm>
          </p:grpSpPr>
          <p:grpSp>
            <p:nvGrpSpPr>
              <p:cNvPr id="219" name="Group 48"/>
              <p:cNvGrpSpPr/>
              <p:nvPr/>
            </p:nvGrpSpPr>
            <p:grpSpPr>
              <a:xfrm>
                <a:off x="2988360" y="3848760"/>
                <a:ext cx="1584000" cy="2510280"/>
                <a:chOff x="2988360" y="3848760"/>
                <a:chExt cx="1584000" cy="2510280"/>
              </a:xfrm>
            </p:grpSpPr>
            <p:sp>
              <p:nvSpPr>
                <p:cNvPr id="220" name="Freeform 49"/>
                <p:cNvSpPr/>
                <p:nvPr/>
              </p:nvSpPr>
              <p:spPr>
                <a:xfrm rot="3876600">
                  <a:off x="252396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0"/>
                <p:cNvSpPr/>
                <p:nvPr/>
              </p:nvSpPr>
              <p:spPr>
                <a:xfrm rot="3876600">
                  <a:off x="403416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51"/>
              <p:cNvGrpSpPr/>
              <p:nvPr/>
            </p:nvGrpSpPr>
            <p:grpSpPr>
              <a:xfrm>
                <a:off x="3485160" y="3668760"/>
                <a:ext cx="1215360" cy="1926360"/>
                <a:chOff x="3485160" y="3668760"/>
                <a:chExt cx="1215360" cy="1926360"/>
              </a:xfrm>
            </p:grpSpPr>
            <p:sp>
              <p:nvSpPr>
                <p:cNvPr id="223" name="Freeform 52"/>
                <p:cNvSpPr/>
                <p:nvPr/>
              </p:nvSpPr>
              <p:spPr>
                <a:xfrm flipV="1" rot="3876600">
                  <a:off x="312876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3"/>
                <p:cNvSpPr/>
                <p:nvPr/>
              </p:nvSpPr>
              <p:spPr>
                <a:xfrm flipV="1" rot="3876600">
                  <a:off x="426996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" name="Text Box 54"/>
            <p:cNvSpPr/>
            <p:nvPr/>
          </p:nvSpPr>
          <p:spPr>
            <a:xfrm rot="3925800">
              <a:off x="3209400" y="47142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组建合唱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5"/>
            <p:cNvSpPr/>
            <p:nvPr/>
          </p:nvSpPr>
          <p:spPr>
            <a:xfrm rot="3925800">
              <a:off x="349740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6"/>
            <p:cNvSpPr/>
            <p:nvPr/>
          </p:nvSpPr>
          <p:spPr>
            <a:xfrm>
              <a:off x="2556000" y="285264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7"/>
            <p:cNvSpPr/>
            <p:nvPr/>
          </p:nvSpPr>
          <p:spPr>
            <a:xfrm>
              <a:off x="2556000" y="287640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8"/>
            <p:cNvSpPr/>
            <p:nvPr/>
          </p:nvSpPr>
          <p:spPr>
            <a:xfrm>
              <a:off x="2646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59"/>
            <p:cNvSpPr/>
            <p:nvPr/>
          </p:nvSpPr>
          <p:spPr>
            <a:xfrm>
              <a:off x="2632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0"/>
            <p:cNvSpPr/>
            <p:nvPr/>
          </p:nvSpPr>
          <p:spPr>
            <a:xfrm>
              <a:off x="2709000" y="3019680"/>
              <a:ext cx="113292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61"/>
            <p:cNvGrpSpPr/>
            <p:nvPr/>
          </p:nvGrpSpPr>
          <p:grpSpPr>
            <a:xfrm>
              <a:off x="2733120" y="3027600"/>
              <a:ext cx="1098000" cy="1110600"/>
              <a:chOff x="2733120" y="3027600"/>
              <a:chExt cx="1098000" cy="1110600"/>
            </a:xfrm>
          </p:grpSpPr>
          <p:sp>
            <p:nvSpPr>
              <p:cNvPr id="233" name="Oval 62"/>
              <p:cNvSpPr/>
              <p:nvPr/>
            </p:nvSpPr>
            <p:spPr>
              <a:xfrm>
                <a:off x="2733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3"/>
              <p:cNvSpPr/>
              <p:nvPr/>
            </p:nvSpPr>
            <p:spPr>
              <a:xfrm>
                <a:off x="2747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4"/>
              <p:cNvSpPr/>
              <p:nvPr/>
            </p:nvSpPr>
            <p:spPr>
              <a:xfrm>
                <a:off x="2758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5"/>
              <p:cNvSpPr/>
              <p:nvPr/>
            </p:nvSpPr>
            <p:spPr>
              <a:xfrm>
                <a:off x="2818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6"/>
          <p:cNvGrpSpPr/>
          <p:nvPr/>
        </p:nvGrpSpPr>
        <p:grpSpPr>
          <a:xfrm>
            <a:off x="395280" y="2925720"/>
            <a:ext cx="2144880" cy="3506400"/>
            <a:chOff x="395280" y="2925720"/>
            <a:chExt cx="2144880" cy="3506400"/>
          </a:xfrm>
        </p:grpSpPr>
        <p:grpSp>
          <p:nvGrpSpPr>
            <p:cNvPr id="238" name="Group 67"/>
            <p:cNvGrpSpPr/>
            <p:nvPr/>
          </p:nvGrpSpPr>
          <p:grpSpPr>
            <a:xfrm>
              <a:off x="828000" y="3741840"/>
              <a:ext cx="1712160" cy="2690280"/>
              <a:chOff x="828000" y="3741840"/>
              <a:chExt cx="1712160" cy="2690280"/>
            </a:xfrm>
          </p:grpSpPr>
          <p:grpSp>
            <p:nvGrpSpPr>
              <p:cNvPr id="239" name="Group 68"/>
              <p:cNvGrpSpPr/>
              <p:nvPr/>
            </p:nvGrpSpPr>
            <p:grpSpPr>
              <a:xfrm>
                <a:off x="828000" y="3921840"/>
                <a:ext cx="1584000" cy="2510280"/>
                <a:chOff x="828000" y="3921840"/>
                <a:chExt cx="1584000" cy="2510280"/>
              </a:xfrm>
            </p:grpSpPr>
            <p:sp>
              <p:nvSpPr>
                <p:cNvPr id="240" name="Freeform 69"/>
                <p:cNvSpPr/>
                <p:nvPr/>
              </p:nvSpPr>
              <p:spPr>
                <a:xfrm rot="3876600">
                  <a:off x="363600" y="489636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0"/>
                <p:cNvSpPr/>
                <p:nvPr/>
              </p:nvSpPr>
              <p:spPr>
                <a:xfrm rot="3876600">
                  <a:off x="1873800" y="586836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71"/>
              <p:cNvGrpSpPr/>
              <p:nvPr/>
            </p:nvGrpSpPr>
            <p:grpSpPr>
              <a:xfrm>
                <a:off x="1324800" y="3741840"/>
                <a:ext cx="1215360" cy="1926360"/>
                <a:chOff x="1324800" y="3741840"/>
                <a:chExt cx="1215360" cy="1926360"/>
              </a:xfrm>
            </p:grpSpPr>
            <p:sp>
              <p:nvSpPr>
                <p:cNvPr id="243" name="Freeform 72"/>
                <p:cNvSpPr/>
                <p:nvPr/>
              </p:nvSpPr>
              <p:spPr>
                <a:xfrm flipV="1" rot="3876600">
                  <a:off x="968400" y="448920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73"/>
                <p:cNvSpPr/>
                <p:nvPr/>
              </p:nvSpPr>
              <p:spPr>
                <a:xfrm flipV="1" rot="3876600">
                  <a:off x="2109600" y="524376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" name="Text Box 74"/>
            <p:cNvSpPr/>
            <p:nvPr/>
          </p:nvSpPr>
          <p:spPr>
            <a:xfrm rot="3925800">
              <a:off x="896760" y="4787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到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5"/>
            <p:cNvSpPr/>
            <p:nvPr/>
          </p:nvSpPr>
          <p:spPr>
            <a:xfrm rot="3925800">
              <a:off x="1337040" y="448560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76"/>
            <p:cNvSpPr/>
            <p:nvPr/>
          </p:nvSpPr>
          <p:spPr>
            <a:xfrm>
              <a:off x="395280" y="292572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7"/>
            <p:cNvSpPr/>
            <p:nvPr/>
          </p:nvSpPr>
          <p:spPr>
            <a:xfrm>
              <a:off x="395280" y="294948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8"/>
            <p:cNvSpPr/>
            <p:nvPr/>
          </p:nvSpPr>
          <p:spPr>
            <a:xfrm>
              <a:off x="486000" y="302112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79"/>
            <p:cNvSpPr/>
            <p:nvPr/>
          </p:nvSpPr>
          <p:spPr>
            <a:xfrm>
              <a:off x="471960" y="303084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0"/>
            <p:cNvSpPr/>
            <p:nvPr/>
          </p:nvSpPr>
          <p:spPr>
            <a:xfrm>
              <a:off x="548280" y="309276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81"/>
            <p:cNvGrpSpPr/>
            <p:nvPr/>
          </p:nvGrpSpPr>
          <p:grpSpPr>
            <a:xfrm>
              <a:off x="572400" y="3100680"/>
              <a:ext cx="1098000" cy="1110600"/>
              <a:chOff x="572400" y="3100680"/>
              <a:chExt cx="1098000" cy="1110600"/>
            </a:xfrm>
          </p:grpSpPr>
          <p:sp>
            <p:nvSpPr>
              <p:cNvPr id="253" name="Oval 82"/>
              <p:cNvSpPr/>
              <p:nvPr/>
            </p:nvSpPr>
            <p:spPr>
              <a:xfrm>
                <a:off x="572400" y="310068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83"/>
              <p:cNvSpPr/>
              <p:nvPr/>
            </p:nvSpPr>
            <p:spPr>
              <a:xfrm>
                <a:off x="586440" y="310680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84"/>
              <p:cNvSpPr/>
              <p:nvPr/>
            </p:nvSpPr>
            <p:spPr>
              <a:xfrm>
                <a:off x="597600" y="311724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85"/>
              <p:cNvSpPr/>
              <p:nvPr/>
            </p:nvSpPr>
            <p:spPr>
              <a:xfrm>
                <a:off x="657360" y="314568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86"/>
          <p:cNvSpPr/>
          <p:nvPr/>
        </p:nvSpPr>
        <p:spPr>
          <a:xfrm>
            <a:off x="90180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7"/>
          <p:cNvSpPr/>
          <p:nvPr/>
        </p:nvSpPr>
        <p:spPr>
          <a:xfrm>
            <a:off x="298872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0"/>
          <p:cNvSpPr/>
          <p:nvPr/>
        </p:nvSpPr>
        <p:spPr>
          <a:xfrm>
            <a:off x="5078520" y="335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1"/>
          <p:cNvSpPr/>
          <p:nvPr/>
        </p:nvSpPr>
        <p:spPr>
          <a:xfrm>
            <a:off x="7021800" y="3213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324000" y="1052640"/>
            <a:ext cx="586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个爱与音乐交织的故事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把找回遗忘记忆的钥匙，一对勇敢追求梦想的翅膀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都从放牛班的那个春天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332000" y="1486080"/>
            <a:ext cx="1361160" cy="1321560"/>
            <a:chOff x="1332000" y="1486080"/>
            <a:chExt cx="1361160" cy="1321560"/>
          </a:xfrm>
        </p:grpSpPr>
        <p:sp>
          <p:nvSpPr>
            <p:cNvPr id="264" name="AutoShape 7"/>
            <p:cNvSpPr/>
            <p:nvPr/>
          </p:nvSpPr>
          <p:spPr>
            <a:xfrm>
              <a:off x="133200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141768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6"/>
          <p:cNvGrpSpPr/>
          <p:nvPr/>
        </p:nvGrpSpPr>
        <p:grpSpPr>
          <a:xfrm>
            <a:off x="3637080" y="1486080"/>
            <a:ext cx="1361160" cy="1321560"/>
            <a:chOff x="3637080" y="1486080"/>
            <a:chExt cx="1361160" cy="1321560"/>
          </a:xfrm>
        </p:grpSpPr>
        <p:sp>
          <p:nvSpPr>
            <p:cNvPr id="267" name="AutoShape 11"/>
            <p:cNvSpPr/>
            <p:nvPr/>
          </p:nvSpPr>
          <p:spPr>
            <a:xfrm>
              <a:off x="363708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372276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9"/>
          <p:cNvGrpSpPr/>
          <p:nvPr/>
        </p:nvGrpSpPr>
        <p:grpSpPr>
          <a:xfrm>
            <a:off x="5797440" y="1486080"/>
            <a:ext cx="1361520" cy="1321560"/>
            <a:chOff x="5797440" y="1486080"/>
            <a:chExt cx="1361520" cy="1321560"/>
          </a:xfrm>
        </p:grpSpPr>
        <p:sp>
          <p:nvSpPr>
            <p:cNvPr id="270" name="AutoShape 14"/>
            <p:cNvSpPr/>
            <p:nvPr/>
          </p:nvSpPr>
          <p:spPr>
            <a:xfrm>
              <a:off x="5797440" y="1486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5883120" y="15717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3"/>
          <p:cNvSpPr/>
          <p:nvPr/>
        </p:nvSpPr>
        <p:spPr>
          <a:xfrm>
            <a:off x="1908000" y="292572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4140360" y="28526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"/>
          <p:cNvSpPr/>
          <p:nvPr/>
        </p:nvSpPr>
        <p:spPr>
          <a:xfrm flipH="1">
            <a:off x="4932360" y="292572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900000" y="4221000"/>
            <a:ext cx="7021440" cy="1936800"/>
            <a:chOff x="900000" y="4221000"/>
            <a:chExt cx="7021440" cy="1936800"/>
          </a:xfrm>
        </p:grpSpPr>
        <p:sp>
          <p:nvSpPr>
            <p:cNvPr id="276" name="AutoShape 19"/>
            <p:cNvSpPr/>
            <p:nvPr/>
          </p:nvSpPr>
          <p:spPr>
            <a:xfrm>
              <a:off x="2373120" y="453528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2892240" y="4676760"/>
              <a:ext cx="470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专门为孩子们谱写的歌曲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纯净的音乐唤回了管教们冰冷已久的心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脱束缚孩子们身心的绳索，抚平他们受伤的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900000" y="42210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2"/>
            <p:cNvSpPr/>
            <p:nvPr/>
          </p:nvSpPr>
          <p:spPr>
            <a:xfrm>
              <a:off x="1207800" y="4870440"/>
              <a:ext cx="128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1477800" y="1758960"/>
            <a:ext cx="9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校长的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3637080" y="1701720"/>
            <a:ext cx="11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管教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724360" y="1628640"/>
            <a:ext cx="1473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ff"/>
                </a:solidFill>
                <a:latin typeface="Arial"/>
                <a:ea typeface="宋体"/>
              </a:rPr>
              <a:t>孩子们的无法无天和可怜无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cp:keywords/>
  <dc:language>en-US</dc:language>
  <cp:lastModifiedBy>admin</cp:lastModifiedBy>
  <cp:lastPrinted>1899-12-30T00:00:00Z</cp:lastPrinted>
  <dcterms:modified xsi:type="dcterms:W3CDTF">2015-04-07T00:58:01Z</dcterms:modified>
  <cp:revision>4</cp:revision>
  <dc:subject/>
  <dc:title>放牛班的春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