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3699-F1BE-4FF2-8BC4-5DF17AF185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19D-2D76-4B2E-B9ED-10A8ABEDAEA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27E21-5091-4BEB-897D-4A945614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5FF76-06D5-4A5C-8FF8-3262B476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205DA-2564-4961-B7D7-B53FD4FC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295F-11A2-413C-8F3D-911C7A18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6B483-23E9-45D8-B076-6D08DA85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EA7EA-E4A5-4188-A62D-43C1E699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3CFE8-BA83-43B3-A121-4DEBF0EF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6B0F9-3B29-479A-8C49-4EEDF8E9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1E790-8CB8-490E-BBBB-8A615314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96F79-9E4B-4FCA-9A9C-56F08187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EFA97-01D8-4FCA-B154-64D8053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B17D-846F-4D1E-B997-93A3AAE9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E2D27-0FF7-495A-BCC6-19BBDD22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6D7FB-0131-4767-BBF6-7B6D4DC8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8EB44-E696-497E-AA30-F204BCA4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15CBB-E3E0-4583-9DF9-16B4DD2C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3848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2400" y="121896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56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3848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2400" y="3885840"/>
            <a:ext cx="26985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A13FA-F3FC-4105-ABC3-CA1D81E0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D704-D240-412E-B433-26BE7134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4B098-B2F3-430D-8C1B-4DA909B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579D-D259-4FC8-AC75-F4209F37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7720" y="350640"/>
            <a:ext cx="723924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6C4EE-A669-4124-A9CA-94501EC4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0C22-F3BB-4825-BD97-1B6F595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9720" y="388584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11B8-8A43-4B54-AABB-2AAADD42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341640"/>
            <a:ext cx="7239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9720" y="121896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885840"/>
            <a:ext cx="8381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4C5CF-093D-4AC6-BFDB-A9CAAFD6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2" descr="图片1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494E-E6B4-485F-AA76-B01689E5CC8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3" descr="图片2"/>
          <p:cNvPicPr/>
          <p:nvPr/>
        </p:nvPicPr>
        <p:blipFill>
          <a:blip r:embed="rId2"/>
          <a:stretch/>
        </p:blipFill>
        <p:spPr>
          <a:xfrm>
            <a:off x="-291960" y="-216000"/>
            <a:ext cx="9740880" cy="73026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8" descr="5.png"/>
          <p:cNvPicPr/>
          <p:nvPr/>
        </p:nvPicPr>
        <p:blipFill>
          <a:blip r:embed="rId3"/>
          <a:stretch/>
        </p:blipFill>
        <p:spPr>
          <a:xfrm>
            <a:off x="-3208320" y="1285920"/>
            <a:ext cx="122076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5.png"/>
          <p:cNvPicPr/>
          <p:nvPr/>
        </p:nvPicPr>
        <p:blipFill>
          <a:blip r:embed="rId4"/>
          <a:stretch/>
        </p:blipFill>
        <p:spPr>
          <a:xfrm>
            <a:off x="-1916280" y="1500120"/>
            <a:ext cx="1714680" cy="8128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5.png"/>
          <p:cNvPicPr/>
          <p:nvPr/>
        </p:nvPicPr>
        <p:blipFill>
          <a:blip r:embed="rId5"/>
          <a:stretch/>
        </p:blipFill>
        <p:spPr>
          <a:xfrm>
            <a:off x="-1987560" y="857160"/>
            <a:ext cx="720720" cy="571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1944e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8C22-C9D4-4374-AE6A-73DFEB48C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88000" y="765000"/>
            <a:ext cx="93528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放牛班的春天</a:t>
            </a:r>
            <a:endParaRPr b="1" lang="en-US" sz="5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453440" y="2781000"/>
            <a:ext cx="784080" cy="403236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感 悟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音乐的魅力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84" name="Picture 3" descr="0003"/>
          <p:cNvPicPr/>
          <p:nvPr/>
        </p:nvPicPr>
        <p:blipFill>
          <a:blip r:embed="rId1"/>
          <a:stretch/>
        </p:blipFill>
        <p:spPr>
          <a:xfrm>
            <a:off x="-177840" y="1270080"/>
            <a:ext cx="4656240" cy="3670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6458177469_l"/>
          <p:cNvPicPr/>
          <p:nvPr/>
        </p:nvPicPr>
        <p:blipFill>
          <a:blip r:embed="rId2"/>
          <a:stretch/>
        </p:blipFill>
        <p:spPr>
          <a:xfrm>
            <a:off x="4429080" y="1270080"/>
            <a:ext cx="4680000" cy="3684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-320760" y="5149800"/>
            <a:ext cx="928548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神圣而纯净的音乐不但净化了孩子们的心灵，更对他们今后的人生道路产生了重大的影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影片情节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童声合唱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-249120" y="-168120"/>
            <a:ext cx="8829720" cy="72151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3"/>
          <p:cNvSpPr/>
          <p:nvPr/>
        </p:nvSpPr>
        <p:spPr>
          <a:xfrm>
            <a:off x="8313120" y="-600120"/>
            <a:ext cx="911880" cy="712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音乐拯救了迷失在泥潭中的皮埃尔和他的同学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71640" y="-95760"/>
            <a:ext cx="7238880" cy="55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291" name="Picture 3" descr="34bbf8cd0646cc420eb34547"/>
          <p:cNvPicPr/>
          <p:nvPr/>
        </p:nvPicPr>
        <p:blipFill>
          <a:blip r:embed="rId1"/>
          <a:stretch/>
        </p:blipFill>
        <p:spPr>
          <a:xfrm>
            <a:off x="179280" y="836640"/>
            <a:ext cx="4362480" cy="64245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c28fddfd216a4809d6887d93"/>
          <p:cNvPicPr/>
          <p:nvPr/>
        </p:nvPicPr>
        <p:blipFill>
          <a:blip r:embed="rId2"/>
          <a:stretch/>
        </p:blipFill>
        <p:spPr>
          <a:xfrm>
            <a:off x="4500720" y="836640"/>
            <a:ext cx="4552920" cy="64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8720" y="188640"/>
            <a:ext cx="72388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精彩对比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1125360"/>
            <a:ext cx="83534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黄石的孩子》被称为中国版的《放牛班的春天》，《黄石的孩子》的何克和《放牛班的春天》的克莱门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修都是拯救孩子们的天使。相近的年代，不同的国度，迥异的背景，却表达了一个相同的主题：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春风化雨的教育融化了一群受伤孩子日渐冰封的心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果说《黄石的孩子》犹如一阵雷雨，刹那间有着极强的震撼力，那么《放牛班的春天》就是连绵不绝春雨，虽然仅仅是淅淅沥沥似乎有些微弱，但却那样持久地搅动人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1125360"/>
            <a:ext cx="763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放牛班的春天在片子结尾姗姗来迟，但我们在影片中途就已经感觉到了暖意，顽劣的学生开始唱歌，刻薄的校长不再可怕，童心开始绽放光芒，少年开始直视这个世界。生活将会很美好，孩子们将来会走向各种岗位。他们将会散布到世界上任何一个角落，活得精彩。生活将是一盒甜美的巧克力，你永远不知道下一个是什么味道，但我们也已感受到了，永远不要轻易放弃希望，因为，一个生命的存在便是最大的希望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人生感悟</a:t>
            </a:r>
            <a:endParaRPr b="1" lang="en-US" sz="36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1341360"/>
            <a:ext cx="8137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这部影片在告诉我们：这样的寄宿学校到处都有，有这样的问题孩子到处都是，但是这样的学校里可能更多的是对问题学生天生厌恶的老师，而很少有马修出现。所以我们会感动，我们会被《放牛班的春天》感动，因为他给了一个现实中不容易得到的感动，让我们在现实中失落的心灵在观赏影片时得以抚慰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电影是浪漫的，是理想化的，但却是受欢迎的，也是必需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16360" y="765000"/>
            <a:ext cx="934920" cy="48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1" lang="en-US" sz="4800" spc="-1" strike="noStrike">
              <a:solidFill>
                <a:srgbClr val="51944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小组成员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7360" y="1269720"/>
            <a:ext cx="41036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冀鹏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董勋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卲其雷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张东波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王怀亮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高凤旭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潘海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郑俊杰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2009042412260389"/>
          <p:cNvPicPr/>
          <p:nvPr/>
        </p:nvPicPr>
        <p:blipFill>
          <a:blip r:embed="rId1"/>
          <a:stretch/>
        </p:blipFill>
        <p:spPr>
          <a:xfrm>
            <a:off x="2268360" y="1341360"/>
            <a:ext cx="60804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放牛班春天的电影剧照</a:t>
            </a:r>
            <a:endParaRPr b="1" lang="en-US" sz="40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00" name="Picture 3" descr="5236149608_l"/>
          <p:cNvPicPr/>
          <p:nvPr/>
        </p:nvPicPr>
        <p:blipFill>
          <a:blip r:embed="rId1"/>
          <a:stretch/>
        </p:blipFill>
        <p:spPr>
          <a:xfrm>
            <a:off x="252360" y="1125360"/>
            <a:ext cx="3827520" cy="5105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4211640" y="1773360"/>
            <a:ext cx="5184720" cy="320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的票房冠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4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奥斯卡最佳外语片提名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</a:rPr>
              <a:t>法国金球奖最佳电影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法国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800</a:t>
            </a:r>
            <a:r>
              <a:rPr b="0" lang="zh-CN" sz="2400" spc="-1" strike="noStrike">
                <a:solidFill>
                  <a:srgbClr val="990033"/>
                </a:solidFill>
                <a:latin typeface="Arial"/>
                <a:ea typeface="宋体"/>
              </a:rPr>
              <a:t>多万人在电影院看过此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238880" cy="5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Verdana"/>
                <a:ea typeface="宋体"/>
              </a:rPr>
              <a:t>放牛班的春天</a:t>
            </a:r>
            <a:endParaRPr b="1" lang="en-US" sz="44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0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9a1b4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0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0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8bf1d"/>
                </a:gs>
                <a:gs pos="50000">
                  <a:srgbClr val="8cb01b"/>
                </a:gs>
                <a:gs pos="100000">
                  <a:srgbClr val="98bf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1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8bf1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8bf1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1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59b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1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1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c62cd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2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故事简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影片情节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精彩对比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人生感悟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826920" y="4994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26920" y="414828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26920" y="329724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26920" y="2440080"/>
            <a:ext cx="79236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故事简介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646a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4c6f2"/>
              </a:gs>
              <a:gs pos="100000">
                <a:srgbClr val="646ade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324000" y="2120760"/>
            <a:ext cx="3371400" cy="466560"/>
            <a:chOff x="324000" y="2120760"/>
            <a:chExt cx="3371400" cy="466560"/>
          </a:xfrm>
        </p:grpSpPr>
        <p:sp>
          <p:nvSpPr>
            <p:cNvPr id="139" name="AutoShape 6"/>
            <p:cNvSpPr/>
            <p:nvPr/>
          </p:nvSpPr>
          <p:spPr>
            <a:xfrm>
              <a:off x="324000" y="2120760"/>
              <a:ext cx="337140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58b9a"/>
                </a:gs>
                <a:gs pos="100000">
                  <a:srgbClr val="1bafc3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7"/>
            <p:cNvGrpSpPr/>
            <p:nvPr/>
          </p:nvGrpSpPr>
          <p:grpSpPr>
            <a:xfrm>
              <a:off x="3521880" y="2182680"/>
              <a:ext cx="165960" cy="341280"/>
              <a:chOff x="3521880" y="2182680"/>
              <a:chExt cx="165960" cy="341280"/>
            </a:xfrm>
          </p:grpSpPr>
          <p:pic>
            <p:nvPicPr>
              <p:cNvPr id="141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2188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Text Box 9"/>
              <p:cNvSpPr/>
              <p:nvPr/>
            </p:nvSpPr>
            <p:spPr>
              <a:xfrm>
                <a:off x="364572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10"/>
            <p:cNvGrpSpPr/>
            <p:nvPr/>
          </p:nvGrpSpPr>
          <p:grpSpPr>
            <a:xfrm>
              <a:off x="349200" y="2182680"/>
              <a:ext cx="165960" cy="341280"/>
              <a:chOff x="349200" y="2182680"/>
              <a:chExt cx="165960" cy="341280"/>
            </a:xfrm>
          </p:grpSpPr>
          <p:pic>
            <p:nvPicPr>
              <p:cNvPr id="144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49200" y="2182680"/>
                <a:ext cx="1659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Text Box 12"/>
              <p:cNvSpPr/>
              <p:nvPr/>
            </p:nvSpPr>
            <p:spPr>
              <a:xfrm>
                <a:off x="369360" y="2295720"/>
                <a:ext cx="2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3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47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95ec6"/>
                </a:gs>
                <a:gs pos="100000">
                  <a:srgbClr val="646ade"/>
                </a:gs>
              </a:gsLst>
              <a:lin ang="0"/>
            </a:gradFill>
            <a:ln w="12600">
              <a:solidFill>
                <a:srgbClr val="646ade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5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49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7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8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52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Text Box 20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AutoShape 13"/>
          <p:cNvSpPr/>
          <p:nvPr/>
        </p:nvSpPr>
        <p:spPr>
          <a:xfrm>
            <a:off x="324000" y="2684520"/>
            <a:ext cx="33843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1baf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39640" y="220500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8f8f8"/>
                </a:solidFill>
                <a:latin typeface="Arial"/>
                <a:ea typeface="宋体"/>
              </a:rPr>
              <a:t>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5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1bafc3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5508720" y="321300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《放牛班的春天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(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原名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LesChoris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是由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Christophe Barratier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导演的电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26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60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3"/>
            <p:cNvSpPr/>
            <p:nvPr/>
          </p:nvSpPr>
          <p:spPr>
            <a:xfrm>
              <a:off x="5504400" y="2909520"/>
              <a:ext cx="140040" cy="140040"/>
            </a:xfrm>
            <a:prstGeom prst="ellipse">
              <a:avLst/>
            </a:prstGeom>
            <a:gradFill rotWithShape="0">
              <a:gsLst>
                <a:gs pos="0">
                  <a:srgbClr val="646ade"/>
                </a:gs>
                <a:gs pos="100000">
                  <a:srgbClr val="9da0e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31"/>
          <p:cNvSpPr/>
          <p:nvPr/>
        </p:nvSpPr>
        <p:spPr>
          <a:xfrm>
            <a:off x="946080" y="2984400"/>
            <a:ext cx="26193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10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46ade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324000" y="2781360"/>
            <a:ext cx="33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世界著名指挥家皮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安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ierre Morhang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贝汉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回法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故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出席母亲的葬礼，他的旧友送给他一本陈旧的日记，看着这本当年音乐启蒙老师克莱门特遗下的日记，皮埃尔慢慢细味着老师当年的心境，一幕幕童年的回忆也浮出自己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深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66" name="Picture 3" descr="100724145458c2795233bf3826"/>
          <p:cNvPicPr/>
          <p:nvPr/>
        </p:nvPicPr>
        <p:blipFill>
          <a:blip r:embed="rId1"/>
          <a:stretch/>
        </p:blipFill>
        <p:spPr>
          <a:xfrm>
            <a:off x="179280" y="1270080"/>
            <a:ext cx="4353120" cy="3260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Img223677512"/>
          <p:cNvPicPr/>
          <p:nvPr/>
        </p:nvPicPr>
        <p:blipFill>
          <a:blip r:embed="rId2"/>
          <a:stretch/>
        </p:blipFill>
        <p:spPr>
          <a:xfrm>
            <a:off x="5364000" y="1270080"/>
            <a:ext cx="3260880" cy="3260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179280" y="4870440"/>
            <a:ext cx="42498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莱门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修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Clement Mathieu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杰拉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朱诺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性格沉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才华横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013440" y="4653000"/>
            <a:ext cx="266400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学校的残暴校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弗朗索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贝尔兰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自私贪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刻薄威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7181f"/>
                </a:solidFill>
                <a:latin typeface="Verdana"/>
              </a:rPr>
              <a:t>故事简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主要人物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pic>
        <p:nvPicPr>
          <p:cNvPr id="171" name="Picture 3" descr="944b1d9139e9395b6f068cd0"/>
          <p:cNvPicPr/>
          <p:nvPr/>
        </p:nvPicPr>
        <p:blipFill>
          <a:blip r:embed="rId1"/>
          <a:stretch/>
        </p:blipFill>
        <p:spPr>
          <a:xfrm>
            <a:off x="108000" y="1197000"/>
            <a:ext cx="4932360" cy="51055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5148360" y="1917720"/>
            <a:ext cx="37465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界著名指挥家皮埃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莫朗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erre Morh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雅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佩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ean Baptiste Mauni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  <a:ea typeface="宋体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-33480" y="3502080"/>
            <a:ext cx="9141120" cy="142920"/>
            <a:chOff x="-33480" y="3502080"/>
            <a:chExt cx="9141120" cy="142920"/>
          </a:xfrm>
        </p:grpSpPr>
        <p:sp>
          <p:nvSpPr>
            <p:cNvPr id="175" name="Rectangle 3"/>
            <p:cNvSpPr/>
            <p:nvPr/>
          </p:nvSpPr>
          <p:spPr>
            <a:xfrm>
              <a:off x="-33480" y="3502080"/>
              <a:ext cx="9141120" cy="1429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b6b6b6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-33480" y="3578400"/>
              <a:ext cx="9141120" cy="540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6"/>
          <p:cNvGrpSpPr/>
          <p:nvPr/>
        </p:nvGrpSpPr>
        <p:grpSpPr>
          <a:xfrm>
            <a:off x="6445080" y="2637000"/>
            <a:ext cx="2381040" cy="3832920"/>
            <a:chOff x="6445080" y="2637000"/>
            <a:chExt cx="2381040" cy="3832920"/>
          </a:xfrm>
        </p:grpSpPr>
        <p:grpSp>
          <p:nvGrpSpPr>
            <p:cNvPr id="178" name="Group 7"/>
            <p:cNvGrpSpPr/>
            <p:nvPr/>
          </p:nvGrpSpPr>
          <p:grpSpPr>
            <a:xfrm>
              <a:off x="7113240" y="3780720"/>
              <a:ext cx="1712880" cy="2689200"/>
              <a:chOff x="7113240" y="3780720"/>
              <a:chExt cx="1712880" cy="2689200"/>
            </a:xfrm>
          </p:grpSpPr>
          <p:grpSp>
            <p:nvGrpSpPr>
              <p:cNvPr id="179" name="Group 8"/>
              <p:cNvGrpSpPr/>
              <p:nvPr/>
            </p:nvGrpSpPr>
            <p:grpSpPr>
              <a:xfrm>
                <a:off x="7113240" y="3960360"/>
                <a:ext cx="1584000" cy="2509560"/>
                <a:chOff x="7113240" y="3960360"/>
                <a:chExt cx="1584000" cy="2509560"/>
              </a:xfrm>
            </p:grpSpPr>
            <p:sp>
              <p:nvSpPr>
                <p:cNvPr id="180" name="Freeform 8"/>
                <p:cNvSpPr/>
                <p:nvPr/>
              </p:nvSpPr>
              <p:spPr>
                <a:xfrm rot="3876600">
                  <a:off x="6649200" y="4934520"/>
                  <a:ext cx="2511720" cy="560880"/>
                </a:xfrm>
                <a:custGeom>
                  <a:avLst/>
                  <a:gdLst>
                    <a:gd name="textAreaLeft" fmla="*/ 0 w 2511720"/>
                    <a:gd name="textAreaRight" fmla="*/ 2512080 w 2511720"/>
                    <a:gd name="textAreaTop" fmla="*/ 0 h 560880"/>
                    <a:gd name="textAreaBottom" fmla="*/ 561240 h 56088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1baf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9"/>
                <p:cNvSpPr/>
                <p:nvPr/>
              </p:nvSpPr>
              <p:spPr>
                <a:xfrm rot="3876600">
                  <a:off x="8159040" y="5906160"/>
                  <a:ext cx="394560" cy="4590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459000"/>
                    <a:gd name="textAreaBottom" fmla="*/ 459360 h 45900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1"/>
              <p:cNvGrpSpPr/>
              <p:nvPr/>
            </p:nvGrpSpPr>
            <p:grpSpPr>
              <a:xfrm>
                <a:off x="7610760" y="3780720"/>
                <a:ext cx="1215360" cy="1925640"/>
                <a:chOff x="7610760" y="3780720"/>
                <a:chExt cx="1215360" cy="1925640"/>
              </a:xfrm>
            </p:grpSpPr>
            <p:sp>
              <p:nvSpPr>
                <p:cNvPr id="183" name="Freeform 11"/>
                <p:cNvSpPr/>
                <p:nvPr/>
              </p:nvSpPr>
              <p:spPr>
                <a:xfrm flipV="1" rot="3876600">
                  <a:off x="7254360" y="4528080"/>
                  <a:ext cx="1927440" cy="430200"/>
                </a:xfrm>
                <a:custGeom>
                  <a:avLst/>
                  <a:gdLst>
                    <a:gd name="textAreaLeft" fmla="*/ 0 w 1927440"/>
                    <a:gd name="textAreaRight" fmla="*/ 1927800 w 1927440"/>
                    <a:gd name="textAreaTop" fmla="*/ -360 h 430200"/>
                    <a:gd name="textAreaBottom" fmla="*/ 430200 h 43020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1bafc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2"/>
                <p:cNvSpPr/>
                <p:nvPr/>
              </p:nvSpPr>
              <p:spPr>
                <a:xfrm flipV="1" rot="3876600">
                  <a:off x="8395200" y="5281920"/>
                  <a:ext cx="302760" cy="35208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360 h 352080"/>
                    <a:gd name="textAreaBottom" fmla="*/ 352800 h 35208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Oval 13"/>
            <p:cNvSpPr/>
            <p:nvPr/>
          </p:nvSpPr>
          <p:spPr>
            <a:xfrm>
              <a:off x="6445080" y="263700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ffffff"/>
                </a:gs>
                <a:gs pos="100000">
                  <a:srgbClr val="1bafc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4"/>
            <p:cNvSpPr/>
            <p:nvPr/>
          </p:nvSpPr>
          <p:spPr>
            <a:xfrm>
              <a:off x="6449760" y="2641680"/>
              <a:ext cx="1740960" cy="1733040"/>
            </a:xfrm>
            <a:prstGeom prst="ellipse">
              <a:avLst/>
            </a:prstGeom>
            <a:gradFill rotWithShape="0">
              <a:gsLst>
                <a:gs pos="0">
                  <a:srgbClr val="1bafc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5"/>
            <p:cNvSpPr/>
            <p:nvPr/>
          </p:nvSpPr>
          <p:spPr>
            <a:xfrm>
              <a:off x="6540840" y="2750040"/>
              <a:ext cx="1510560" cy="1505160"/>
            </a:xfrm>
            <a:prstGeom prst="ellipse">
              <a:avLst/>
            </a:prstGeom>
            <a:gradFill rotWithShape="0">
              <a:gsLst>
                <a:gs pos="0">
                  <a:srgbClr val="1bafc3"/>
                </a:gs>
                <a:gs pos="50000">
                  <a:srgbClr val="0f5f6a"/>
                </a:gs>
                <a:gs pos="100000">
                  <a:srgbClr val="1bafc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6"/>
            <p:cNvSpPr/>
            <p:nvPr/>
          </p:nvSpPr>
          <p:spPr>
            <a:xfrm>
              <a:off x="6535800" y="2741760"/>
              <a:ext cx="1510920" cy="1505160"/>
            </a:xfrm>
            <a:prstGeom prst="ellipse">
              <a:avLst/>
            </a:prstGeom>
            <a:gradFill rotWithShape="0">
              <a:gsLst>
                <a:gs pos="0">
                  <a:srgbClr val="116f7c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7"/>
            <p:cNvSpPr/>
            <p:nvPr/>
          </p:nvSpPr>
          <p:spPr>
            <a:xfrm>
              <a:off x="6615720" y="2826360"/>
              <a:ext cx="1360440" cy="1353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9"/>
            <p:cNvGrpSpPr/>
            <p:nvPr/>
          </p:nvGrpSpPr>
          <p:grpSpPr>
            <a:xfrm>
              <a:off x="6646320" y="2846880"/>
              <a:ext cx="1319040" cy="1314000"/>
              <a:chOff x="6646320" y="2846880"/>
              <a:chExt cx="1319040" cy="1314000"/>
            </a:xfrm>
          </p:grpSpPr>
          <p:sp>
            <p:nvSpPr>
              <p:cNvPr id="191" name="Oval 19"/>
              <p:cNvSpPr/>
              <p:nvPr/>
            </p:nvSpPr>
            <p:spPr>
              <a:xfrm>
                <a:off x="6646320" y="2846880"/>
                <a:ext cx="1319040" cy="1314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20"/>
              <p:cNvSpPr/>
              <p:nvPr/>
            </p:nvSpPr>
            <p:spPr>
              <a:xfrm>
                <a:off x="6663240" y="2854080"/>
                <a:ext cx="1287360" cy="1281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21"/>
              <p:cNvSpPr/>
              <p:nvPr/>
            </p:nvSpPr>
            <p:spPr>
              <a:xfrm>
                <a:off x="6676560" y="2866680"/>
                <a:ext cx="1224000" cy="1197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2"/>
              <p:cNvSpPr/>
              <p:nvPr/>
            </p:nvSpPr>
            <p:spPr>
              <a:xfrm>
                <a:off x="6748560" y="2900160"/>
                <a:ext cx="1088280" cy="9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3"/>
            <p:cNvSpPr/>
            <p:nvPr/>
          </p:nvSpPr>
          <p:spPr>
            <a:xfrm rot="3925800">
              <a:off x="7189560" y="49057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的离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4"/>
            <p:cNvSpPr/>
            <p:nvPr/>
          </p:nvSpPr>
          <p:spPr>
            <a:xfrm rot="3925800">
              <a:off x="7629840" y="4604760"/>
              <a:ext cx="100512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26"/>
          <p:cNvGrpSpPr/>
          <p:nvPr/>
        </p:nvGrpSpPr>
        <p:grpSpPr>
          <a:xfrm>
            <a:off x="4572000" y="2852640"/>
            <a:ext cx="2144880" cy="3506400"/>
            <a:chOff x="4572000" y="2852640"/>
            <a:chExt cx="2144880" cy="3506400"/>
          </a:xfrm>
        </p:grpSpPr>
        <p:grpSp>
          <p:nvGrpSpPr>
            <p:cNvPr id="198" name="Group 27"/>
            <p:cNvGrpSpPr/>
            <p:nvPr/>
          </p:nvGrpSpPr>
          <p:grpSpPr>
            <a:xfrm>
              <a:off x="5004720" y="3668760"/>
              <a:ext cx="1712160" cy="2690280"/>
              <a:chOff x="5004720" y="3668760"/>
              <a:chExt cx="1712160" cy="2690280"/>
            </a:xfrm>
          </p:grpSpPr>
          <p:grpSp>
            <p:nvGrpSpPr>
              <p:cNvPr id="199" name="Group 28"/>
              <p:cNvGrpSpPr/>
              <p:nvPr/>
            </p:nvGrpSpPr>
            <p:grpSpPr>
              <a:xfrm>
                <a:off x="5004720" y="3848760"/>
                <a:ext cx="1584000" cy="2510280"/>
                <a:chOff x="5004720" y="3848760"/>
                <a:chExt cx="1584000" cy="2510280"/>
              </a:xfrm>
            </p:grpSpPr>
            <p:sp>
              <p:nvSpPr>
                <p:cNvPr id="200" name="Freeform 28"/>
                <p:cNvSpPr/>
                <p:nvPr/>
              </p:nvSpPr>
              <p:spPr>
                <a:xfrm rot="3876600">
                  <a:off x="454032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9"/>
                <p:cNvSpPr/>
                <p:nvPr/>
              </p:nvSpPr>
              <p:spPr>
                <a:xfrm rot="3876600">
                  <a:off x="605052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31"/>
              <p:cNvGrpSpPr/>
              <p:nvPr/>
            </p:nvGrpSpPr>
            <p:grpSpPr>
              <a:xfrm>
                <a:off x="5501520" y="3668760"/>
                <a:ext cx="1215360" cy="1926360"/>
                <a:chOff x="5501520" y="3668760"/>
                <a:chExt cx="1215360" cy="1926360"/>
              </a:xfrm>
            </p:grpSpPr>
            <p:sp>
              <p:nvSpPr>
                <p:cNvPr id="203" name="Freeform 31"/>
                <p:cNvSpPr/>
                <p:nvPr/>
              </p:nvSpPr>
              <p:spPr>
                <a:xfrm flipV="1" rot="3876600">
                  <a:off x="514512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2"/>
                <p:cNvSpPr/>
                <p:nvPr/>
              </p:nvSpPr>
              <p:spPr>
                <a:xfrm flipV="1" rot="3876600">
                  <a:off x="628632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" name="Text Box 33"/>
            <p:cNvSpPr/>
            <p:nvPr/>
          </p:nvSpPr>
          <p:spPr>
            <a:xfrm rot="3925800">
              <a:off x="5302080" y="47142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天籁之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34"/>
            <p:cNvSpPr/>
            <p:nvPr/>
          </p:nvSpPr>
          <p:spPr>
            <a:xfrm rot="3925800">
              <a:off x="551376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5"/>
            <p:cNvSpPr/>
            <p:nvPr/>
          </p:nvSpPr>
          <p:spPr>
            <a:xfrm>
              <a:off x="4572000" y="285264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36"/>
            <p:cNvSpPr/>
            <p:nvPr/>
          </p:nvSpPr>
          <p:spPr>
            <a:xfrm>
              <a:off x="4572000" y="287640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7"/>
            <p:cNvSpPr/>
            <p:nvPr/>
          </p:nvSpPr>
          <p:spPr>
            <a:xfrm>
              <a:off x="4662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38"/>
            <p:cNvSpPr/>
            <p:nvPr/>
          </p:nvSpPr>
          <p:spPr>
            <a:xfrm>
              <a:off x="4648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39"/>
            <p:cNvSpPr/>
            <p:nvPr/>
          </p:nvSpPr>
          <p:spPr>
            <a:xfrm>
              <a:off x="4725000" y="301968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1"/>
            <p:cNvGrpSpPr/>
            <p:nvPr/>
          </p:nvGrpSpPr>
          <p:grpSpPr>
            <a:xfrm>
              <a:off x="4749120" y="3027600"/>
              <a:ext cx="1098000" cy="1110600"/>
              <a:chOff x="4749120" y="3027600"/>
              <a:chExt cx="1098000" cy="111060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4749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2"/>
              <p:cNvSpPr/>
              <p:nvPr/>
            </p:nvSpPr>
            <p:spPr>
              <a:xfrm>
                <a:off x="4763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3"/>
              <p:cNvSpPr/>
              <p:nvPr/>
            </p:nvSpPr>
            <p:spPr>
              <a:xfrm>
                <a:off x="4774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4"/>
              <p:cNvSpPr/>
              <p:nvPr/>
            </p:nvSpPr>
            <p:spPr>
              <a:xfrm>
                <a:off x="4834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" name="Group 46"/>
          <p:cNvGrpSpPr/>
          <p:nvPr/>
        </p:nvGrpSpPr>
        <p:grpSpPr>
          <a:xfrm>
            <a:off x="2556000" y="2852640"/>
            <a:ext cx="2144520" cy="3506400"/>
            <a:chOff x="2556000" y="2852640"/>
            <a:chExt cx="2144520" cy="3506400"/>
          </a:xfrm>
        </p:grpSpPr>
        <p:grpSp>
          <p:nvGrpSpPr>
            <p:cNvPr id="218" name="Group 47"/>
            <p:cNvGrpSpPr/>
            <p:nvPr/>
          </p:nvGrpSpPr>
          <p:grpSpPr>
            <a:xfrm>
              <a:off x="2988360" y="3668760"/>
              <a:ext cx="1712160" cy="2690280"/>
              <a:chOff x="2988360" y="3668760"/>
              <a:chExt cx="1712160" cy="2690280"/>
            </a:xfrm>
          </p:grpSpPr>
          <p:grpSp>
            <p:nvGrpSpPr>
              <p:cNvPr id="219" name="Group 48"/>
              <p:cNvGrpSpPr/>
              <p:nvPr/>
            </p:nvGrpSpPr>
            <p:grpSpPr>
              <a:xfrm>
                <a:off x="2988360" y="3848760"/>
                <a:ext cx="1584000" cy="2510280"/>
                <a:chOff x="2988360" y="3848760"/>
                <a:chExt cx="1584000" cy="2510280"/>
              </a:xfrm>
            </p:grpSpPr>
            <p:sp>
              <p:nvSpPr>
                <p:cNvPr id="220" name="Freeform 49"/>
                <p:cNvSpPr/>
                <p:nvPr/>
              </p:nvSpPr>
              <p:spPr>
                <a:xfrm rot="3876600">
                  <a:off x="2523960" y="482328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0"/>
                <p:cNvSpPr/>
                <p:nvPr/>
              </p:nvSpPr>
              <p:spPr>
                <a:xfrm rot="3876600">
                  <a:off x="4034160" y="579528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51"/>
              <p:cNvGrpSpPr/>
              <p:nvPr/>
            </p:nvGrpSpPr>
            <p:grpSpPr>
              <a:xfrm>
                <a:off x="3485160" y="3668760"/>
                <a:ext cx="1215360" cy="1926360"/>
                <a:chOff x="3485160" y="3668760"/>
                <a:chExt cx="1215360" cy="1926360"/>
              </a:xfrm>
            </p:grpSpPr>
            <p:sp>
              <p:nvSpPr>
                <p:cNvPr id="223" name="Freeform 52"/>
                <p:cNvSpPr/>
                <p:nvPr/>
              </p:nvSpPr>
              <p:spPr>
                <a:xfrm flipV="1" rot="3876600">
                  <a:off x="3128760" y="441612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3"/>
                <p:cNvSpPr/>
                <p:nvPr/>
              </p:nvSpPr>
              <p:spPr>
                <a:xfrm flipV="1" rot="3876600">
                  <a:off x="4269960" y="517068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5" name="Text Box 54"/>
            <p:cNvSpPr/>
            <p:nvPr/>
          </p:nvSpPr>
          <p:spPr>
            <a:xfrm rot="3925800">
              <a:off x="3209400" y="471420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组建合唱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55"/>
            <p:cNvSpPr/>
            <p:nvPr/>
          </p:nvSpPr>
          <p:spPr>
            <a:xfrm rot="3925800">
              <a:off x="3497400" y="441252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56"/>
            <p:cNvSpPr/>
            <p:nvPr/>
          </p:nvSpPr>
          <p:spPr>
            <a:xfrm>
              <a:off x="2556000" y="285264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7"/>
            <p:cNvSpPr/>
            <p:nvPr/>
          </p:nvSpPr>
          <p:spPr>
            <a:xfrm>
              <a:off x="2556000" y="2876400"/>
              <a:ext cx="144936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8"/>
            <p:cNvSpPr/>
            <p:nvPr/>
          </p:nvSpPr>
          <p:spPr>
            <a:xfrm>
              <a:off x="2646720" y="294804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9"/>
            <p:cNvSpPr/>
            <p:nvPr/>
          </p:nvSpPr>
          <p:spPr>
            <a:xfrm>
              <a:off x="2632680" y="295776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0"/>
            <p:cNvSpPr/>
            <p:nvPr/>
          </p:nvSpPr>
          <p:spPr>
            <a:xfrm>
              <a:off x="2709000" y="3019680"/>
              <a:ext cx="113292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61"/>
            <p:cNvGrpSpPr/>
            <p:nvPr/>
          </p:nvGrpSpPr>
          <p:grpSpPr>
            <a:xfrm>
              <a:off x="2733120" y="3027600"/>
              <a:ext cx="1098000" cy="1110600"/>
              <a:chOff x="2733120" y="3027600"/>
              <a:chExt cx="1098000" cy="1110600"/>
            </a:xfrm>
          </p:grpSpPr>
          <p:sp>
            <p:nvSpPr>
              <p:cNvPr id="233" name="Oval 62"/>
              <p:cNvSpPr/>
              <p:nvPr/>
            </p:nvSpPr>
            <p:spPr>
              <a:xfrm>
                <a:off x="2733120" y="302760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3"/>
              <p:cNvSpPr/>
              <p:nvPr/>
            </p:nvSpPr>
            <p:spPr>
              <a:xfrm>
                <a:off x="2747160" y="303372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4"/>
              <p:cNvSpPr/>
              <p:nvPr/>
            </p:nvSpPr>
            <p:spPr>
              <a:xfrm>
                <a:off x="2758320" y="304416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5"/>
              <p:cNvSpPr/>
              <p:nvPr/>
            </p:nvSpPr>
            <p:spPr>
              <a:xfrm>
                <a:off x="2818080" y="307260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6"/>
          <p:cNvGrpSpPr/>
          <p:nvPr/>
        </p:nvGrpSpPr>
        <p:grpSpPr>
          <a:xfrm>
            <a:off x="395280" y="2925720"/>
            <a:ext cx="2144880" cy="3506400"/>
            <a:chOff x="395280" y="2925720"/>
            <a:chExt cx="2144880" cy="3506400"/>
          </a:xfrm>
        </p:grpSpPr>
        <p:grpSp>
          <p:nvGrpSpPr>
            <p:cNvPr id="238" name="Group 67"/>
            <p:cNvGrpSpPr/>
            <p:nvPr/>
          </p:nvGrpSpPr>
          <p:grpSpPr>
            <a:xfrm>
              <a:off x="828000" y="3741840"/>
              <a:ext cx="1712160" cy="2690280"/>
              <a:chOff x="828000" y="3741840"/>
              <a:chExt cx="1712160" cy="2690280"/>
            </a:xfrm>
          </p:grpSpPr>
          <p:grpSp>
            <p:nvGrpSpPr>
              <p:cNvPr id="239" name="Group 68"/>
              <p:cNvGrpSpPr/>
              <p:nvPr/>
            </p:nvGrpSpPr>
            <p:grpSpPr>
              <a:xfrm>
                <a:off x="828000" y="3921840"/>
                <a:ext cx="1584000" cy="2510280"/>
                <a:chOff x="828000" y="3921840"/>
                <a:chExt cx="1584000" cy="2510280"/>
              </a:xfrm>
            </p:grpSpPr>
            <p:sp>
              <p:nvSpPr>
                <p:cNvPr id="240" name="Freeform 69"/>
                <p:cNvSpPr/>
                <p:nvPr/>
              </p:nvSpPr>
              <p:spPr>
                <a:xfrm rot="3876600">
                  <a:off x="363600" y="4896360"/>
                  <a:ext cx="2512440" cy="561240"/>
                </a:xfrm>
                <a:custGeom>
                  <a:avLst/>
                  <a:gdLst>
                    <a:gd name="textAreaLeft" fmla="*/ 0 w 2512440"/>
                    <a:gd name="textAreaRight" fmla="*/ 2512800 w 2512440"/>
                    <a:gd name="textAreaTop" fmla="*/ 0 h 561240"/>
                    <a:gd name="textAreaBottom" fmla="*/ 561600 h 56124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solidFill>
                  <a:srgbClr val="98bf1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0"/>
                <p:cNvSpPr/>
                <p:nvPr/>
              </p:nvSpPr>
              <p:spPr>
                <a:xfrm rot="3876600">
                  <a:off x="1873800" y="5868360"/>
                  <a:ext cx="394920" cy="459360"/>
                </a:xfrm>
                <a:custGeom>
                  <a:avLst/>
                  <a:gdLst>
                    <a:gd name="textAreaLeft" fmla="*/ 0 w 394920"/>
                    <a:gd name="textAreaRight" fmla="*/ 395280 w 394920"/>
                    <a:gd name="textAreaTop" fmla="*/ 0 h 459360"/>
                    <a:gd name="textAreaBottom" fmla="*/ 459720 h 45936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71"/>
              <p:cNvGrpSpPr/>
              <p:nvPr/>
            </p:nvGrpSpPr>
            <p:grpSpPr>
              <a:xfrm>
                <a:off x="1324800" y="3741840"/>
                <a:ext cx="1215360" cy="1926360"/>
                <a:chOff x="1324800" y="3741840"/>
                <a:chExt cx="1215360" cy="1926360"/>
              </a:xfrm>
            </p:grpSpPr>
            <p:sp>
              <p:nvSpPr>
                <p:cNvPr id="243" name="Freeform 72"/>
                <p:cNvSpPr/>
                <p:nvPr/>
              </p:nvSpPr>
              <p:spPr>
                <a:xfrm flipV="1" rot="3876600">
                  <a:off x="968400" y="4489200"/>
                  <a:ext cx="1927800" cy="430560"/>
                </a:xfrm>
                <a:custGeom>
                  <a:avLst/>
                  <a:gdLst>
                    <a:gd name="textAreaLeft" fmla="*/ 0 w 1927800"/>
                    <a:gd name="textAreaRight" fmla="*/ 1928160 w 1927800"/>
                    <a:gd name="textAreaTop" fmla="*/ 360 h 430560"/>
                    <a:gd name="textAreaBottom" fmla="*/ 431280 h 430560"/>
                  </a:gdLst>
                  <a:ahLst/>
                  <a:rect l="textAreaLeft" t="textAreaTop" r="textAreaRight" b="textAreaBottom"/>
                  <a:pathLst>
                    <a:path w="1832" h="408">
                      <a:moveTo>
                        <a:pt x="1832" y="32"/>
                      </a:moveTo>
                      <a:lnTo>
                        <a:pt x="1830" y="66"/>
                      </a:lnTo>
                      <a:lnTo>
                        <a:pt x="1814" y="128"/>
                      </a:lnTo>
                      <a:lnTo>
                        <a:pt x="1788" y="188"/>
                      </a:lnTo>
                      <a:lnTo>
                        <a:pt x="1754" y="240"/>
                      </a:lnTo>
                      <a:lnTo>
                        <a:pt x="1712" y="288"/>
                      </a:lnTo>
                      <a:lnTo>
                        <a:pt x="1664" y="330"/>
                      </a:lnTo>
                      <a:lnTo>
                        <a:pt x="1610" y="362"/>
                      </a:lnTo>
                      <a:lnTo>
                        <a:pt x="1550" y="388"/>
                      </a:lnTo>
                      <a:lnTo>
                        <a:pt x="1486" y="402"/>
                      </a:lnTo>
                      <a:lnTo>
                        <a:pt x="1418" y="408"/>
                      </a:lnTo>
                      <a:lnTo>
                        <a:pt x="0" y="408"/>
                      </a:lnTo>
                      <a:lnTo>
                        <a:pt x="0" y="0"/>
                      </a:lnTo>
                      <a:lnTo>
                        <a:pt x="1832" y="0"/>
                      </a:lnTo>
                      <a:lnTo>
                        <a:pt x="1832" y="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8bf1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73"/>
                <p:cNvSpPr/>
                <p:nvPr/>
              </p:nvSpPr>
              <p:spPr>
                <a:xfrm flipV="1" rot="3876600">
                  <a:off x="2109600" y="5243760"/>
                  <a:ext cx="302760" cy="352440"/>
                </a:xfrm>
                <a:custGeom>
                  <a:avLst/>
                  <a:gdLst>
                    <a:gd name="textAreaLeft" fmla="*/ 0 w 302760"/>
                    <a:gd name="textAreaRight" fmla="*/ 303120 w 302760"/>
                    <a:gd name="textAreaTop" fmla="*/ 0 h 352440"/>
                    <a:gd name="textAreaBottom" fmla="*/ 352440 h 352440"/>
                  </a:gdLst>
                  <a:ahLst/>
                  <a:rect l="textAreaLeft" t="textAreaTop" r="textAreaRight" b="textAreaBottom"/>
                  <a:pathLst>
                    <a:path w="288" h="334">
                      <a:moveTo>
                        <a:pt x="288" y="0"/>
                      </a:moveTo>
                      <a:lnTo>
                        <a:pt x="284" y="52"/>
                      </a:lnTo>
                      <a:lnTo>
                        <a:pt x="272" y="98"/>
                      </a:lnTo>
                      <a:lnTo>
                        <a:pt x="254" y="140"/>
                      </a:lnTo>
                      <a:lnTo>
                        <a:pt x="230" y="176"/>
                      </a:lnTo>
                      <a:lnTo>
                        <a:pt x="204" y="208"/>
                      </a:lnTo>
                      <a:lnTo>
                        <a:pt x="174" y="238"/>
                      </a:lnTo>
                      <a:lnTo>
                        <a:pt x="144" y="262"/>
                      </a:lnTo>
                      <a:lnTo>
                        <a:pt x="112" y="282"/>
                      </a:lnTo>
                      <a:lnTo>
                        <a:pt x="84" y="298"/>
                      </a:lnTo>
                      <a:lnTo>
                        <a:pt x="56" y="312"/>
                      </a:lnTo>
                      <a:lnTo>
                        <a:pt x="34" y="322"/>
                      </a:lnTo>
                      <a:lnTo>
                        <a:pt x="16" y="328"/>
                      </a:lnTo>
                      <a:lnTo>
                        <a:pt x="4" y="332"/>
                      </a:lnTo>
                      <a:lnTo>
                        <a:pt x="0" y="334"/>
                      </a:lnTo>
                      <a:lnTo>
                        <a:pt x="4" y="332"/>
                      </a:lnTo>
                      <a:lnTo>
                        <a:pt x="16" y="326"/>
                      </a:lnTo>
                      <a:lnTo>
                        <a:pt x="34" y="318"/>
                      </a:lnTo>
                      <a:lnTo>
                        <a:pt x="56" y="304"/>
                      </a:lnTo>
                      <a:lnTo>
                        <a:pt x="84" y="288"/>
                      </a:lnTo>
                      <a:lnTo>
                        <a:pt x="112" y="266"/>
                      </a:lnTo>
                      <a:lnTo>
                        <a:pt x="142" y="242"/>
                      </a:lnTo>
                      <a:lnTo>
                        <a:pt x="170" y="212"/>
                      </a:lnTo>
                      <a:lnTo>
                        <a:pt x="196" y="180"/>
                      </a:lnTo>
                      <a:lnTo>
                        <a:pt x="220" y="142"/>
                      </a:lnTo>
                      <a:lnTo>
                        <a:pt x="238" y="100"/>
                      </a:lnTo>
                      <a:lnTo>
                        <a:pt x="250" y="54"/>
                      </a:lnTo>
                      <a:lnTo>
                        <a:pt x="254" y="2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ffffff">
                    <a:alpha val="4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5" name="Text Box 74"/>
            <p:cNvSpPr/>
            <p:nvPr/>
          </p:nvSpPr>
          <p:spPr>
            <a:xfrm rot="3925800">
              <a:off x="896760" y="47872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到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75"/>
            <p:cNvSpPr/>
            <p:nvPr/>
          </p:nvSpPr>
          <p:spPr>
            <a:xfrm rot="3925800">
              <a:off x="1337040" y="4485600"/>
              <a:ext cx="10054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76"/>
            <p:cNvSpPr/>
            <p:nvPr/>
          </p:nvSpPr>
          <p:spPr>
            <a:xfrm>
              <a:off x="395280" y="292572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ffffff"/>
                </a:gs>
                <a:gs pos="100000">
                  <a:srgbClr val="98bf1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77"/>
            <p:cNvSpPr/>
            <p:nvPr/>
          </p:nvSpPr>
          <p:spPr>
            <a:xfrm>
              <a:off x="395280" y="2949480"/>
              <a:ext cx="1449720" cy="1445040"/>
            </a:xfrm>
            <a:prstGeom prst="ellipse">
              <a:avLst/>
            </a:prstGeom>
            <a:gradFill rotWithShape="0">
              <a:gsLst>
                <a:gs pos="0">
                  <a:srgbClr val="98bf1d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78"/>
            <p:cNvSpPr/>
            <p:nvPr/>
          </p:nvSpPr>
          <p:spPr>
            <a:xfrm>
              <a:off x="486000" y="3021120"/>
              <a:ext cx="1257840" cy="125496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50000">
                  <a:srgbClr val="526710"/>
                </a:gs>
                <a:gs pos="100000">
                  <a:srgbClr val="98bf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79"/>
            <p:cNvSpPr/>
            <p:nvPr/>
          </p:nvSpPr>
          <p:spPr>
            <a:xfrm>
              <a:off x="471960" y="3030840"/>
              <a:ext cx="1257480" cy="1255320"/>
            </a:xfrm>
            <a:prstGeom prst="ellipse">
              <a:avLst/>
            </a:prstGeom>
            <a:gradFill rotWithShape="0">
              <a:gsLst>
                <a:gs pos="0">
                  <a:srgbClr val="657f13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80"/>
            <p:cNvSpPr/>
            <p:nvPr/>
          </p:nvSpPr>
          <p:spPr>
            <a:xfrm>
              <a:off x="548280" y="3092760"/>
              <a:ext cx="1133280" cy="1129680"/>
            </a:xfrm>
            <a:prstGeom prst="ellipse">
              <a:avLst/>
            </a:prstGeom>
            <a:gradFill rotWithShape="0">
              <a:gsLst>
                <a:gs pos="0">
                  <a:srgbClr val="98bf1d"/>
                </a:gs>
                <a:gs pos="100000">
                  <a:srgbClr val="090b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Group 81"/>
            <p:cNvGrpSpPr/>
            <p:nvPr/>
          </p:nvGrpSpPr>
          <p:grpSpPr>
            <a:xfrm>
              <a:off x="572400" y="3100680"/>
              <a:ext cx="1098000" cy="1110600"/>
              <a:chOff x="572400" y="3100680"/>
              <a:chExt cx="1098000" cy="1110600"/>
            </a:xfrm>
          </p:grpSpPr>
          <p:sp>
            <p:nvSpPr>
              <p:cNvPr id="253" name="Oval 82"/>
              <p:cNvSpPr/>
              <p:nvPr/>
            </p:nvSpPr>
            <p:spPr>
              <a:xfrm>
                <a:off x="572400" y="3100680"/>
                <a:ext cx="1098000" cy="1110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83"/>
              <p:cNvSpPr/>
              <p:nvPr/>
            </p:nvSpPr>
            <p:spPr>
              <a:xfrm>
                <a:off x="586440" y="3106800"/>
                <a:ext cx="1071360" cy="1082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84"/>
              <p:cNvSpPr/>
              <p:nvPr/>
            </p:nvSpPr>
            <p:spPr>
              <a:xfrm>
                <a:off x="597600" y="3117240"/>
                <a:ext cx="1019160" cy="10119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85"/>
              <p:cNvSpPr/>
              <p:nvPr/>
            </p:nvSpPr>
            <p:spPr>
              <a:xfrm>
                <a:off x="657360" y="3145680"/>
                <a:ext cx="905760" cy="82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86"/>
          <p:cNvSpPr/>
          <p:nvPr/>
        </p:nvSpPr>
        <p:spPr>
          <a:xfrm>
            <a:off x="90180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7"/>
          <p:cNvSpPr/>
          <p:nvPr/>
        </p:nvSpPr>
        <p:spPr>
          <a:xfrm>
            <a:off x="2988720" y="3429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90"/>
          <p:cNvSpPr/>
          <p:nvPr/>
        </p:nvSpPr>
        <p:spPr>
          <a:xfrm>
            <a:off x="5078520" y="3357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1"/>
          <p:cNvSpPr/>
          <p:nvPr/>
        </p:nvSpPr>
        <p:spPr>
          <a:xfrm>
            <a:off x="7021800" y="321300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宋体"/>
              </a:rPr>
              <a:t>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324000" y="1052640"/>
            <a:ext cx="586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个爱与音乐交织的故事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一把找回遗忘记忆的钥匙，一对勇敢追求梦想的翅膀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，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  <a:ea typeface="华文行楷"/>
              </a:rPr>
              <a:t>都从放牛班的那个春天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影片情节</a:t>
            </a:r>
            <a:endParaRPr b="1" lang="en-US" sz="3200" spc="-1" strike="noStrike">
              <a:solidFill>
                <a:srgbClr val="51944e"/>
              </a:solidFill>
              <a:latin typeface="Verdana"/>
            </a:endParaRPr>
          </a:p>
        </p:txBody>
      </p:sp>
      <p:grpSp>
        <p:nvGrpSpPr>
          <p:cNvPr id="263" name="Group 3"/>
          <p:cNvGrpSpPr/>
          <p:nvPr/>
        </p:nvGrpSpPr>
        <p:grpSpPr>
          <a:xfrm>
            <a:off x="1332000" y="1486080"/>
            <a:ext cx="1361160" cy="1321560"/>
            <a:chOff x="1332000" y="1486080"/>
            <a:chExt cx="1361160" cy="1321560"/>
          </a:xfrm>
        </p:grpSpPr>
        <p:sp>
          <p:nvSpPr>
            <p:cNvPr id="264" name="AutoShape 7"/>
            <p:cNvSpPr/>
            <p:nvPr/>
          </p:nvSpPr>
          <p:spPr>
            <a:xfrm>
              <a:off x="133200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46ade"/>
                </a:gs>
                <a:gs pos="100000">
                  <a:srgbClr val="464a9b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8"/>
            <p:cNvSpPr/>
            <p:nvPr/>
          </p:nvSpPr>
          <p:spPr>
            <a:xfrm>
              <a:off x="141768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646ade">
                    <a:alpha val="0"/>
                  </a:srgbClr>
                </a:gs>
                <a:gs pos="50000">
                  <a:srgbClr val="b4b7ef"/>
                </a:gs>
                <a:gs pos="100000">
                  <a:srgbClr val="646ade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6"/>
          <p:cNvGrpSpPr/>
          <p:nvPr/>
        </p:nvGrpSpPr>
        <p:grpSpPr>
          <a:xfrm>
            <a:off x="3637080" y="1486080"/>
            <a:ext cx="1361160" cy="1321560"/>
            <a:chOff x="3637080" y="1486080"/>
            <a:chExt cx="1361160" cy="1321560"/>
          </a:xfrm>
        </p:grpSpPr>
        <p:sp>
          <p:nvSpPr>
            <p:cNvPr id="267" name="AutoShape 11"/>
            <p:cNvSpPr/>
            <p:nvPr/>
          </p:nvSpPr>
          <p:spPr>
            <a:xfrm>
              <a:off x="3637080" y="1486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bafc3"/>
                </a:gs>
                <a:gs pos="100000">
                  <a:srgbClr val="137a88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"/>
            <p:cNvSpPr/>
            <p:nvPr/>
          </p:nvSpPr>
          <p:spPr>
            <a:xfrm>
              <a:off x="3722760" y="1571760"/>
              <a:ext cx="676800" cy="66024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1bafc3">
                    <a:alpha val="0"/>
                  </a:srgbClr>
                </a:gs>
                <a:gs pos="50000">
                  <a:srgbClr val="90d8e2"/>
                </a:gs>
                <a:gs pos="100000">
                  <a:srgbClr val="1bafc3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9"/>
          <p:cNvGrpSpPr/>
          <p:nvPr/>
        </p:nvGrpSpPr>
        <p:grpSpPr>
          <a:xfrm>
            <a:off x="5797440" y="1486080"/>
            <a:ext cx="1361520" cy="1321560"/>
            <a:chOff x="5797440" y="1486080"/>
            <a:chExt cx="1361520" cy="1321560"/>
          </a:xfrm>
        </p:grpSpPr>
        <p:sp>
          <p:nvSpPr>
            <p:cNvPr id="270" name="AutoShape 14"/>
            <p:cNvSpPr/>
            <p:nvPr/>
          </p:nvSpPr>
          <p:spPr>
            <a:xfrm>
              <a:off x="5797440" y="1486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8bf1d"/>
                </a:gs>
                <a:gs pos="100000">
                  <a:srgbClr val="6a851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5"/>
            <p:cNvSpPr/>
            <p:nvPr/>
          </p:nvSpPr>
          <p:spPr>
            <a:xfrm>
              <a:off x="5883120" y="15717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8bf1d">
                    <a:alpha val="0"/>
                  </a:srgbClr>
                </a:gs>
                <a:gs pos="50000">
                  <a:srgbClr val="cde091"/>
                </a:gs>
                <a:gs pos="100000">
                  <a:srgbClr val="98bf1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Freeform 3"/>
          <p:cNvSpPr/>
          <p:nvPr/>
        </p:nvSpPr>
        <p:spPr>
          <a:xfrm>
            <a:off x="1908000" y="2925720"/>
            <a:ext cx="1900440" cy="137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4"/>
          <p:cNvSpPr/>
          <p:nvPr/>
        </p:nvSpPr>
        <p:spPr>
          <a:xfrm>
            <a:off x="4140360" y="2852640"/>
            <a:ext cx="366480" cy="156204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5"/>
          <p:cNvSpPr/>
          <p:nvPr/>
        </p:nvSpPr>
        <p:spPr>
          <a:xfrm flipH="1">
            <a:off x="4932360" y="2925720"/>
            <a:ext cx="1900080" cy="137628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900000" y="4221000"/>
            <a:ext cx="7021440" cy="1936800"/>
            <a:chOff x="900000" y="4221000"/>
            <a:chExt cx="7021440" cy="1936800"/>
          </a:xfrm>
        </p:grpSpPr>
        <p:sp>
          <p:nvSpPr>
            <p:cNvPr id="276" name="AutoShape 19"/>
            <p:cNvSpPr/>
            <p:nvPr/>
          </p:nvSpPr>
          <p:spPr>
            <a:xfrm>
              <a:off x="2373120" y="453528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0"/>
            <p:cNvSpPr/>
            <p:nvPr/>
          </p:nvSpPr>
          <p:spPr>
            <a:xfrm>
              <a:off x="2892240" y="4676760"/>
              <a:ext cx="4700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专门为孩子们谱写的歌曲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想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用纯净的音乐唤回了管教们冰冷已久的心，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来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脱束缚孩子们身心的绳索，抚平他们受伤的心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0000" y="42210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22"/>
            <p:cNvSpPr/>
            <p:nvPr/>
          </p:nvSpPr>
          <p:spPr>
            <a:xfrm>
              <a:off x="1207800" y="4870440"/>
              <a:ext cx="1289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克莱门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1477800" y="1758960"/>
            <a:ext cx="9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99"/>
                </a:solidFill>
                <a:latin typeface="Arial"/>
                <a:ea typeface="宋体"/>
              </a:rPr>
              <a:t>校长的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3637080" y="1701720"/>
            <a:ext cx="115092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管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cc"/>
                </a:solidFill>
                <a:latin typeface="Arial"/>
                <a:ea typeface="宋体"/>
              </a:rPr>
              <a:t>残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724360" y="1628640"/>
            <a:ext cx="147348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c40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99ff"/>
                </a:solidFill>
                <a:latin typeface="Arial"/>
                <a:ea typeface="宋体"/>
              </a:rPr>
              <a:t>孩子们的无法无天和可怜无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3:41:01Z</dcterms:created>
  <dc:creator/>
  <dc:description/>
  <cp:keywords/>
  <dc:language>en-US</dc:language>
  <cp:lastModifiedBy>admin</cp:lastModifiedBy>
  <cp:lastPrinted>1899-12-30T00:00:00Z</cp:lastPrinted>
  <dcterms:modified xsi:type="dcterms:W3CDTF">2015-04-07T00:58:01Z</dcterms:modified>
  <cp:revision>4</cp:revision>
  <dc:subject/>
  <dc:title>放牛班的春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