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2E7-A5DF-4E4F-AE95-9E99B8DC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DCA-25C6-455F-A3BF-69AFE08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0D2-383F-4AE1-8C03-E504138E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053-A490-4EF7-9781-AD0BE6F8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2A4-BBF8-4BF8-AEFE-5FB877AC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669-23D5-4D05-8350-784DA5F6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2FF-4C69-4212-9CE6-D2A0D7F8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21B-2BD8-4AE0-BCD8-8F605C7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998-784A-47C6-87CE-1AE8CE4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13B-F2C2-4C2C-88BE-3D6D327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39F-8195-405C-A9F0-C43F596B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9B9-ED05-471C-A684-ECB7A1A3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2674-526B-4847-AD92-D673C342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147D-8651-42FE-9BB2-FFF3A72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B0FC-20C6-4F6F-8454-0FF576AD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64AF-0414-45CB-8C8D-A5784871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A06F-08D0-4387-93B2-589BD239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7A41-142C-4A5A-8CF8-3747C7E1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7A84-3123-406E-811C-AD939BCD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216B-3305-41B0-8113-E6EC4681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F2DF-CCFA-4D12-B9AB-9226E341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3FF6-9C50-4434-A79A-F14E87AF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DC1E-74E5-455C-9BEC-831D98CC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BE87-E470-48E4-A624-AA27C97A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3A58-918C-4EF0-A9E3-626C71A0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3C71-C0F4-4868-B951-D1F02C1B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541A-8C28-431B-B225-019FE1BF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69F8-53D3-44D5-8BD4-3E393F9B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9819-6CB2-4009-9672-ABF9A61E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4148-8B8B-4F8A-B5D5-BA7D0816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C719-9BF7-4D9F-8FDF-048C933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D4C9-9DBC-432F-82C3-75F78A9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7974-07FD-4621-94D0-02AE962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F962-75C4-4BF4-BBC7-64C513D8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AD019-1499-49B7-933A-83B8313E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EC66-F4F6-4E8D-BD4C-F3831269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AE71-9443-4972-AD60-27077BEA4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EA40-AE0C-4837-91D3-B91280DC911F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75A0-4370-438E-841F-6F71B721A075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23487;&#33293;&#20869;&#21153;&#36890;&#25253;(&#30007;)10.3.10.xls" TargetMode="External"/><Relationship Id="rId2" Type="http://schemas.openxmlformats.org/officeDocument/2006/relationships/hyperlink" Target="file:///&#23487;&#33293;&#20869;&#21153;&#36890;&#25253;(&#30007;)10.3.10.xls" TargetMode="External"/><Relationship Id="rId3" Type="http://schemas.openxmlformats.org/officeDocument/2006/relationships/hyperlink" Target="file:///&#23487;&#33293;&#20869;&#21153;&#36890;&#25253;(&#30007;)10.3.10.xls" TargetMode="External"/><Relationship Id="rId4" Type="http://schemas.openxmlformats.org/officeDocument/2006/relationships/hyperlink" Target="file:///&#23487;&#33293;&#20869;&#21153;&#36890;&#25253;(&#30007;)10.3.10.xls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2720" y="2386080"/>
            <a:ext cx="7340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改变命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奋斗成就未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虽然我们不能改变父母的过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是我们可以改变父母的将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苦功，三个字，一个叫下，一个叫苦，一个叫功，一定要振作精神，下苦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日日行，不怕千万里；常常做，不怕千万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个人只要强烈地坚持不懈地追求，他就能达到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无论什么时候，不管遇到什么情况，我绝不允许自己有一点点灰心丧气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留成功留失败青春无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流汗水流血水人生无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孩子成绩的十大坏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是经过反复练习而形成的较为稳定的行为特征，好的习惯可以带来好的结果，而坏的习惯只能带来不好的结果，在许多时候，孩子的学习成绩不理想，就是由于有一些坏的习惯在作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上不明白自己要干什么，该干什么，总是让老师和家长在后面推者屁股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凡事预则利、不预则废，成绩好的学生一般计划性都很强，学年有学年的总目标，学期有学期的规划，每周有每周的计划，每日有每日的任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时间不固定，每天必要的学习时间无法保证，学习时完全凭情绪，情绪好的时候可以穴道深夜，情绪不好的时候，就什么都干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是日积月累起来的饿，人不可能在极短的时间内把大量的学习内容输入到大脑里去，饥一顿饱一顿，三天打鱼两天晒网，只能是事倍功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9880" y="380880"/>
            <a:ext cx="878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自信——成功的选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天该完成的学习任务没有完成，喜欢搞集中复习、临考突击，每天该记忆的内容欠帐，该做完的作业欠帐，该复习的东西还欠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想较好地掌握知识，必须靠每日的积累，没有量的积累，便不会有质的飞跃。靠集中复习、临靠突击学到的知识，不但数量少，而且质量差，经不起严格的考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马马虎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忘带课本和学习用具，抄写时黑板上明明是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可抄下来就变成了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作业经常能一最快的速度完成，但字迹潦草、错误率高，考试时草稿纸上明明做对了可就是忘记誊写到试卷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虎在孩子中间似乎已经成为一中通病，如果不加注意、不予重视，孩子的学习成绩必将会受到严重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时一心二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经常精神溜号，甚至做一些与学习毫不相干的事；自习课时常沉迷于空想，或者东翻西看，浪费时间；做作业或复习时，常做一些小动作，一边听歌一边写文章、算题，哪里说话哪搭茬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心致志是学生必须养成的起码的学习习惯，一般人不可能同时高质量地做好两项或两项以上的事情，所谓“目不能两视而明，耳不能两听而聪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6680" y="228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一、主动的学习态度是胜利的前提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除了你自己，没有人能帮你学会什么。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前苏联的一位教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343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比如： 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主动的练习，主动的听课，主动的预习，主动的复习……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懂的东西也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于害羞，虽然学习上有许多没有搞懂的问题，但也不敢问老师；太爱面子，喜欢打肿脸充胖子，不懂也装懂，不会的东西从来也不向别人请教；学习上心里没数，自己也搞不清楚哪些地方懂，哪些地方不懂，似乎什么都懂一点，但又没有完全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本身就是一个不断提高自己、不断完善自己的过程，“三人行必有我师”，况且还在求学中的学生。家长要提醒和鼓励孩子不仅要不耻下问，而且还要不羞与下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错也不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本发到手里，虽然上面有许多老师的订正，可很少往心里去；测验题和考试卷基本都是只看看分数便扔到一边，从不认真分析原因、检查和修改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是一个积累知识的过程，同时也是一个补漏洞的过程。一门课程，知识漏洞越少，说明学得越号，考试时的成绩也会提高，那些考试时出错的地方往往是孩子知识漏洞最大的地方。家长可以帮孩子整理一个“错题集”，每次作业、测验和考试之后，让孩子将其中做错的题目都记录下来，这些很可能就是孩子的知识漏洞，家长要督促孩子经常看看这些题目，时间长了漏洞就会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不预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使老师有要求，也很少预习第二天要学的内容。预习历来是教师对学生学习的一个重要要求，孩子在上课前没有预习，听课时对老师所讲内容的理解和把握会大打折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课注意力不集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堂上思想开小差、易分神、小动作多、坐不住、爱说话，快到下课时就更听不进去了，心里早已在课后的娱乐之中。课堂对孩子的学习至关重要，老师是孩子学习的指路人，如果课堂学习的重点、难点孩子搞不明白，课下花几倍的时间也不一定能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复习就做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作业前不看书，不看参考资料，不先消化和理解所学的内容。作业拿过来就做，做完了就万事大击。作业是每个学生必须要独立完成的任务，它的目的是要让学生正确的理解、熟练地记忆所学的生词、语法、定义、定理和公式等，是要让学生更好得巩固所学的知识。如果孩子不求甚解地完成了作业，根本就起不到这些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本周工作重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容仪表的检查（饰品、学生证、校服、手机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3 mp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褂套小褂、头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宿舍卫生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宿舍内务通报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男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)10.3.10.xls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室外卫生和教室卫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门抬头、自习纪律，课前两分钟准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宿舍午晚休纪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队列训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习上厕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晚饭后纪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学到现在的通报成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郑志鹏、刘嘉楠、李威、田慧明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柜顶乱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杜金珅  姜耀  张泞洁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郑志朋 姜耀 李彦然  康恩铭 李彬 刘嘉楠 梁超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计—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午晚休纪律方面表现良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前一分钟准备较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现不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性仍不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制力较差，稳定性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我要求较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性仍然不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懒散、拖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后的努力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确保卫生方面不扣分或尽可能的少扣分，特别是宿舍和室外防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方面继续保持，自习不讨论，严格遵守课前一分钟的准备；午晚休更是严格要求自己，确保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参与班级的各项活动，坚决服从小组长，班委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争创常规前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7920" y="762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二、上课听讲是基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誰忽视了上課时间，意味着放弃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2590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笔不离手，词不离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内成立监督机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习（包括早自习，活动课，晚自习），上厕所，说话，转头，借东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间疯打闹，上课迟到，课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师值日和倒垃圾，擦黑板，桌下乱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宿舍卫生检查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操，集会，升旗和眼保健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校服，学生证，发型，耳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脏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香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室卫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垃圾桶及卫生工具的摆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钱：各小组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你永远要记得你所想要的，而不是你所恐惧的。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假如我不能，我一定要，假如我一定要，我就一定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：让我们以现在为起点，总结过去的得失，以拼搏者的姿态对待这个月的学习和工作，以舍我其谁的信念迎接下次月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拼搏吧，同学们为了你们心中不灭的梦想，为了父母的微笑，为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00200" y="9144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三、课前预习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+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课后及时复习事半功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276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8380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四、如果你一天没有问题的话，  那就意味着你没有收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6858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五：分数 可以上下浮动，但信心和干劲不能浮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600200" y="5335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六：没有永远的劣势学科和永远的优势学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6520" y="685800"/>
            <a:ext cx="7238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七：认真和细心，不仅是一种态度 ，更是一种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198108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天你靠父母，明天父母靠谁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23:47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