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159-572D-4080-A91D-BBD10411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78D-0196-4AE2-A403-9FEA1F8C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A3D-51BB-4C67-B1F2-76FF0280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59E-1AFF-4533-8CA4-44C8390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709-33C4-4B74-A2F7-9BA76052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659-1F48-4AEF-865F-3727810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EBA-BB04-47DA-833F-EB142BC5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69B-3688-47DB-BA7D-FF4219A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BAB-0F01-48C8-84C6-D5C5F4C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730-97EE-4062-8349-7AEFD9C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6F5-EDDA-4F73-903B-5D0B2560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84F-E892-40AF-9D35-490044B8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460-7847-4E0A-BFA4-963D2735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AD45-277B-43FC-B63A-038A71F0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E6D8-90BC-4639-B05C-2C6018D3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640E-F95F-42AF-A0D8-8117312E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1AB-1B2A-499E-8696-1A1EC52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3960-737F-49D9-A7A9-22E7853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F917-FDB1-4A55-B649-03886AE4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20E9-253C-444B-9268-205D264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472E-2F1C-47AF-875E-A943CF7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482D-06DF-4F89-81C1-C29AD1F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CB7C-E1C0-486E-BE15-11F37516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FE2-098F-4227-8131-9B955AAB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CFB7E-946E-4CA8-B506-68306D89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11E3-EF37-4199-B84D-51BBAF82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FCD9D-5B3F-417E-B277-DE5A86E2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3AE9-4F86-4B4D-85E9-9CB05F75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BBA51-C0B4-4A31-BC03-4D78CB5D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3571-9EC9-4EC1-A9A6-225B93CC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0585-FA4F-4AA2-B0DB-3D18501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09E5-0C9C-4F1A-A2B0-E6C0FF52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52FB-A689-44B1-9D75-426EF8A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A4B5-E5FB-4110-90D9-53D724AB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4C67-725A-438D-A5DD-533E42AA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0C9E-5035-4BC2-8264-11099BE2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325-7531-40C1-825A-D87506BD5F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EE48-C23D-4A42-841D-12148D2E6F20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DF0-3C25-4C00-884D-4BADB4BF0786}" type="slidenum">
              <a:rPr b="0" lang="zh-CN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23487;&#33293;&#20869;&#21153;&#36890;&#25253;(&#30007;)10.3.10.xls" TargetMode="External"/><Relationship Id="rId2" Type="http://schemas.openxmlformats.org/officeDocument/2006/relationships/hyperlink" Target="file:///&#23487;&#33293;&#20869;&#21153;&#36890;&#25253;(&#30007;)10.3.10.xls" TargetMode="External"/><Relationship Id="rId3" Type="http://schemas.openxmlformats.org/officeDocument/2006/relationships/hyperlink" Target="file:///&#23487;&#33293;&#20869;&#21153;&#36890;&#25253;(&#30007;)10.3.10.xls" TargetMode="External"/><Relationship Id="rId4" Type="http://schemas.openxmlformats.org/officeDocument/2006/relationships/hyperlink" Target="file:///&#23487;&#33293;&#20869;&#21153;&#36890;&#25253;(&#30007;)10.3.10.xls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2720" y="2386080"/>
            <a:ext cx="73407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改变命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奋斗成就未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676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虽然我们不能改变父母的过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51920" y="350532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们可以改变父母的将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914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下苦功，三个字，一个叫下，一个叫苦，一个叫功，一定要振作精神，下苦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日日行，不怕千万里；常常做，不怕千万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个人只要强烈地坚持不懈地追求，他就能达到目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无论什么时候，不管遇到什么情况，我绝不允许自己有一点点灰心丧气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留成功留失败青春无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流汗水流血水人生无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影响孩子成绩的十大坏习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习惯是经过反复练习而形成的较为稳定的行为特征，好的习惯可以带来好的结果，而坏的习惯只能带来不好的结果，在许多时候，孩子的学习成绩不理想，就是由于有一些坏的习惯在作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无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上不明白自己要干什么，该干什么，总是让老师和家长在后面推者屁股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凡事预则利、不预则废，成绩好的学生一般计划性都很强，学年有学年的总目标，学期有学期的规划，每周有每周的计划，每日有每日的任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时间不固定，每天必要的学习时间无法保证，学习时完全凭情绪，情绪好的时候可以穴道深夜，情绪不好的时候，就什么都干不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知识是日积月累起来的饿，人不可能在极短的时间内把大量的学习内容输入到大脑里去，饥一顿饱一顿，三天打鱼两天晒网，只能是事倍功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9880" y="380880"/>
            <a:ext cx="878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自信——成功的选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我们在学习和事业的攀登中，总要越过险峻的高山，度过茫茫的阔水。而自信心就是登山的云梯，渡水的飞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仿宋_GB2312"/>
              </a:rPr>
              <a:t>人，只有自信，才能自强不息，才能使人为自己的愿望或理想而努力奋斗。只有自信，才可能使人在艰难的事业中保持必胜的信念，才能使人有勇气攀登科学的高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8305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不定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天该完成的学习任务没有完成，喜欢搞集中复习、临考突击，每天该记忆的内容欠帐，该做完的作业欠帐，该复习的东西还欠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想较好地掌握知识，必须靠每日的积累，没有量的积累，便不会有质的飞跃。靠集中复习、临靠突击学到的知识，不但数量少，而且质量差，经不起严格的考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马马虎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忘带课本和学习用具，抄写时黑板上明明是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可抄下来就变成了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作业经常能一最快的速度完成，但字迹潦草、错误率高，考试时草稿纸上明明做对了可就是忘记誊写到试卷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虎在孩子中间似乎已经成为一中通病，如果不加注意、不予重视，孩子的学习成绩必将会受到严重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时一心二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课时经常精神溜号，甚至做一些与学习毫不相干的事；自习课时常沉迷于空想，或者东翻西看，浪费时间；做作业或复习时，常做一些小动作，一边听歌一边写文章、算题，哪里说话哪搭茬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心致志是学生必须养成的起码的学习习惯，一般人不可能同时高质量地做好两项或两项以上的事情，所谓“目不能两视而明，耳不能两听而聪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6680" y="2286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一、主动的学习态度是胜利的前提　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3880" y="24382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除了你自己，没有人能帮你学会什么。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前苏联的一位教育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434340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比如： 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主动的练习，主动的听课，主动的预习，主动的复习……</a:t>
            </a: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懂的东西也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于害羞，虽然学习上有许多没有搞懂的问题，但也不敢问老师；太爱面子，喜欢打肿脸充胖子，不懂也装懂，不会的东西从来也不向别人请教；学习上心里没数，自己也搞不清楚哪些地方懂，哪些地方不懂，似乎什么都懂一点，但又没有完全掌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习本身就是一个不断提高自己、不断完善自己的过程，“三人行必有我师”，况且还在求学中的学生。家长要提醒和鼓励孩子不仅要不耻下问，而且还要不羞与下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错也不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本发到手里，虽然上面有许多老师的订正，可很少往心里去；测验题和考试卷基本都是只看看分数便扔到一边，从不认真分析原因、检查和修改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习是一个积累知识的过程，同时也是一个补漏洞的过程。一门课程，知识漏洞越少，说明学得越号，考试时的成绩也会提高，那些考试时出错的地方往往是孩子知识漏洞最大的地方。家长可以帮孩子整理一个“错题集”，每次作业、测验和考试之后，让孩子将其中做错的题目都记录下来，这些很可能就是孩子的知识漏洞，家长要督促孩子经常看看这些题目，时间长了漏洞就会补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前不预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使老师有要求，也很少预习第二天要学的内容。预习历来是教师对学生学习的一个重要要求，孩子在上课前没有预习，听课时对老师所讲内容的理解和把握会大打折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课注意力不集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堂上思想开小差、易分神、小动作多、坐不住、爱说话，快到下课时就更听不进去了，心里早已在课后的娱乐之中。课堂对孩子的学习至关重要，老师是孩子学习的指路人，如果课堂学习的重点、难点孩子搞不明白，课下花几倍的时间也不一定能补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复习就做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作业前不看书，不看参考资料，不先消化和理解所学的内容。作业拿过来就做，做完了就万事大击。作业是每个学生必须要独立完成的任务，它的目的是要让学生正确的理解、熟练地记忆所学的生词、语法、定义、定理和公式等，是要让学生更好得巩固所学的知识。如果孩子不求甚解地完成了作业，根本就起不到这些作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19520" y="380880"/>
            <a:ext cx="304776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畅谈理想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828800"/>
            <a:ext cx="7777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想是人奋斗的目标，是人生活的希望，没有理想的青春，就像没有太阳的早晨。没有理想的人，就像一台没安马达的机器。对我们青年人来说，理想就更重要了，因为我们是祖国的未来，如果我们胸无大志，那我们的国家未来就没有希望了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本周工作重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容仪表的检查（饰品、学生证、校服、手机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3 mp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大褂套小褂、头型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宿舍卫生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宿舍内务通报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(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男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)10.3.10.xls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室外卫生和教室卫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推门抬头、自习纪律，课前两分钟准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宿舍午晚休纪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队列训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习上厕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晚饭后纪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学到现在的通报成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郑志鹏、刘嘉楠、李威、田慧明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柜顶乱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仪容仪表：杜金珅  姜耀  张泞洁 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号  男生内务：郑志朋 姜耀 李彦然  康恩铭 李彬 刘嘉楠 梁超  共扣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计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优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午晚休纪律方面表现良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前一分钟准备较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现不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性仍不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制力较差，稳定性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我要求较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性仍然不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懒散、拖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今后的努力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确保卫生方面不扣分或尽可能的少扣分，特别是宿舍和室外防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纪律方面继续保持，自习不讨论，严格遵守课前一分钟的准备；午晚休更是严格要求自己，确保充足的睡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积极参与班级的各项活动，坚决服从小组长，班委的领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争创常规前三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7920" y="7621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二、上课听讲是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誰忽视了上課时间，意味着放弃高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259092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笔不离手，词不离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班内成立监督机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自习（包括早自习，活动课，晚自习），上厕所，说话，转头，借东西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间疯打闹，上课迟到，课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师值日和倒垃圾，擦黑板，桌下乱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宿舍卫生检查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操，集会，升旗和眼保健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校服，学生证，发型，耳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脏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口香糖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教室卫生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垃圾桶及卫生工具的摆放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收钱：各小组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你永远要记得你所想要的，而不是你所恐惧的。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假如我不能，我一定要，假如我一定要，我就一定能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：让我们以现在为起点，总结过去的得失，以拼搏者的姿态对待这个月的学习和工作，以舍我其谁的信念迎接下次月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拼搏吧，同学们为了你们心中不灭的梦想，为了父母的微笑，为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00200" y="91440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三、课前预习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+</a:t>
            </a: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课后及时复习事半功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32767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8380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Times New Roman"/>
                <a:ea typeface="华文行楷"/>
              </a:rPr>
              <a:t>四、如果你一天没有问题的话，  那就意味着你没有收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68580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五：分数 可以上下浮动，但信心和干劲不能浮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600200" y="53352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六：没有永远的劣势学科和永远的优势学科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676520" y="685800"/>
            <a:ext cx="7238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f1311"/>
                </a:solidFill>
                <a:latin typeface="华文行楷"/>
                <a:ea typeface="华文行楷"/>
              </a:rPr>
              <a:t>七：认真和细心，不仅是一种态度 ，更是一种能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1981080"/>
            <a:ext cx="6248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今天你靠父母，明天父母靠谁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9-04T23:47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