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69D2-656B-4973-B16C-F10F6AE0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A52C-8DE2-4CD8-975E-AAFE9113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41BD-CCFB-45FF-8360-4CDF4B9B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9F28-A4D3-43FC-A4DB-8DBE1D25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0960-C251-4C3C-ADE1-85DA00F2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24E1-EE15-4C73-B747-9BD292EE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E558-91F8-46B8-88BA-FE2D0FA5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1166-DF5F-4332-99D0-40352D8E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AF4B-B123-4AD9-B257-BA4C7292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685A-D46A-40D7-9B81-15DEA1CA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5C9B-5595-41B0-90EF-F8DD9FC1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790F-55D7-4DA8-A291-E67C713ED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1D7D-EE7E-4E93-A74B-2937B2CF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57AD-A1BB-4D11-BDAE-E48A171B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1CF7-5CBF-4C15-92CF-5A380E87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FF77-57A9-47DD-BA02-C99EF2A7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4E7D-00A1-40C5-A9DC-E019D01C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B580-325D-4952-A5C9-C081B71F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4AA7-21BE-4C81-BB0C-FF5714BE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6AE3-2EF0-4D2D-9588-06A2B138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FE73-D01B-4903-82D8-B467A451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CE29-9D3D-4BA0-BEDA-05834E60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7C83-FD8C-4CAD-9A22-EC9E52AC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DC9B-C073-4069-8FF0-8C145668D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41D3A-6DC6-4F95-8025-F26DA7442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86F2E-1BE1-4EAE-BF36-94409020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8E684-7ED0-4CD3-A28D-ED787F92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3D9CB-E897-440E-8768-DE485A24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7D782-F7D6-493F-B6D5-F7A42717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5032E-D907-4814-8EF2-86699DE5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35961-1673-4190-A53A-E4F8DE9D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603D5-7DCA-4DC4-88A0-3B661D93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D786F-D32D-4D0F-A678-95020AC1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0D68A-021D-4C3B-83B5-319B2D12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B154B-53F9-4651-B9EE-5B2ED07D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DC90F-B329-4E5C-B3FA-68D63C30C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slideLayout" Target="../slideLayouts/slideLayout37.xml"/><Relationship Id="rId32" Type="http://schemas.openxmlformats.org/officeDocument/2006/relationships/slideLayout" Target="../slideLayouts/slideLayout38.xml"/><Relationship Id="rId33" Type="http://schemas.openxmlformats.org/officeDocument/2006/relationships/slideLayout" Target="../slideLayouts/slideLayout39.xml"/><Relationship Id="rId34" Type="http://schemas.openxmlformats.org/officeDocument/2006/relationships/slideLayout" Target="../slideLayouts/slideLayout40.xml"/><Relationship Id="rId35" Type="http://schemas.openxmlformats.org/officeDocument/2006/relationships/slideLayout" Target="../slideLayouts/slideLayout41.xml"/><Relationship Id="rId36" Type="http://schemas.openxmlformats.org/officeDocument/2006/relationships/slideLayout" Target="../slideLayouts/slideLayout42.xml"/><Relationship Id="rId37" Type="http://schemas.openxmlformats.org/officeDocument/2006/relationships/slideLayout" Target="../slideLayouts/slideLayout43.xml"/><Relationship Id="rId38" Type="http://schemas.openxmlformats.org/officeDocument/2006/relationships/slideLayout" Target="../slideLayouts/slideLayout44.xml"/><Relationship Id="rId39" Type="http://schemas.openxmlformats.org/officeDocument/2006/relationships/slideLayout" Target="../slideLayouts/slideLayout45.xml"/><Relationship Id="rId40" Type="http://schemas.openxmlformats.org/officeDocument/2006/relationships/slideLayout" Target="../slideLayouts/slideLayout46.xml"/><Relationship Id="rId41" Type="http://schemas.openxmlformats.org/officeDocument/2006/relationships/slideLayout" Target="../slideLayouts/slideLayout47.xml"/><Relationship Id="rId42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92F9-D2B9-405C-B974-E47AA8D637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9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9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1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2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4D97-0039-404B-B160-DDBD5C161034}" type="slidenum"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8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8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0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2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BF35-449F-4FB0-8A67-83A1DB0E24CB}" type="slidenum"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1"/>
    <p:sldLayoutId id="2147483689" r:id="rId32"/>
    <p:sldLayoutId id="2147483690" r:id="rId33"/>
    <p:sldLayoutId id="2147483691" r:id="rId34"/>
    <p:sldLayoutId id="2147483692" r:id="rId35"/>
    <p:sldLayoutId id="2147483693" r:id="rId36"/>
    <p:sldLayoutId id="2147483694" r:id="rId37"/>
    <p:sldLayoutId id="2147483695" r:id="rId38"/>
    <p:sldLayoutId id="2147483696" r:id="rId39"/>
    <p:sldLayoutId id="2147483697" r:id="rId40"/>
    <p:sldLayoutId id="2147483698" r:id="rId41"/>
    <p:sldLayoutId id="2147483699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&#23487;&#33293;&#20869;&#21153;&#36890;&#25253;(&#30007;)10.3.10.xls" TargetMode="External"/><Relationship Id="rId2" Type="http://schemas.openxmlformats.org/officeDocument/2006/relationships/hyperlink" Target="file:///&#23487;&#33293;&#20869;&#21153;&#36890;&#25253;(&#30007;)10.3.10.xls" TargetMode="External"/><Relationship Id="rId3" Type="http://schemas.openxmlformats.org/officeDocument/2006/relationships/hyperlink" Target="file:///&#23487;&#33293;&#20869;&#21153;&#36890;&#25253;(&#30007;)10.3.10.xls" TargetMode="External"/><Relationship Id="rId4" Type="http://schemas.openxmlformats.org/officeDocument/2006/relationships/hyperlink" Target="file:///&#23487;&#33293;&#20869;&#21153;&#36890;&#25253;(&#30007;)10.3.10.xls" TargetMode="External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72720" y="2386080"/>
            <a:ext cx="73407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知识改变命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85440" y="32767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奋斗成就未来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-360" y="1676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虽然我们不能改变父母的过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51920" y="350532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但是我们可以改变父母的将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9144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下苦功，三个字，一个叫下，一个叫苦，一个叫功，一定要振作精神，下苦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日日行，不怕千万里；常常做，不怕千万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一个人只要强烈地坚持不懈地追求，他就能达到目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无论什么时候，不管遇到什么情况，我绝不允许自己有一点点灰心丧气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520" y="1828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留成功留失败青春无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流汗水流血水人生无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影响孩子成绩的十大坏习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习惯是经过反复练习而形成的较为稳定的行为特征，好的习惯可以带来好的结果，而坏的习惯只能带来不好的结果，在许多时候，孩子的学习成绩不理想，就是由于有一些坏的习惯在作怪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无计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习上不明白自己要干什么，该干什么，总是让老师和家长在后面推者屁股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凡事预则利、不预则废，成绩好的学生一般计划性都很强，学年有学年的总目标，学期有学期的规划，每周有每周的计划，每日有每日的任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不定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习时间不固定，每天必要的学习时间无法保证，学习时完全凭情绪，情绪好的时候可以穴道深夜，情绪不好的时候，就什么都干不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知识是日积月累起来的饿，人不可能在极短的时间内把大量的学习内容输入到大脑里去，饥一顿饱一顿，三天打鱼两天晒网，只能是事倍功半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59880" y="380880"/>
            <a:ext cx="8780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自信——成功的选择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我们在学习和事业的攀登中，总要越过险峻的高山，度过茫茫的阔水。而自信心就是登山的云梯，渡水的飞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人，只有自信，才能自强不息，才能使人为自己的愿望或理想而努力奋斗。只有自信，才可能使人在艰难的事业中保持必胜的信念，才能使人有勇气攀登科学的高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830520" cy="12189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不定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每天该完成的学习任务没有完成，喜欢搞集中复习、临考突击，每天该记忆的内容欠帐，该做完的作业欠帐，该复习的东西还欠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要想较好地掌握知识，必须靠每日的积累，没有量的积累，便不会有质的飞跃。靠集中复习、临靠突击学到的知识，不但数量少，而且质量差，经不起严格的考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马马虎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上课时忘带课本和学习用具，抄写时黑板上明明是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可抄下来就变成了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作业经常能一最快的速度完成，但字迹潦草、错误率高，考试时草稿纸上明明做对了可就是忘记誊写到试卷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马虎在孩子中间似乎已经成为一中通病，如果不加注意、不予重视，孩子的学习成绩必将会受到严重的影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时一心二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上课时经常精神溜号，甚至做一些与学习毫不相干的事；自习课时常沉迷于空想，或者东翻西看，浪费时间；做作业或复习时，常做一些小动作，一边听歌一边写文章、算题，哪里说话哪搭茬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专心致志是学生必须养成的起码的学习习惯，一般人不可能同时高质量地做好两项或两项以上的事情，所谓“目不能两视而明，耳不能两听而聪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066680" y="22860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一、主动的学习态度是胜利的前提　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23880" y="243828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除了你自己，没有人能帮你学会什么。</a:t>
            </a:r>
            <a:r>
              <a:rPr b="1" lang="zh-CN" sz="3600" spc="-1" strike="noStrike">
                <a:solidFill>
                  <a:srgbClr val="2f1311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前苏联的一位教育学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43000" y="434340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比如： </a:t>
            </a:r>
            <a:r>
              <a:rPr b="1" lang="zh-CN" sz="36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主动的练习，主动的听课，主动的预习，主动的复习……</a:t>
            </a:r>
            <a:r>
              <a:rPr b="1" lang="zh-CN" sz="36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懂的东西也不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过于害羞，虽然学习上有许多没有搞懂的问题，但也不敢问老师；太爱面子，喜欢打肿脸充胖子，不懂也装懂，不会的东西从来也不向别人请教；学习上心里没数，自己也搞不清楚哪些地方懂，哪些地方不懂，似乎什么都懂一点，但又没有完全掌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学习本身就是一个不断提高自己、不断完善自己的过程，“三人行必有我师”，况且还在求学中的学生。家长要提醒和鼓励孩子不仅要不耻下问，而且还要不羞与下问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错也不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业本发到手里，虽然上面有许多老师的订正，可很少往心里去；测验题和考试卷基本都是只看看分数便扔到一边，从不认真分析原因、检查和修改错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习是一个积累知识的过程，同时也是一个补漏洞的过程。一门课程，知识漏洞越少，说明学得越号，考试时的成绩也会提高，那些考试时出错的地方往往是孩子知识漏洞最大的地方。家长可以帮孩子整理一个“错题集”，每次作业、测验和考试之后，让孩子将其中做错的题目都记录下来，这些很可能就是孩子的知识漏洞，家长要督促孩子经常看看这些题目，时间长了漏洞就会补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前不预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即使老师有要求，也很少预习第二天要学的内容。预习历来是教师对学生学习的一个重要要求，孩子在上课前没有预习，听课时对老师所讲内容的理解和把握会大打折扣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课注意力不集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课堂上思想开小差、易分神、小动作多、坐不住、爱说话，快到下课时就更听不进去了，心里早已在课后的娱乐之中。课堂对孩子的学习至关重要，老师是孩子学习的指路人，如果课堂学习的重点、难点孩子搞不明白，课下花几倍的时间也不一定能补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复习就做作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做作业前不看书，不看参考资料，不先消化和理解所学的内容。作业拿过来就做，做完了就万事大击。作业是每个学生必须要独立完成的任务，它的目的是要让学生正确的理解、熟练地记忆所学的生词、语法、定义、定理和公式等，是要让学生更好得巩固所学的知识。如果孩子不求甚解地完成了作业，根本就起不到这些作用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2819520" y="380880"/>
            <a:ext cx="3047760" cy="10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畅谈理想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23" name=""/>
          <p:cNvSpPr/>
          <p:nvPr/>
        </p:nvSpPr>
        <p:spPr>
          <a:xfrm>
            <a:off x="971640" y="1828800"/>
            <a:ext cx="7777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理想是人奋斗的目标，是人生活的希望，没有理想的青春，就像没有太阳的早晨。没有理想的人，就像一台没安马达的机器。对我们青年人来说，理想就更重要了，因为我们是祖国的未来，如果我们胸无大志，那我们的国家未来就没有希望了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本周工作重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仪容仪表的检查（饰品、学生证、校服、手机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p3 mp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大褂套小褂、头型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宿舍卫生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宿舍内务通报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(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男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)10.3.10.xls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室外卫生和教室卫生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推门抬头、自习纪律，课前两分钟准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宿舍午晚休纪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队列训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习上厕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早晚饭后纪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开学到现在的通报成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号  仪容仪表：郑志鹏、刘嘉楠、李威、田慧明  共扣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八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号  男生内务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西柜顶乱   共扣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号  仪容仪表：杜金珅  姜耀  张泞洁   共扣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六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号  男生内务：郑志朋 姜耀 李彦然  康恩铭 李彬 刘嘉楠 梁超  共扣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合计——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3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优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午晚休纪律方面表现良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课前一分钟准备较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表现不足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纪律性仍不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自制力较差，稳定性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自我要求较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积极性仍然不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懒散、拖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今后的努力方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确保卫生方面不扣分或尽可能的少扣分，特别是宿舍和室外防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纪律方面继续保持，自习不讨论，严格遵守课前一分钟的准备；午晚休更是严格要求自己，确保充足的睡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积极参与班级的各项活动，坚决服从小组长，班委的领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争创常规前三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447920" y="7621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二、上课听讲是基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41148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誰忽视了上課时间，意味着放弃高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52480" y="259092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笔不离手，词不离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班内成立监督机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自习（包括早自习，活动课，晚自习），上厕所，说话，转头，借东西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课间疯打闹，上课迟到，课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钟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教师值日和倒垃圾，擦黑板，桌下乱扔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宿舍卫生检查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操，集会，升旗和眼保健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校服，学生证，发型，耳坠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说脏话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口香糖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教室卫生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防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垃圾桶及卫生工具的摆放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收钱：各小组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你永远要记得你所想要的，而不是你所恐惧的。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假如我不能，我一定要，假如我一定要，我就一定能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同学们：让我们以现在为起点，总结过去的得失，以拼搏者的姿态对待这个月的学习和工作，以舍我其谁的信念迎接下次月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拼搏吧，同学们为了你们心中不灭的梦想，为了父母的微笑，为了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600200" y="91440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三、课前预习</a:t>
            </a:r>
            <a:r>
              <a:rPr b="1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+</a:t>
            </a:r>
            <a:r>
              <a:rPr b="1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课后及时复习事半功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057400" y="32767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600200" y="83808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四、如果你一天没有问题的话，  那就意味着你没有收获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523880" y="685800"/>
            <a:ext cx="723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华文行楷"/>
                <a:ea typeface="华文行楷"/>
              </a:rPr>
              <a:t>五：分数 可以上下浮动，但信心和干劲不能浮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600200" y="53352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华文行楷"/>
                <a:ea typeface="华文行楷"/>
              </a:rPr>
              <a:t>六：没有永远的劣势学科和永远的优势学科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676520" y="685800"/>
            <a:ext cx="72388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华文行楷"/>
                <a:ea typeface="华文行楷"/>
              </a:rPr>
              <a:t>七：认真和细心，不仅是一种态度 ，更是一种能力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371600" y="1981080"/>
            <a:ext cx="6248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今天你靠父母，明天父母靠谁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9-04T23:47:4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