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5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36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51424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575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36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30E4-A2B2-4F3C-846F-01234DD7D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7FE8-7A58-40EC-8008-29E583900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4EB1-288B-473D-9C3F-F3891AC66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FDD9-FBB1-40ED-A1B3-B9488E769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D5A7-D0C3-4162-9E68-A48A9E887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09480" y="7652520"/>
            <a:ext cx="13716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C270-E6BC-478B-8413-4DE003B6D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77E1-63F6-4D1A-AC65-F474E28F0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CE94-E808-41E5-8652-19E9A6EAE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58F6-C83A-4F2B-BE91-01CFDEA3B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EA25-8798-4CE2-BC61-A0B3797BE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B7DC-D771-4679-A0CD-CE11BFBA2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5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36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51424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575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636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89BF-62B5-453F-A554-5DA880A8B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D5766-D665-4F1D-9D5C-BDBEC0E74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198EC-B270-47E0-8ECF-4C74DB14A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F8D87-6669-4FC9-93E4-86B36B0B6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55DA0-61E2-450E-92F9-D794802B5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FC436-5164-4A51-82D0-AD70F72C6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609480" y="7652520"/>
            <a:ext cx="13716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2D6C0-6767-4ACB-9E14-8553A2802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AB726-32B7-415E-BA9E-31E81178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E336C-E238-4DA9-9BE9-CD8E55578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696AC-0EAF-4CF0-A6AB-22AF95AC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69E1C-0E57-4A9D-BD98-BA2201D00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3A62D-4966-4C9F-8E1B-A97EADE2B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5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636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251424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4575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636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B4535-E056-438F-B5F6-EB2836E01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A555A-8AF5-409C-9171-9F9FA4BA1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E4D1C-F7CB-495F-8174-6ACD54164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0019D-7AD7-45DE-BFC9-361559BC6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36558-A048-4487-839A-F1E25DE37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DCDC7-BDD2-40B8-BB72-8FB72C2FC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609480" y="7652520"/>
            <a:ext cx="13716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2F1B8-71A6-423B-A331-FF91E7C9D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9EFD7-8E42-4D68-A9AB-5F4C6134D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1FDA7-5808-4C2B-BE55-C499661D7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E43A6-9FC3-41AE-8029-84E746EFF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7D5F6-164E-40E7-9C5E-5B5634749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32373-E732-43FB-9A9F-B18063E14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5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636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251424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4575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636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94968-D58F-488D-982D-E3BE24845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09480" y="7652520"/>
            <a:ext cx="13716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4.wmf"/><Relationship Id="rId17" Type="http://schemas.openxmlformats.org/officeDocument/2006/relationships/image" Target="../media/image4.wmf"/><Relationship Id="rId18" Type="http://schemas.openxmlformats.org/officeDocument/2006/relationships/image" Target="../media/image4.wmf"/><Relationship Id="rId19" Type="http://schemas.openxmlformats.org/officeDocument/2006/relationships/image" Target="../media/image4.wmf"/><Relationship Id="rId20" Type="http://schemas.openxmlformats.org/officeDocument/2006/relationships/image" Target="../media/image4.wmf"/><Relationship Id="rId21" Type="http://schemas.openxmlformats.org/officeDocument/2006/relationships/image" Target="../media/image4.wmf"/><Relationship Id="rId22" Type="http://schemas.openxmlformats.org/officeDocument/2006/relationships/image" Target="../media/image4.wmf"/><Relationship Id="rId23" Type="http://schemas.openxmlformats.org/officeDocument/2006/relationships/image" Target="../media/image4.wmf"/><Relationship Id="rId24" Type="http://schemas.openxmlformats.org/officeDocument/2006/relationships/image" Target="../media/image4.wmf"/><Relationship Id="rId25" Type="http://schemas.openxmlformats.org/officeDocument/2006/relationships/image" Target="../media/image4.wmf"/><Relationship Id="rId26" Type="http://schemas.openxmlformats.org/officeDocument/2006/relationships/image" Target="../media/image4.wmf"/><Relationship Id="rId27" Type="http://schemas.openxmlformats.org/officeDocument/2006/relationships/image" Target="../media/image4.wmf"/><Relationship Id="rId28" Type="http://schemas.openxmlformats.org/officeDocument/2006/relationships/image" Target="../media/image4.wmf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image" Target="../media/image6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slideLayout" Target="../slideLayouts/slideLayout25.xml"/><Relationship Id="rId35" Type="http://schemas.openxmlformats.org/officeDocument/2006/relationships/slideLayout" Target="../slideLayouts/slideLayout26.xml"/><Relationship Id="rId36" Type="http://schemas.openxmlformats.org/officeDocument/2006/relationships/slideLayout" Target="../slideLayouts/slideLayout27.xml"/><Relationship Id="rId37" Type="http://schemas.openxmlformats.org/officeDocument/2006/relationships/slideLayout" Target="../slideLayouts/slideLayout28.xml"/><Relationship Id="rId38" Type="http://schemas.openxmlformats.org/officeDocument/2006/relationships/slideLayout" Target="../slideLayouts/slideLayout29.xml"/><Relationship Id="rId39" Type="http://schemas.openxmlformats.org/officeDocument/2006/relationships/slideLayout" Target="../slideLayouts/slideLayout30.xml"/><Relationship Id="rId40" Type="http://schemas.openxmlformats.org/officeDocument/2006/relationships/slideLayout" Target="../slideLayouts/slideLayout31.xml"/><Relationship Id="rId41" Type="http://schemas.openxmlformats.org/officeDocument/2006/relationships/slideLayout" Target="../slideLayouts/slideLayout32.xml"/><Relationship Id="rId42" Type="http://schemas.openxmlformats.org/officeDocument/2006/relationships/slideLayout" Target="../slideLayouts/slideLayout33.xml"/><Relationship Id="rId43" Type="http://schemas.openxmlformats.org/officeDocument/2006/relationships/slideLayout" Target="../slideLayouts/slideLayout34.xml"/><Relationship Id="rId44" Type="http://schemas.openxmlformats.org/officeDocument/2006/relationships/slideLayout" Target="../slideLayouts/slideLayout35.xml"/><Relationship Id="rId4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4.wmf"/><Relationship Id="rId17" Type="http://schemas.openxmlformats.org/officeDocument/2006/relationships/image" Target="../media/image4.wmf"/><Relationship Id="rId18" Type="http://schemas.openxmlformats.org/officeDocument/2006/relationships/image" Target="../media/image4.wmf"/><Relationship Id="rId19" Type="http://schemas.openxmlformats.org/officeDocument/2006/relationships/image" Target="../media/image4.wmf"/><Relationship Id="rId20" Type="http://schemas.openxmlformats.org/officeDocument/2006/relationships/image" Target="../media/image4.wmf"/><Relationship Id="rId21" Type="http://schemas.openxmlformats.org/officeDocument/2006/relationships/image" Target="../media/image4.wmf"/><Relationship Id="rId22" Type="http://schemas.openxmlformats.org/officeDocument/2006/relationships/image" Target="../media/image4.wmf"/><Relationship Id="rId23" Type="http://schemas.openxmlformats.org/officeDocument/2006/relationships/image" Target="../media/image4.wmf"/><Relationship Id="rId24" Type="http://schemas.openxmlformats.org/officeDocument/2006/relationships/image" Target="../media/image4.wmf"/><Relationship Id="rId25" Type="http://schemas.openxmlformats.org/officeDocument/2006/relationships/image" Target="../media/image4.wmf"/><Relationship Id="rId26" Type="http://schemas.openxmlformats.org/officeDocument/2006/relationships/image" Target="../media/image4.wmf"/><Relationship Id="rId27" Type="http://schemas.openxmlformats.org/officeDocument/2006/relationships/image" Target="../media/image4.wmf"/><Relationship Id="rId28" Type="http://schemas.openxmlformats.org/officeDocument/2006/relationships/image" Target="../media/image4.wmf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slideLayout" Target="../slideLayouts/slideLayout37.xml"/><Relationship Id="rId32" Type="http://schemas.openxmlformats.org/officeDocument/2006/relationships/slideLayout" Target="../slideLayouts/slideLayout38.xml"/><Relationship Id="rId33" Type="http://schemas.openxmlformats.org/officeDocument/2006/relationships/slideLayout" Target="../slideLayouts/slideLayout39.xml"/><Relationship Id="rId34" Type="http://schemas.openxmlformats.org/officeDocument/2006/relationships/slideLayout" Target="../slideLayouts/slideLayout40.xml"/><Relationship Id="rId35" Type="http://schemas.openxmlformats.org/officeDocument/2006/relationships/slideLayout" Target="../slideLayouts/slideLayout41.xml"/><Relationship Id="rId36" Type="http://schemas.openxmlformats.org/officeDocument/2006/relationships/slideLayout" Target="../slideLayouts/slideLayout42.xml"/><Relationship Id="rId37" Type="http://schemas.openxmlformats.org/officeDocument/2006/relationships/slideLayout" Target="../slideLayouts/slideLayout43.xml"/><Relationship Id="rId38" Type="http://schemas.openxmlformats.org/officeDocument/2006/relationships/slideLayout" Target="../slideLayouts/slideLayout44.xml"/><Relationship Id="rId39" Type="http://schemas.openxmlformats.org/officeDocument/2006/relationships/slideLayout" Target="../slideLayouts/slideLayout45.xml"/><Relationship Id="rId40" Type="http://schemas.openxmlformats.org/officeDocument/2006/relationships/slideLayout" Target="../slideLayouts/slideLayout46.xml"/><Relationship Id="rId41" Type="http://schemas.openxmlformats.org/officeDocument/2006/relationships/slideLayout" Target="../slideLayouts/slideLayout47.xml"/><Relationship Id="rId42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4303800"/>
            <a:ext cx="9144000" cy="25542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60948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1" name="" descr=""/>
            <p:cNvPicPr/>
            <p:nvPr/>
          </p:nvPicPr>
          <p:blipFill>
            <a:blip r:embed="rId2"/>
            <a:stretch/>
          </p:blipFill>
          <p:spPr>
            <a:xfrm>
              <a:off x="1676520" y="4772160"/>
              <a:ext cx="7467480" cy="20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685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4"/>
            <a:stretch/>
          </p:blipFill>
          <p:spPr>
            <a:xfrm>
              <a:off x="304920" y="1371600"/>
              <a:ext cx="8534160" cy="377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36054-412B-45FD-B3AA-490B85CDF39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550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86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90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91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92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93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5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01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2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3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4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5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6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09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10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1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2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1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29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99473-C26E-4BFA-B409-68EA1D02FB1D}" type="slidenum">
              <a:rPr b="0" lang="zh-CN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4"/>
    <p:sldLayoutId id="2147483676" r:id="rId35"/>
    <p:sldLayoutId id="2147483677" r:id="rId36"/>
    <p:sldLayoutId id="2147483678" r:id="rId37"/>
    <p:sldLayoutId id="2147483679" r:id="rId38"/>
    <p:sldLayoutId id="2147483680" r:id="rId39"/>
    <p:sldLayoutId id="2147483681" r:id="rId40"/>
    <p:sldLayoutId id="2147483682" r:id="rId41"/>
    <p:sldLayoutId id="2147483683" r:id="rId42"/>
    <p:sldLayoutId id="2147483684" r:id="rId43"/>
    <p:sldLayoutId id="2147483685" r:id="rId44"/>
    <p:sldLayoutId id="2147483686" r:id="rId4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82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86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87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88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89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91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9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3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4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05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06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7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8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9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0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1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4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5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6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7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8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9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0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1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2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3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4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25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dt" idx="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ftr" idx="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sldNum" idx="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E5D70-8D98-4CC0-9364-FAAFF885D329}" type="slidenum">
              <a:rPr b="0" lang="zh-CN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1"/>
    <p:sldLayoutId id="2147483689" r:id="rId32"/>
    <p:sldLayoutId id="2147483690" r:id="rId33"/>
    <p:sldLayoutId id="2147483691" r:id="rId34"/>
    <p:sldLayoutId id="2147483692" r:id="rId35"/>
    <p:sldLayoutId id="2147483693" r:id="rId36"/>
    <p:sldLayoutId id="2147483694" r:id="rId37"/>
    <p:sldLayoutId id="2147483695" r:id="rId38"/>
    <p:sldLayoutId id="2147483696" r:id="rId39"/>
    <p:sldLayoutId id="2147483697" r:id="rId40"/>
    <p:sldLayoutId id="2147483698" r:id="rId41"/>
    <p:sldLayoutId id="2147483699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&#23487;&#33293;&#20869;&#21153;&#36890;&#25253;(&#30007;)10.3.10.xls" TargetMode="External"/><Relationship Id="rId2" Type="http://schemas.openxmlformats.org/officeDocument/2006/relationships/hyperlink" Target="file:///&#23487;&#33293;&#20869;&#21153;&#36890;&#25253;(&#30007;)10.3.10.xls" TargetMode="External"/><Relationship Id="rId3" Type="http://schemas.openxmlformats.org/officeDocument/2006/relationships/hyperlink" Target="file:///&#23487;&#33293;&#20869;&#21153;&#36890;&#25253;(&#30007;)10.3.10.xls" TargetMode="External"/><Relationship Id="rId4" Type="http://schemas.openxmlformats.org/officeDocument/2006/relationships/hyperlink" Target="file:///&#23487;&#33293;&#20869;&#21153;&#36890;&#25253;(&#30007;)10.3.10.xls" TargetMode="External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72720" y="2386080"/>
            <a:ext cx="73407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知识改变命运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685440" y="327672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奋斗成就未来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-360" y="16761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虽然我们不能改变父母的过去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151920" y="3505320"/>
            <a:ext cx="85345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但是我们可以改变父母的将来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0" y="9144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下苦功，三个字，一个叫下，一个叫苦，一个叫功，一定要振作精神，下苦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日日行，不怕千万里；常常做，不怕千万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一个人只要强烈地坚持不懈地追求，他就能达到目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无论什么时候，不管遇到什么情况，我绝不允许自己有一点点灰心丧气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80520" y="18284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留成功留失败青春无悔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380880" y="3886200"/>
            <a:ext cx="8763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流汗水流血水人生无泪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影响孩子成绩的十大坏习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习惯是经过反复练习而形成的较为稳定的行为特征，好的习惯可以带来好的结果，而坏的习惯只能带来不好的结果，在许多时候，孩子的学习成绩不理想，就是由于有一些坏的习惯在作怪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习无计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学习上不明白自己要干什么，该干什么，总是让老师和家长在后面推者屁股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凡事预则利、不预则废，成绩好的学生一般计划性都很强，学年有学年的总目标，学期有学期的规划，每周有每周的计划，每日有每日的任务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习不定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学习时间不固定，每天必要的学习时间无法保证，学习时完全凭情绪，情绪好的时候可以穴道深夜，情绪不好的时候，就什么都干不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知识是日积月累起来的饿，人不可能在极短的时间内把大量的学习内容输入到大脑里去，饥一顿饱一顿，三天打鱼两天晒网，只能是事倍功半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59880" y="380880"/>
            <a:ext cx="8780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自信——成功的选择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仿宋_GB2312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仿宋_GB2312"/>
              </a:rPr>
              <a:t>我们在学习和事业的攀登中，总要越过险峻的高山，度过茫茫的阔水。而自信心就是登山的云梯，渡水的飞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仿宋_GB2312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仿宋_GB2312"/>
              </a:rPr>
              <a:t>人，只有自信，才能自强不息，才能使人为自己的愿望或理想而努力奋斗。只有自信，才可能使人在艰难的事业中保持必胜的信念，才能使人有勇气攀登科学的高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2209680" y="304920"/>
            <a:ext cx="830520" cy="12189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习不定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每天该完成的学习任务没有完成，喜欢搞集中复习、临考突击，每天该记忆的内容欠帐，该做完的作业欠帐，该复习的东西还欠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要想较好地掌握知识，必须靠每日的积累，没有量的积累，便不会有质的飞跃。靠集中复习、临靠突击学到的知识，不但数量少，而且质量差，经不起严格的考验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习马马虎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上课时忘带课本和学习用具，抄写时黑板上明明是“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”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可抄下来就变成了“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d”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作业经常能一最快的速度完成，但字迹潦草、错误率高，考试时草稿纸上明明做对了可就是忘记誊写到试卷上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马虎在孩子中间似乎已经成为一中通病，如果不加注意、不予重视，孩子的学习成绩必将会受到严重的影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习时一心二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上课时经常精神溜号，甚至做一些与学习毫不相干的事；自习课时常沉迷于空想，或者东翻西看，浪费时间；做作业或复习时，常做一些小动作，一边听歌一边写文章、算题，哪里说话哪搭茬儿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专心致志是学生必须养成的起码的学习习惯，一般人不可能同时高质量地做好两项或两项以上的事情，所谓“目不能两视而明，耳不能两听而聪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1066680" y="228600"/>
            <a:ext cx="8077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2f1311"/>
                </a:solidFill>
                <a:latin typeface="Times New Roman"/>
                <a:ea typeface="华文行楷"/>
              </a:rPr>
              <a:t>一、主动的学习态度是胜利的前提　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523880" y="243828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f1311"/>
                </a:solidFill>
                <a:latin typeface="Times New Roman"/>
                <a:ea typeface="华文行楷"/>
              </a:rPr>
              <a:t>除了你自己，没有人能帮你学会什么。</a:t>
            </a:r>
            <a:r>
              <a:rPr b="1" lang="zh-CN" sz="3600" spc="-1" strike="noStrike">
                <a:solidFill>
                  <a:srgbClr val="2f1311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2f1311"/>
                </a:solidFill>
                <a:latin typeface="Times New Roman"/>
                <a:ea typeface="华文行楷"/>
              </a:rPr>
              <a:t>前苏联的一位教育学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143000" y="4343400"/>
            <a:ext cx="7620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f1311"/>
                </a:solidFill>
                <a:latin typeface="Times New Roman"/>
                <a:ea typeface="华文行楷"/>
              </a:rPr>
              <a:t>比如： </a:t>
            </a:r>
            <a:r>
              <a:rPr b="1" lang="zh-CN" sz="3600" spc="-1" strike="noStrike">
                <a:solidFill>
                  <a:srgbClr val="2f1311"/>
                </a:solidFill>
                <a:latin typeface="Times New Roman"/>
                <a:ea typeface="华文行楷"/>
              </a:rPr>
              <a:t>主动的练习，主动的听课，主动的预习，主动的复习……</a:t>
            </a:r>
            <a:r>
              <a:rPr b="1" lang="zh-CN" sz="3600" spc="-1" strike="noStrike">
                <a:solidFill>
                  <a:srgbClr val="2f1311"/>
                </a:solidFill>
                <a:latin typeface="Times New Roman"/>
                <a:ea typeface="华文行楷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懂的东西也不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过于害羞，虽然学习上有许多没有搞懂的问题，但也不敢问老师；太爱面子，喜欢打肿脸充胖子，不懂也装懂，不会的东西从来也不向别人请教；学习上心里没数，自己也搞不清楚哪些地方懂，哪些地方不懂，似乎什么都懂一点，但又没有完全掌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学习本身就是一个不断提高自己、不断完善自己的过程，“三人行必有我师”，况且还在求学中的学生。家长要提醒和鼓励孩子不仅要不耻下问，而且还要不羞与下问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错也不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作业本发到手里，虽然上面有许多老师的订正，可很少往心里去；测验题和考试卷基本都是只看看分数便扔到一边，从不认真分析原因、检查和修改错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习是一个积累知识的过程，同时也是一个补漏洞的过程。一门课程，知识漏洞越少，说明学得越号，考试时的成绩也会提高，那些考试时出错的地方往往是孩子知识漏洞最大的地方。家长可以帮孩子整理一个“错题集”，每次作业、测验和考试之后，让孩子将其中做错的题目都记录下来，这些很可能就是孩子的知识漏洞，家长要督促孩子经常看看这些题目，时间长了漏洞就会补上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课前不预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即使老师有要求，也很少预习第二天要学的内容。预习历来是教师对学生学习的一个重要要求，孩子在上课前没有预习，听课时对老师所讲内容的理解和把握会大打折扣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上课注意力不集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课堂上思想开小差、易分神、小动作多、坐不住、爱说话，快到下课时就更听不进去了，心里早已在课后的娱乐之中。课堂对孩子的学习至关重要，老师是孩子学习的指路人，如果课堂学习的重点、难点孩子搞不明白，课下花几倍的时间也不一定能补上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复习就做作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做作业前不看书，不看参考资料，不先消化和理解所学的内容。作业拿过来就做，做完了就万事大击。作业是每个学生必须要独立完成的任务，它的目的是要让学生正确的理解、熟练地记忆所学的生词、语法、定义、定理和公式等，是要让学生更好得巩固所学的知识。如果孩子不求甚解地完成了作业，根本就起不到这些作用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2819520" y="380880"/>
            <a:ext cx="3047760" cy="101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畅谈理想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323" name=""/>
          <p:cNvSpPr/>
          <p:nvPr/>
        </p:nvSpPr>
        <p:spPr>
          <a:xfrm>
            <a:off x="971640" y="1828800"/>
            <a:ext cx="77770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理想是人奋斗的目标，是人生活的希望，没有理想的青春，就像没有太阳的早晨。没有理想的人，就像一台没安马达的机器。对我们青年人来说，理想就更重要了，因为我们是祖国的未来，如果我们胸无大志，那我们的国家未来就没有希望了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Times New Roman"/>
              </a:rPr>
              <a:t>本周工作重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仪容仪表的检查（饰品、学生证、校服、手机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p3 mp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大褂套小褂、头型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宿舍卫生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宿舍内务通报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(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男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)10.3.10.xls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，室外卫生和教室卫生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推门抬头、自习纪律，课前两分钟准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宿舍午晚休纪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队列训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自习上厕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早晚饭后纪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开学到现在的通报成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号  仪容仪表：郑志鹏、刘嘉楠、李威、田慧明  共扣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八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号  男生内务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0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0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西柜顶乱   共扣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四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号  仪容仪表：杜金珅  姜耀  张泞洁   共扣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六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号  男生内务：郑志朋 姜耀 李彦然  康恩铭 李彬 刘嘉楠 梁超  共扣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1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合计——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3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优势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午晚休纪律方面表现良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课前一分钟准备较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表现不足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纪律性仍不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自制力较差，稳定性不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自我要求较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积极性仍然不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懒散、拖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今后的努力方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确保卫生方面不扣分或尽可能的少扣分，特别是宿舍和室外防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纪律方面继续保持，自习不讨论，严格遵守课前一分钟的准备；午晚休更是严格要求自己，确保充足的睡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积极参与班级的各项活动，坚决服从小组长，班委的领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争创常规前三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447920" y="762120"/>
            <a:ext cx="723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f1311"/>
                </a:solidFill>
                <a:latin typeface="Times New Roman"/>
                <a:ea typeface="华文行楷"/>
              </a:rPr>
              <a:t>二、上课听讲是基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447920" y="41148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f1311"/>
                </a:solidFill>
                <a:latin typeface="Times New Roman"/>
                <a:ea typeface="华文行楷"/>
              </a:rPr>
              <a:t>誰忽视了上課时间，意味着放弃高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752480" y="2590920"/>
            <a:ext cx="518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f1311"/>
                </a:solidFill>
                <a:latin typeface="Times New Roman"/>
                <a:ea typeface="华文行楷"/>
              </a:rPr>
              <a:t>笔不离手，词不离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班内成立监督机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自习（包括早自习，活动课，晚自习），上厕所，说话，转头，借东西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课间疯打闹，上课迟到，课间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分钟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教师值日和倒垃圾，擦黑板，桌下乱扔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宿舍卫生检查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人）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三操，集会，升旗和眼保健操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校服，学生证，发型，耳坠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说脏话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口香糖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教室卫生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防区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垃圾桶及卫生工具的摆放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收钱：各小组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你永远要记得你所想要的，而不是你所恐惧的。”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假如我不能，我一定要，假如我一定要，我就一定能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同学们：让我们以现在为起点，总结过去的得失，以拼搏者的姿态对待这个月的学习和工作，以舍我其谁的信念迎接下次月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拼搏吧，同学们为了你们心中不灭的梦想，为了父母的微笑，为了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1600200" y="914400"/>
            <a:ext cx="6934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f1311"/>
                </a:solidFill>
                <a:latin typeface="Times New Roman"/>
                <a:ea typeface="华文行楷"/>
              </a:rPr>
              <a:t>三、课前预习</a:t>
            </a:r>
            <a:r>
              <a:rPr b="1" lang="zh-CN" sz="6000" spc="-1" strike="noStrike">
                <a:solidFill>
                  <a:srgbClr val="2f1311"/>
                </a:solidFill>
                <a:latin typeface="Times New Roman"/>
                <a:ea typeface="华文行楷"/>
              </a:rPr>
              <a:t>+</a:t>
            </a:r>
            <a:r>
              <a:rPr b="1" lang="zh-CN" sz="6000" spc="-1" strike="noStrike">
                <a:solidFill>
                  <a:srgbClr val="2f1311"/>
                </a:solidFill>
                <a:latin typeface="Times New Roman"/>
                <a:ea typeface="华文行楷"/>
              </a:rPr>
              <a:t>课后及时复习事半功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057400" y="327672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600200" y="838080"/>
            <a:ext cx="716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f1311"/>
                </a:solidFill>
                <a:latin typeface="Times New Roman"/>
                <a:ea typeface="华文行楷"/>
              </a:rPr>
              <a:t>四、如果你一天没有问题的话，  那就意味着你没有收获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523880" y="685800"/>
            <a:ext cx="7239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f1311"/>
                </a:solidFill>
                <a:latin typeface="华文行楷"/>
                <a:ea typeface="华文行楷"/>
              </a:rPr>
              <a:t>五：分数 可以上下浮动，但信心和干劲不能浮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600200" y="533520"/>
            <a:ext cx="6477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f1311"/>
                </a:solidFill>
                <a:latin typeface="华文行楷"/>
                <a:ea typeface="华文行楷"/>
              </a:rPr>
              <a:t>六：没有永远的劣势学科和永远的优势学科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676520" y="685800"/>
            <a:ext cx="723888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f1311"/>
                </a:solidFill>
                <a:latin typeface="华文行楷"/>
                <a:ea typeface="华文行楷"/>
              </a:rPr>
              <a:t>七：认真和细心，不仅是一种态度 ，更是一种能力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371600" y="1981080"/>
            <a:ext cx="6248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今天你靠父母，明天父母靠谁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9-04T23:47:41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