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34.jpeg" ContentType="image/jpeg"/>
  <Override PartName="/ppt/media/image7.jpeg" ContentType="image/jpeg"/>
  <Override PartName="/ppt/media/image44.png" ContentType="image/png"/>
  <Override PartName="/ppt/media/camera.wav" ContentType="audio/x-wav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38.png" ContentType="image/png"/>
  <Override PartName="/ppt/media/image41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28.jpeg" ContentType="image/jpeg"/>
  <Override PartName="/ppt/media/whoosh.wav" ContentType="audio/x-wav"/>
  <Override PartName="/ppt/media/image51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7C2A-F8BE-41DA-A45B-168F1981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9CB-A6DE-499F-9BCF-50A12F9B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3FCB-CD68-478B-800F-BC26FD40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E7A-C6A9-49F7-8D01-AC5E0055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79B3-EE40-4500-AC25-62179351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2315-444E-4AA6-B207-EE2F48FB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D2EF-1426-4997-8DFD-C4A00291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28FD-0FB6-42AF-A0A6-55F7411F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29D4-CC24-457B-B3D4-818A886F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6A5A-8838-4AE2-86E5-8EB59FCD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488D-983B-4302-AC92-279B551F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1E2-AC92-4B3D-9E84-E91AA251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74CA-57DF-40D0-B6D0-493D6B0A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E6AF-2344-463F-AC61-35F87649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237E-9CD4-4977-9FF1-ED0934AB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1B4B-0661-4DE2-AA47-B1635F55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D500-8E4C-419A-9AF5-343E5873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9592-215A-49D7-90E1-1AB4398F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8D0-24C9-4537-B73F-394A6B21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AB2-89DF-453E-B870-24F66639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84D-6221-4664-85D3-FC08578D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FFC-C2B7-4411-9743-38225CC9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C78-4B26-4772-BA94-46B1D237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A62-7383-459A-8CC4-9CF282C8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DDD2-58D5-45C8-9C31-756482E8474C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C467-9DFF-4480-9E22-7B44C638E46F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114.gd.cn/spzs/newinfo.asp?idate=2004-9-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szpingtai.com/lppt2-6.asp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46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331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39528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9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日，香港在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沦亡百年之后于回到祖国的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怀抱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623736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一九九七年六月三十日午夜</a:t>
            </a: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英国旗徐徐降下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724360" y="0"/>
            <a:ext cx="3419640" cy="2793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085760" cy="121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24000" y="333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_x000b__x000c_"/>
              </a:rPr>
              <a:t>2003</a:t>
            </a:r>
            <a:r>
              <a:rPr b="1" lang="zh-CN" sz="3200" spc="-1" strike="noStrike">
                <a:solidFill>
                  <a:srgbClr val="ff0000"/>
                </a:solidFill>
                <a:latin typeface="_x000b__x000c_"/>
              </a:rPr>
              <a:t>年，从春到夏，突如其来的非典疫情迅速蔓延到全国大部分省、自治区、直辖市。全党全国人民在党中央、国务院的坚强领导下，万众一心，众志成城，防治非典斗争取得阶段性重大胜利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8820000" cy="342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30480" cy="306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177920" y="571680"/>
            <a:ext cx="6786720" cy="360"/>
            <a:chOff x="1177920" y="571680"/>
            <a:chExt cx="6786720" cy="360"/>
          </a:xfrm>
        </p:grpSpPr>
        <p:sp>
          <p:nvSpPr>
            <p:cNvPr id="132" name=""/>
            <p:cNvSpPr/>
            <p:nvPr/>
          </p:nvSpPr>
          <p:spPr>
            <a:xfrm>
              <a:off x="1177920" y="571680"/>
              <a:ext cx="678672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77920" y="571680"/>
              <a:ext cx="678672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7520" cy="2060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59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月“神六”载人航天飞行获得圆满成功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508720" y="1773360"/>
            <a:ext cx="3635280" cy="5084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52000" y="2060280"/>
            <a:ext cx="7920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4000"/>
          </a:bodyPr>
          <a:p>
            <a:pPr marL="253800" indent="-25380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神六”顺利升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735280" cy="3141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00000" y="5589720"/>
            <a:ext cx="33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4841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着陆场工作人员在欢呼庆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195640" y="1557360"/>
            <a:ext cx="3240000" cy="2246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2205000"/>
            <a:ext cx="20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飞行员安全返回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404640"/>
            <a:ext cx="828036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世纪喜事不断，中国人感到从未有过的幸福、自豪；然而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年前的中国是怎样的面貌呢？那时的中国人又是怎样的精神状态呢？当时，有一位思想的巨人、顽强的战士，以犀利的目光洞悉着这一切，一次次振臂呐喊、一次次冲锋陷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，就是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鲁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先生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   今天，我们来学习他的一篇杂文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中国人失掉自信力了吗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看看我们能从中得到什么新的启发，学到怎样的做人、作文的方法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24382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>
            <a:lum bright="48000"/>
          </a:blip>
          <a:srcRect l="0" t="0" r="0" b="7681"/>
          <a:stretch/>
        </p:blipFill>
        <p:spPr>
          <a:xfrm>
            <a:off x="0" y="47628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028880" y="1700280"/>
            <a:ext cx="3903480" cy="1312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华文行楷"/>
                <a:ea typeface="华文行楷"/>
              </a:rPr>
              <a:t>中国人</a:t>
            </a:r>
            <a:endParaRPr b="0" lang="en-US" sz="8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981000">
            <a:off x="5011920" y="1700280"/>
            <a:ext cx="12780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华文行楷"/>
                <a:ea typeface="华文行楷"/>
              </a:rPr>
              <a:t>失掉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2852640"/>
            <a:ext cx="5943600" cy="12956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行楷"/>
                <a:ea typeface="华文行楷"/>
              </a:rPr>
              <a:t>自信力</a:t>
            </a:r>
            <a:r>
              <a:rPr b="1" lang="zh-CN" sz="8000" spc="-1" strike="noStrike">
                <a:solidFill>
                  <a:srgbClr val="003366"/>
                </a:solidFill>
                <a:latin typeface="华文行楷"/>
                <a:ea typeface="华文行楷"/>
              </a:rPr>
              <a:t>了吗</a:t>
            </a:r>
            <a:r>
              <a:rPr b="1" lang="zh-CN" sz="6300" spc="-1" strike="noStrike">
                <a:solidFill>
                  <a:srgbClr val="003366"/>
                </a:solidFill>
                <a:latin typeface="华文行楷"/>
                <a:ea typeface="华文行楷"/>
              </a:rPr>
              <a:t> </a:t>
            </a:r>
            <a:endParaRPr b="0" lang="en-US" sz="63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4365720"/>
            <a:ext cx="7667640" cy="792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鲁迅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且介亭杂文》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>
            <a:lum bright="12000"/>
          </a:blip>
          <a:srcRect l="0" t="0" r="0" b="7681"/>
          <a:stretch/>
        </p:blipFill>
        <p:spPr>
          <a:xfrm>
            <a:off x="4419720" y="457200"/>
            <a:ext cx="3962160" cy="25765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6477120" y="3886200"/>
            <a:ext cx="22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周树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464000"/>
            <a:ext cx="2200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豫才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5073480"/>
            <a:ext cx="2724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浙江绍兴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5595840"/>
            <a:ext cx="2128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文学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607000"/>
            <a:ext cx="238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思想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5607000"/>
            <a:ext cx="2342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革命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3520" y="2849400"/>
            <a:ext cx="8001000" cy="3353040"/>
            <a:chOff x="533520" y="2849400"/>
            <a:chExt cx="8001000" cy="3353040"/>
          </a:xfrm>
        </p:grpSpPr>
        <p:sp>
          <p:nvSpPr>
            <p:cNvPr id="159" name=""/>
            <p:cNvSpPr/>
            <p:nvPr/>
          </p:nvSpPr>
          <p:spPr>
            <a:xfrm>
              <a:off x="533520" y="2849400"/>
              <a:ext cx="8001000" cy="283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本文选自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《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且介亭杂文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》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，作者鲁迅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81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－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36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），原名</a:t>
              </a: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       ，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字     。鲁迅是他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18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年为（新青年）写稿时开始使用的笔名。       人。伟大的       、      和       。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0800" y="5668920"/>
              <a:ext cx="1523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19320" y="5059440"/>
              <a:ext cx="1143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4480" y="6202440"/>
              <a:ext cx="1676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14600" y="6202440"/>
              <a:ext cx="1523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95680" y="6202440"/>
              <a:ext cx="1295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7120" y="4449600"/>
              <a:ext cx="14475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066680" y="1295280"/>
            <a:ext cx="3000600" cy="9907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作者简介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5546880"/>
            <a:ext cx="7020000" cy="1191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Arial"/>
              </a:rPr>
              <a:t>毛泽东称“鲁迅是中国文化革命的主将”   “鲁迅的骨头是最硬的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907920"/>
            <a:ext cx="9144000" cy="332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这篇文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写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3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日，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正是“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•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八”事变三周年之后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93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日，日本帝国主义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然向沈阳进攻，蒋介石下令不许抵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抗，国民党军队不战而逃，不到半年，日本帝国主义就占领了我东北三省。而“南京政府束手无策”“单会去哀求国联” 。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九一八”事变后，国民党政府多次向国联申诉，要求制止日本帝国主义侵略，但国联采取了袒护日本的立场，哀求国联无效后，一些国民党官僚和“社会名流”，以祈祷“解救国难”为名，多次在一些大城市举办“时轮金刚法会”，求神拜佛，怀古伤今。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有些甚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散布对抗日前途的悲观论调，指责中国人失掉了自信力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针对上述情况，鲁迅为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批驳这种错误论调，鼓舞民族的自信心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写下了这样一篇文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0"/>
            <a:ext cx="3672000" cy="809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时代背景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72000" y="333360"/>
            <a:ext cx="3672000" cy="206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271520" cy="1295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 rot="10800000">
            <a:off x="9601200" y="-72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76720" y="189000"/>
            <a:ext cx="367164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词语解释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41360"/>
            <a:ext cx="4392720" cy="53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怀古伤今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慨叹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诓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骗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渺茫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⑤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前仆后继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⑥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为民请命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⑦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省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ǐng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悟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⑧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玄虚之至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⑨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自欺欺人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1268280"/>
            <a:ext cx="68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追念古代的事情，感伤今天的现实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1916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所感触而叹息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2492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欺骗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47640" y="3068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本课是因没有把握而难以预期。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50028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前面的人倒下去，后面的人继续跟上来，形容英勇奋斗，不怕牺牲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492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Kuāng  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9456120" y="3312360"/>
            <a:ext cx="8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4292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表人民的利益，替人民说话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869000"/>
            <a:ext cx="36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醒悟，觉醒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54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玄妙空虚到了极点。玄虚，空虚，不真实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95640" y="6093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用自己都难以置信的话或手法来欺骗别人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208560" y="92160"/>
            <a:ext cx="3187800" cy="759600"/>
          </a:xfrm>
          <a:prstGeom prst="wedgeRoundRectCallout">
            <a:avLst>
              <a:gd name="adj1" fmla="val -165185"/>
              <a:gd name="adj2" fmla="val 562361"/>
              <a:gd name="adj3" fmla="val 16667"/>
            </a:avLst>
          </a:prstGeom>
          <a:solidFill>
            <a:srgbClr val="66ff3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—  5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52280"/>
            <a:ext cx="496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初读课文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整体把握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762120"/>
            <a:ext cx="678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对方的错误观点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209680"/>
            <a:ext cx="7989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正面提出的观点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733920"/>
            <a:ext cx="7315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把握文章的整体思路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1447920"/>
            <a:ext cx="61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73240" y="14479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87760" y="297180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我们有并不失掉自信力的中国人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508640"/>
            <a:ext cx="8820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（一）驳：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300640"/>
            <a:ext cx="849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（二）立：我们有并不失掉自信力的中国人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6021360"/>
            <a:ext cx="2447640" cy="76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6——9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16000" y="1125360"/>
            <a:ext cx="56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议论文包括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立论和驳论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两种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议论文的常识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700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是先指出对方错误的实质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直接批驳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间接批驳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继而提出自己的观点并加以论证的议论文。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后“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5157720"/>
            <a:ext cx="1828800" cy="6426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驳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4581360"/>
            <a:ext cx="1584360" cy="20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点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据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证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328464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学习驳论文，首先要看作者怎样抓住批驳的“突破口”，要学会识别谬论，能够看出它错在哪里，为什么会错。还要学习反驳谬论，是直接驳论点，还是通过驳论据、论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来驳倒论点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4724280"/>
            <a:ext cx="432000" cy="1584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76360" y="3333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99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国政府对澳门恢复行使主权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7" name="" descr="欢庆回归"/>
          <p:cNvPicPr/>
          <p:nvPr/>
        </p:nvPicPr>
        <p:blipFill>
          <a:blip r:embed="rId2"/>
          <a:stretch/>
        </p:blipFill>
        <p:spPr>
          <a:xfrm>
            <a:off x="0" y="2133720"/>
            <a:ext cx="4786200" cy="314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5280" y="53341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澳门儿童手拿区旗与国旗，迎接回归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9" name="" descr="中国国旗扬起"/>
          <p:cNvPicPr/>
          <p:nvPr/>
        </p:nvPicPr>
        <p:blipFill>
          <a:blip r:embed="rId3"/>
          <a:stretch/>
        </p:blipFill>
        <p:spPr>
          <a:xfrm>
            <a:off x="5219640" y="1600200"/>
            <a:ext cx="3600360" cy="4168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6019920"/>
            <a:ext cx="39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中国国旗在会场扬起来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152280"/>
            <a:ext cx="1144440" cy="1457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26920" y="476280"/>
            <a:ext cx="77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精读课文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讨论交流第一部分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1341360"/>
            <a:ext cx="7632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开篇树立的靶子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76240" y="213372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920" y="5680080"/>
            <a:ext cx="889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支持这个错误观点的论据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5280" y="2852280"/>
            <a:ext cx="8280360" cy="2803680"/>
            <a:chOff x="395280" y="2852280"/>
            <a:chExt cx="8280360" cy="2803680"/>
          </a:xfrm>
        </p:grpSpPr>
        <p:sp>
          <p:nvSpPr>
            <p:cNvPr id="211" name=""/>
            <p:cNvSpPr/>
            <p:nvPr/>
          </p:nvSpPr>
          <p:spPr>
            <a:xfrm>
              <a:off x="395280" y="3500280"/>
              <a:ext cx="32400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两年前总自夸“地大物博”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67280" y="3429000"/>
              <a:ext cx="280836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久不自夸只希望国联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24000" y="5013360"/>
              <a:ext cx="4969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现在求神拜佛怀古伤今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763640" y="2852640"/>
              <a:ext cx="2592360" cy="7207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643280" y="2852640"/>
              <a:ext cx="2881440" cy="7207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4572000" y="4941360"/>
              <a:ext cx="71280" cy="716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500720" y="2852280"/>
              <a:ext cx="0" cy="208908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55640" y="765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作者既然认为对方的观点是错误的，为什么文中反复承认“是事实”“也是事实”“却也是事实”，与后文的批判有什么关系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3124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_x000b__x000c_"/>
              </a:rPr>
              <a:t>先确认敌论据的真实性，但这真实的论据不能证明其论点，为后文的驳论证奠定基础。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404640"/>
            <a:ext cx="867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☆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揣摩第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段话，三个副词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总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一味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能否互换位置？为什么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0200" y="1916280"/>
            <a:ext cx="81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不能。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总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让人看到国民党政府夸耀“地大物博”时的洋洋自得、自我炫耀的样子；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是抓救命稻草时的形象，仰人鼻息之状跃然纸上；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则是深陷而不能自拔，沉迷于其中顽固不化的样子。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这三个副词准确地写出了国民党政府在自欺的道路上越走越远的“事实”，极富讽刺意味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2708280"/>
            <a:ext cx="5221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信“地”、信“物”、信“国联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3068640"/>
            <a:ext cx="158436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404640"/>
            <a:ext cx="844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敌方的三个论据能证明“中国人失掉自信力”这个论点吗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6600" y="1628640"/>
            <a:ext cx="3332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两年前总自夸“地大物博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19400" y="365112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不久不自夸只希望国联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92120" y="436572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现在求神拜佛怀古伤今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2637000"/>
            <a:ext cx="3673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失掉了“他信力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21307200">
            <a:off x="107640" y="1922400"/>
            <a:ext cx="558720" cy="1938240"/>
          </a:xfrm>
          <a:custGeom>
            <a:avLst/>
            <a:gdLst>
              <a:gd name="textAreaLeft" fmla="*/ 74880 w 558720"/>
              <a:gd name="textAreaRight" fmla="*/ 483840 w 558720"/>
              <a:gd name="textAreaTop" fmla="*/ 376200 h 1938240"/>
              <a:gd name="textAreaBottom" fmla="*/ 1262160 h 193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85" stAng="-5400000" swAng="-5400000"/>
                <a:lnTo>
                  <a:pt x="0" y="9872"/>
                </a:lnTo>
                <a:arcTo wR="21600" hR="8385" stAng="10800000" swAng="-3105243"/>
                <a:lnTo>
                  <a:pt x="15280" y="21233"/>
                </a:lnTo>
                <a:lnTo>
                  <a:pt x="21600" y="17514"/>
                </a:lnTo>
                <a:lnTo>
                  <a:pt x="15280" y="13060"/>
                </a:lnTo>
                <a:lnTo>
                  <a:pt x="15280" y="16403"/>
                </a:lnTo>
                <a:arcTo wR="21600" hR="8385" stAng="7694757" swAng="2986491"/>
                <a:lnTo>
                  <a:pt x="85" y="9129"/>
                </a:lnTo>
                <a:arcTo wR="21600" hR="8385" stAng="-10681248" swAng="5281248"/>
                <a:close/>
              </a:path>
              <a:path fill="darkenLess" w="21600" h="21600">
                <a:moveTo>
                  <a:pt x="21600" y="0"/>
                </a:moveTo>
                <a:arcTo wR="21600" hR="8385" stAng="-5400000" swAng="-5400000"/>
                <a:lnTo>
                  <a:pt x="0" y="8385"/>
                </a:lnTo>
                <a:arcTo wR="21600" hR="8385" stAng="10800000" swAng="-118752"/>
                <a:lnTo>
                  <a:pt x="85" y="9129"/>
                </a:lnTo>
                <a:arcTo wR="21600" hR="8385" stAng="-10681248" swAng="5281248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165200">
            <a:off x="5148360" y="2204280"/>
            <a:ext cx="558720" cy="1800360"/>
          </a:xfrm>
          <a:custGeom>
            <a:avLst/>
            <a:gdLst>
              <a:gd name="textAreaLeft" fmla="*/ 74880 w 558720"/>
              <a:gd name="textAreaRight" fmla="*/ 483840 w 558720"/>
              <a:gd name="textAreaTop" fmla="*/ 325800 h 1800360"/>
              <a:gd name="textAreaBottom" fmla="*/ 112500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20" stAng="-5400000" swAng="-5400000"/>
                <a:lnTo>
                  <a:pt x="0" y="9589"/>
                </a:lnTo>
                <a:arcTo wR="21600" hR="7820" stAng="10800000" swAng="-2199104"/>
                <a:lnTo>
                  <a:pt x="12150" y="20812"/>
                </a:lnTo>
                <a:lnTo>
                  <a:pt x="21600" y="16524"/>
                </a:lnTo>
                <a:lnTo>
                  <a:pt x="12150" y="10659"/>
                </a:lnTo>
                <a:lnTo>
                  <a:pt x="12150" y="14851"/>
                </a:lnTo>
                <a:arcTo wR="21600" hR="7820" stAng="8600896" swAng="2057503"/>
                <a:lnTo>
                  <a:pt x="139" y="8704"/>
                </a:lnTo>
                <a:arcTo wR="21600" hR="7820" stAng="-10658398" swAng="5258398"/>
                <a:close/>
              </a:path>
              <a:path fill="darkenLess" w="21600" h="21600">
                <a:moveTo>
                  <a:pt x="21600" y="0"/>
                </a:moveTo>
                <a:arcTo wR="21600" hR="7820" stAng="-5400000" swAng="-5400000"/>
                <a:lnTo>
                  <a:pt x="0" y="7820"/>
                </a:lnTo>
                <a:arcTo wR="21600" hR="7820" stAng="10800000" swAng="-141602"/>
                <a:lnTo>
                  <a:pt x="139" y="8704"/>
                </a:lnTo>
                <a:arcTo wR="21600" hR="7820" stAng="-10658398" swAng="5258398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5877000"/>
            <a:ext cx="3961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发展着“自欺力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0040" y="5013360"/>
            <a:ext cx="489240" cy="792000"/>
          </a:xfrm>
          <a:prstGeom prst="downArrow">
            <a:avLst>
              <a:gd name="adj1" fmla="val 50000"/>
              <a:gd name="adj2" fmla="val 40471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32360" y="299736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68360" y="1484280"/>
            <a:ext cx="485640" cy="4969800"/>
          </a:xfrm>
          <a:prstGeom prst="rect">
            <a:avLst/>
          </a:prstGeom>
          <a:solidFill>
            <a:srgbClr val="66ff33"/>
          </a:soli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中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国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失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自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力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859280" y="4869000"/>
            <a:ext cx="165744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508360" y="3141720"/>
            <a:ext cx="637920" cy="838080"/>
            <a:chOff x="5508360" y="3141720"/>
            <a:chExt cx="637920" cy="838080"/>
          </a:xfrm>
        </p:grpSpPr>
        <p:sp>
          <p:nvSpPr>
            <p:cNvPr id="237" name=""/>
            <p:cNvSpPr/>
            <p:nvPr/>
          </p:nvSpPr>
          <p:spPr>
            <a:xfrm flipH="1">
              <a:off x="5508360" y="314172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37160" y="3141720"/>
              <a:ext cx="60912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35280" y="5084640"/>
            <a:ext cx="609840" cy="838080"/>
            <a:chOff x="5435280" y="5084640"/>
            <a:chExt cx="609840" cy="838080"/>
          </a:xfrm>
        </p:grpSpPr>
        <p:sp>
          <p:nvSpPr>
            <p:cNvPr id="240" name=""/>
            <p:cNvSpPr/>
            <p:nvPr/>
          </p:nvSpPr>
          <p:spPr>
            <a:xfrm flipH="1">
              <a:off x="5435280" y="508464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5640" y="508464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774840" y="1773360"/>
            <a:ext cx="1399320" cy="475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驳论证（直接反驳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63840" y="836640"/>
            <a:ext cx="9118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批驳对方的论证过程不合逻辑，偷换概念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0920" y="40464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提问：文中“他信力”“自欺力”加引号起什么作用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14920" y="14842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起讽刺否定的作用。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3623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提问：“失掉了他信力，就会疑，一个转身，也许能够只相信了自己，倒是一条新生路。”这里的“新生路”指什么？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105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新生路指相信自己的力量，号召全国民众团结起来抗日救亡。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1700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仿拟的修辞手法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95280" y="2708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因为这部分文字道出了“求神拜佛”的实质，展示了作者无私无畏的精神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54936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第四段有一部分加点的文字，国民党检查管曾删掉这段文字，想想为什么被删去？这段文字有何作用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26920" y="333360"/>
            <a:ext cx="77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精读课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讨论交流第二部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1197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一、品读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6——8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段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作者自己的论点是什么？提出哪些论据来加以论证的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采用怎样的论证方法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论点：“有并不失掉自信力的中国人在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论据：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有过去和现在的事实为证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幼圆"/>
              </a:rPr>
              <a:t>（从古至今都有满怀自信的“中国的脊梁”）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针锋相对地提出自己的观点，并列举事实证明 ，热情歌颂从古到今有自信力的“中国的脊梁”，从而彻底驳倒对方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。（这是间接反驳）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333360"/>
            <a:ext cx="43164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1628640"/>
            <a:ext cx="85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默默无闻、努力工作的广大劳动人民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毕升、祖冲之、李时珍、詹天佑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9680" y="2997360"/>
            <a:ext cx="87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那些不怕牺牲、不计得失、忠于祖国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岳飞、文天祥、戚继光、林则徐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443700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同情人民，为人民鸣不平、伸张正义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屈原、关汉卿、海瑞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579132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历尽艰辛、英勇献身、追求真理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商鞅、谭嗣同、玄奘、法显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44640" y="119700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埋头苦干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0280" y="256536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拼命硬干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39337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民请命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0280" y="537372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舍身求法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列举的四种人分别指什么样的人？请举出具体的人物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1125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者为什么赞扬他们“这就是中国的脊梁”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2421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是</a:t>
            </a:r>
            <a:r>
              <a:rPr b="1" lang="zh-CN" sz="3600" spc="-1" strike="noStrike">
                <a:solidFill>
                  <a:srgbClr val="009900"/>
                </a:solidFill>
                <a:latin typeface="宋体"/>
              </a:rPr>
              <a:t>比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说法。指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脚踏实地为民族的进步而奋斗的人们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们来自下层，代表着广大人民的利益。他们是使中国挺立起来的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“脊梁”。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些没有失掉自信力的中国人是中国的</a:t>
            </a: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主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是中国的</a:t>
            </a: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314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联系背景，说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文中“这一类的人们”指的是谁？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00000" y="3789360"/>
            <a:ext cx="69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_x000b__x000c_"/>
              </a:rPr>
              <a:t>指坚持抗战和民族解放的人们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934320" y="520056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189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一类没有失掉自信心的人现状如何？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83664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人数上看：何尝少呢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特征上看：有确信，不自欺，前仆后继地战斗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处境上看：总在被摧残，被抹杀，消灭于黑暗中，不能为大家所知道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9280" y="4365720"/>
            <a:ext cx="81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说中国人失掉了自信力，用以指一部分人则可，倘若加于全体，那简直是诬蔑。”这句话批驳敌论证的什么毛病？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59500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_x000b__x000c_"/>
              </a:rPr>
              <a:t>批驳敌论证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_x000b__x000c_"/>
              </a:rPr>
              <a:t>以偏概全</a:t>
            </a:r>
            <a:r>
              <a:rPr b="1" lang="zh-CN" sz="4000" spc="-1" strike="noStrike">
                <a:solidFill>
                  <a:srgbClr val="007a77"/>
                </a:solidFill>
                <a:latin typeface="_x000b__x000c_"/>
              </a:rPr>
              <a:t>的毛病。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4716360" cy="24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     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00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日，萨马兰奇在莫斯科宣布北京获得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008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奥运会主办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4033800" cy="6048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4000" y="3138480"/>
            <a:ext cx="4464000" cy="3549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8920" cy="94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结      论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阅读最后一段，思考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本文的结论是什么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本段在全文中的作用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结论：自信力的有无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状元宰相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的文章不足为据，要看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地底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作用：照应题目，作出回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476360" y="404640"/>
            <a:ext cx="662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状元宰相”指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981000"/>
            <a:ext cx="741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国民党反动政客及其御用文人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49440" y="1557360"/>
            <a:ext cx="7345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地底下”指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8000" y="4581360"/>
            <a:ext cx="612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美化伪装，欺骗宣传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47640" y="4076640"/>
            <a:ext cx="727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脂粉”的意思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5661000"/>
            <a:ext cx="720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古往今来的志士仁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20720" y="5157720"/>
            <a:ext cx="752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4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筋骨和脊梁”比喻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19280" y="2133720"/>
            <a:ext cx="7129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指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黑体"/>
              </a:rPr>
              <a:t>变革社会的积极力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.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因为它来自民众，故称“地底下”，在当时，这股力量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还处于地下斗争状态的中国共产党、及其领导的革命力量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 rot="5400000">
            <a:off x="-1189440" y="2132280"/>
            <a:ext cx="381636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体会比喻义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333360"/>
            <a:ext cx="4495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作者写作思路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209680"/>
            <a:ext cx="190512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树靶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84360" y="2133720"/>
            <a:ext cx="1752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打靶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59280" y="2133720"/>
            <a:ext cx="205740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立观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809880"/>
            <a:ext cx="2133720" cy="1477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摆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56000" y="3716280"/>
            <a:ext cx="1896840" cy="2025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驳斥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证           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59280" y="3645000"/>
            <a:ext cx="2376720" cy="1477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证明自己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观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289548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281952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0" y="278136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057400" y="2514600"/>
            <a:ext cx="45720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27640" y="2421000"/>
            <a:ext cx="53316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576360" y="5410080"/>
            <a:ext cx="7467480" cy="1447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524720" y="1989000"/>
            <a:ext cx="1871640" cy="64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归结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20000" y="2349360"/>
            <a:ext cx="53316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11574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摆敌论点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—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1066680"/>
            <a:ext cx="152640" cy="106704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204"/>
                </a:lnTo>
                <a:cubicBezTo>
                  <a:pt x="10800" y="7104"/>
                  <a:pt x="5400" y="8004"/>
                  <a:pt x="0" y="8004"/>
                </a:cubicBezTo>
                <a:cubicBezTo>
                  <a:pt x="5400" y="8004"/>
                  <a:pt x="10800" y="8904"/>
                  <a:pt x="10800" y="980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762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1828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点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14800" y="623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两年前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1081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    久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1538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现    在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623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自夸“地大物博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1081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希望国联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152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求神拜佛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1905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43728"/>
                </a:solidFill>
                <a:latin typeface="Times New Roman"/>
              </a:rPr>
              <a:t>中国人失掉自信力了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152280" y="3276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27432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25146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直接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—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237636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失掉的是“他信力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2819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发展着“自欺力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42051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间接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—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3200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点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32004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有并不失掉自信力的中国人在  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43434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600"/>
                </a:lnTo>
                <a:cubicBezTo>
                  <a:pt x="10800" y="8500"/>
                  <a:pt x="5400" y="9400"/>
                  <a:pt x="0" y="9400"/>
                </a:cubicBezTo>
                <a:cubicBezTo>
                  <a:pt x="5400" y="9400"/>
                  <a:pt x="10800" y="10300"/>
                  <a:pt x="10800" y="112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古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今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37339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76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埋头苦干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5334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有确信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不自欺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769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拼命硬干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76920" y="45259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为民请命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5715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前仆后继的战斗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4952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舍身求法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541008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文章结构内容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5911920"/>
            <a:ext cx="16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结论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58920" y="6165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信力的有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状元宰相的文章不足为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看地底下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19720" y="4267080"/>
            <a:ext cx="1033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脊  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 rot="5373600">
            <a:off x="6628320" y="1748160"/>
            <a:ext cx="768240" cy="229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26400">
            <a:off x="7746840" y="1799640"/>
            <a:ext cx="909720" cy="142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 rot="5373600">
            <a:off x="8150040" y="5717520"/>
            <a:ext cx="61596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 rot="5373600">
            <a:off x="7202520" y="1176840"/>
            <a:ext cx="610920" cy="236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29600" y="1143000"/>
            <a:ext cx="4572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86800" y="1143000"/>
            <a:ext cx="0" cy="9907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01000" y="4724280"/>
            <a:ext cx="9144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915400" y="5867280"/>
            <a:ext cx="0" cy="763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915400" y="4724280"/>
            <a:ext cx="0" cy="1143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1828800"/>
            <a:ext cx="106668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53280" y="1828800"/>
            <a:ext cx="0" cy="6858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58200" y="3505320"/>
            <a:ext cx="4572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8915400" y="2971800"/>
            <a:ext cx="0" cy="5335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809880"/>
            <a:ext cx="304920" cy="2210040"/>
          </a:xfrm>
          <a:custGeom>
            <a:avLst/>
            <a:gdLst>
              <a:gd name="textAreaLeft" fmla="*/ 0 w 304920"/>
              <a:gd name="textAreaRight" fmla="*/ 110160 w 30492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231"/>
                </a:lnTo>
                <a:cubicBezTo>
                  <a:pt x="10800" y="8131"/>
                  <a:pt x="16200" y="9031"/>
                  <a:pt x="21600" y="9031"/>
                </a:cubicBezTo>
                <a:cubicBezTo>
                  <a:pt x="16200" y="9031"/>
                  <a:pt x="10800" y="9931"/>
                  <a:pt x="10800" y="1083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35053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671"/>
                </a:lnTo>
                <a:cubicBezTo>
                  <a:pt x="10800" y="11571"/>
                  <a:pt x="5400" y="12471"/>
                  <a:pt x="0" y="12471"/>
                </a:cubicBezTo>
                <a:cubicBezTo>
                  <a:pt x="5400" y="12471"/>
                  <a:pt x="10800" y="13371"/>
                  <a:pt x="10800" y="1427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590920"/>
            <a:ext cx="228600" cy="533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8380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4362"/>
                </a:lnTo>
                <a:cubicBezTo>
                  <a:pt x="10800" y="5262"/>
                  <a:pt x="5400" y="6162"/>
                  <a:pt x="0" y="6162"/>
                </a:cubicBezTo>
                <a:cubicBezTo>
                  <a:pt x="5400" y="6162"/>
                  <a:pt x="10800" y="7062"/>
                  <a:pt x="10800" y="796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01000" y="838080"/>
            <a:ext cx="152280" cy="60984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3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3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3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3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3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71640" y="318996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华文新魏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3399"/>
                </a:solidFill>
                <a:latin typeface="宋体"/>
              </a:rPr>
              <a:t>本文义正辞严地批判了当时对抗日前途悲观的亡国论调，驳斥了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国民党反动政客及其走狗文人诬蔑中国人民失掉自信力</a:t>
            </a:r>
            <a:r>
              <a:rPr b="1" lang="zh-CN" sz="4000" spc="-1" strike="noStrike">
                <a:solidFill>
                  <a:srgbClr val="003399"/>
                </a:solidFill>
                <a:latin typeface="宋体"/>
              </a:rPr>
              <a:t>的无耻谰言，表达了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作者对中国革命前途的信心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55640" y="549360"/>
            <a:ext cx="302112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文章主题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95280" y="1557360"/>
            <a:ext cx="792000" cy="31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拓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展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延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伸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03280" y="836640"/>
            <a:ext cx="7451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从自身做起，我们应该怎样树立民族自信力呢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03280" y="2852640"/>
            <a:ext cx="7416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作为中学生，应当扩大知识面，深入了解从古到今具有民族气节的英雄人物事迹，在伟大精神熏陶下塑造心灵，并且不断丰富知识，增长才干等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95280" y="1557360"/>
            <a:ext cx="792000" cy="31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处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理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习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题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333360"/>
            <a:ext cx="781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辨析“中国人”的含义。（题略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89400" y="1267920"/>
            <a:ext cx="61056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①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③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④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⑤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40000" y="1254240"/>
            <a:ext cx="626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极少数顽固分子以外的中国人民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40000" y="2421000"/>
            <a:ext cx="532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广大人民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40000" y="3213000"/>
            <a:ext cx="60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国民党反动统治者及其御用文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40000" y="4292640"/>
            <a:ext cx="5689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所有的中国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11280" y="5084640"/>
            <a:ext cx="60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国民党反动统治者及其御用文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1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920" y="242100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0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日，世界贸易组织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作出决定，接纳中国加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历经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的奋争与期待，中国终昂首跨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大门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02200" y="0"/>
            <a:ext cx="5041800" cy="6597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303200" cy="226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380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0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，中国上海市获得了２０１０年世界博览会举办权。这将是世博会第一次在发展中国家举行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4572000" y="8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724360" y="1557360"/>
            <a:ext cx="2911680" cy="4381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59500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海市民在南京东路步行街欢庆申博成功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4572000" cy="3395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2440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6" name="04" descr=""/>
          <p:cNvPicPr/>
          <p:nvPr/>
        </p:nvPicPr>
        <p:blipFill>
          <a:blip r:embed="rId2"/>
          <a:stretch/>
        </p:blipFill>
        <p:spPr>
          <a:xfrm>
            <a:off x="4788000" y="2286000"/>
            <a:ext cx="3862440" cy="4038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19320" y="304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00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１０月１５日，“神舟”五号载人飞船成功发射，并于１６日安全返回地面。我国成为世界上第三个独立掌握载人航天技术的国家。航天员杨利伟成为中国首位航天英雄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9640" y="2209680"/>
            <a:ext cx="3781440" cy="4191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7480" cy="1257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627280" y="30492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2004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年雅典奥运上，中国代表团以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金的骄人成绩，跻身亚军，直逼美国霸主地位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5029200" cy="33192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2666880" y="2133720"/>
            <a:ext cx="5297760" cy="360"/>
            <a:chOff x="2666880" y="2133720"/>
            <a:chExt cx="5297760" cy="360"/>
          </a:xfrm>
        </p:grpSpPr>
        <p:sp>
          <p:nvSpPr>
            <p:cNvPr id="113" name=""/>
            <p:cNvSpPr/>
            <p:nvPr/>
          </p:nvSpPr>
          <p:spPr>
            <a:xfrm>
              <a:off x="2666880" y="2133720"/>
              <a:ext cx="529776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66880" y="2133720"/>
              <a:ext cx="529776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0" y="5516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中国女排获得雅典奥运金牌再创辉煌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5157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刘翔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获得的男子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米栏金牌是中国男选手在奥运会上夺得的第一枚田径金牌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67280" y="3430080"/>
            <a:ext cx="67597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651640" y="1916280"/>
            <a:ext cx="2971800" cy="30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4286160" cy="3781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400068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716360" y="3048120"/>
            <a:ext cx="388800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4038480" cy="352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72000" y="3257640"/>
            <a:ext cx="4572000" cy="360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4067280" cy="2924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427640" y="0"/>
            <a:ext cx="4716360" cy="292428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2:51:42Z</dcterms:created>
  <dc:creator>龙渊生</dc:creator>
  <dc:description/>
  <dc:language>en-US</dc:language>
  <cp:lastModifiedBy>user</cp:lastModifiedBy>
  <dcterms:modified xsi:type="dcterms:W3CDTF">2006-01-13T04:15:30Z</dcterms:modified>
  <cp:revision>47</cp:revision>
  <dc:subject/>
  <dc:title>中国人失掉自信力了吗</dc:title>
</cp:coreProperties>
</file>