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32.png" ContentType="image/png"/>
  <Override PartName="/ppt/media/image4.jpeg" ContentType="image/jpeg"/>
  <Override PartName="/ppt/media/image40.png" ContentType="image/png"/>
  <Override PartName="/ppt/media/image26.jpeg" ContentType="image/jpeg"/>
  <Override PartName="/ppt/media/image42.png" ContentType="image/png"/>
  <Override PartName="/ppt/media/image33.jpeg" ContentType="image/jpeg"/>
  <Override PartName="/ppt/media/image45.png" ContentType="image/png"/>
  <Override PartName="/ppt/media/image6.jpeg" ContentType="image/jpeg"/>
  <Override PartName="/ppt/media/image34.jpeg" ContentType="image/jpeg"/>
  <Override PartName="/ppt/media/image7.jpeg" ContentType="image/jpeg"/>
  <Override PartName="/ppt/media/image44.png" ContentType="image/png"/>
  <Override PartName="/ppt/media/camera.wav" ContentType="audio/x-wav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3.png" ContentType="image/png"/>
  <Override PartName="/ppt/media/image47.jpeg" ContentType="image/jpeg"/>
  <Override PartName="/ppt/media/image31.jpeg" ContentType="image/jpeg"/>
  <Override PartName="/ppt/media/image48.jpeg" ContentType="image/jpeg"/>
  <Override PartName="/ppt/media/image49.jpeg" ContentType="image/jpeg"/>
  <Override PartName="/ppt/media/image38.png" ContentType="image/png"/>
  <Override PartName="/ppt/media/image41.wmf" ContentType="image/x-wmf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13.png" ContentType="image/png"/>
  <Override PartName="/ppt/media/image27.jpeg" ContentType="image/jpeg"/>
  <Override PartName="/ppt/media/image50.jpeg" ContentType="image/jpeg"/>
  <Override PartName="/ppt/media/image28.jpeg" ContentType="image/jpeg"/>
  <Override PartName="/ppt/media/whoosh.wav" ContentType="audio/x-wav"/>
  <Override PartName="/ppt/media/image51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D780-D298-43BF-A76D-B2A252C8C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5DCB-58CB-4A07-95B6-98D6D1DF6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60E9-E137-45AB-AE92-0DD07AD26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77A0-68D5-44D6-85AD-6223EA53F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F2D6C-40F2-46A2-B174-5C50C206E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3CDEA-19F2-40FD-84B3-98A7A43B5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A001D-B876-4E0C-8EB4-52DEB420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EFBFC-A084-491F-B421-6D76436F3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C870F-8C00-4ACF-9D32-544122A75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6CA00-8A8A-4BAE-BBC0-5CF9C0F4C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8A361-2D54-4C92-BD24-B833D526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EE1B-B335-4DD8-AF6E-C17B77B4B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26E59-B3E5-4A12-8B25-FBCB3745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64E7F-3717-467A-8068-805880FB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CC4A6-08B1-44CB-A945-B94554742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BDBBF-B6C5-418D-B569-1B9DAF591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9761B-E838-4E73-B019-0B3D971FE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E392-7271-4EEA-AB3F-B959C1356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5152-5BBD-4C59-B62F-A9C822DA9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3CBA-0016-446C-B63B-2B2BB9C15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BE88-92E2-4EB5-9268-D8037B2E7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CA35-5AB0-4069-A666-3124943C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84B8-AECB-47E4-A872-23DB8982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50C8-7244-43B1-9FAD-9EE1C22F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47BB8-FE36-462C-B771-9D7231CB52EE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590A0-A6B2-4229-BE3F-8534A2BED28A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hyperlink" Target="http://114.gd.cn/spzs/newinfo.asp?idate=2004-9-1" TargetMode="Externa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hyperlink" Target="http://www.szpingtai.com/lppt2-6.asp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image" Target="../media/image46.jpeg"/><Relationship Id="rId7" Type="http://schemas.openxmlformats.org/officeDocument/2006/relationships/image" Target="../media/image50.jpeg"/><Relationship Id="rId8" Type="http://schemas.openxmlformats.org/officeDocument/2006/relationships/image" Target="../media/image51.jpeg"/><Relationship Id="rId9" Type="http://schemas.openxmlformats.org/officeDocument/2006/relationships/image" Target="../media/image46.jpeg"/><Relationship Id="rId10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2781360"/>
            <a:ext cx="9144000" cy="3311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33520" y="395280"/>
            <a:ext cx="79246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997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年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日，香港在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沦亡百年之后于回到祖国的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怀抱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71640" y="6237360"/>
            <a:ext cx="74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Times New Roman"/>
              </a:rPr>
              <a:t>一九九七年六月三十日午夜</a:t>
            </a:r>
            <a:r>
              <a:rPr b="1" lang="en-US" sz="2800" spc="-1" strike="noStrike">
                <a:solidFill>
                  <a:srgbClr val="c0c0c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Times New Roman"/>
              </a:rPr>
              <a:t>英国旗徐徐降下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5724360" y="0"/>
            <a:ext cx="3419640" cy="27939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1085760" cy="1219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124000" y="33336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         </a:t>
            </a:r>
            <a:r>
              <a:rPr b="1" lang="en-US" sz="3200" spc="-1" strike="noStrike">
                <a:solidFill>
                  <a:srgbClr val="ff0000"/>
                </a:solidFill>
                <a:latin typeface="_x000b__x000c_"/>
              </a:rPr>
              <a:t>2003</a:t>
            </a:r>
            <a:r>
              <a:rPr b="1" lang="zh-CN" sz="3200" spc="-1" strike="noStrike">
                <a:solidFill>
                  <a:srgbClr val="ff0000"/>
                </a:solidFill>
                <a:latin typeface="_x000b__x000c_"/>
              </a:rPr>
              <a:t>年，从春到夏，突如其来的非典疫情迅速蔓延到全国大部分省、自治区、直辖市。全党全国人民在党中央、国务院的坚强领导下，万众一心，众志成城，防治非典斗争取得阶段性重大胜利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8820000" cy="3429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30480" cy="3068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1177920" y="571680"/>
            <a:ext cx="6786720" cy="360"/>
            <a:chOff x="1177920" y="571680"/>
            <a:chExt cx="6786720" cy="360"/>
          </a:xfrm>
        </p:grpSpPr>
        <p:sp>
          <p:nvSpPr>
            <p:cNvPr id="132" name=""/>
            <p:cNvSpPr/>
            <p:nvPr/>
          </p:nvSpPr>
          <p:spPr>
            <a:xfrm>
              <a:off x="1177920" y="571680"/>
              <a:ext cx="6786720" cy="360"/>
            </a:xfrm>
            <a:prstGeom prst="rect">
              <a:avLst/>
            </a:prstGeom>
            <a:solidFill>
              <a:srgbClr val="f1f3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177920" y="571680"/>
              <a:ext cx="6786720" cy="360"/>
            </a:xfrm>
            <a:prstGeom prst="rect">
              <a:avLst/>
            </a:prstGeom>
            <a:solidFill>
              <a:srgbClr val="f1f3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7520" cy="206064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050560" y="259920"/>
            <a:ext cx="590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005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年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月“神六”载人航天飞行获得圆满成功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5508720" y="1773360"/>
            <a:ext cx="3635280" cy="508464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52000" y="2060280"/>
            <a:ext cx="79200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 fontScale="74000"/>
          </a:bodyPr>
          <a:p>
            <a:pPr marL="253800" indent="-25380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神六”顺利升空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716280"/>
            <a:ext cx="2735280" cy="31417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900000" y="5589720"/>
            <a:ext cx="331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59280" y="4841640"/>
            <a:ext cx="20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着陆场工作人员在欢呼庆祝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2195640" y="1557360"/>
            <a:ext cx="3240000" cy="22464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50920" y="2205000"/>
            <a:ext cx="20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飞行员安全返回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68360" y="404640"/>
            <a:ext cx="8280360" cy="119124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世纪喜事不断，中国人感到从未有过的幸福、自豪；然而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7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多年前的中国是怎样的面貌呢？那时的中国人又是怎样的精神状态呢？当时，有一位思想的巨人、顽强的战士，以犀利的目光洞悉着这一切，一次次振臂呐喊、一次次冲锋陷阵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他，就是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鲁迅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先生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   今天，我们来学习他的一篇杂文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中国人失掉自信力了吗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看看我们能从中得到什么新的启发，学到怎样的做人、作文的方法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990720" y="2438280"/>
            <a:ext cx="601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>
            <a:lum bright="48000"/>
          </a:blip>
          <a:srcRect l="0" t="0" r="0" b="7681"/>
          <a:stretch/>
        </p:blipFill>
        <p:spPr>
          <a:xfrm>
            <a:off x="0" y="47628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028880" y="1700280"/>
            <a:ext cx="3903480" cy="131292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9900"/>
                </a:solidFill>
                <a:latin typeface="华文行楷"/>
                <a:ea typeface="华文行楷"/>
              </a:rPr>
              <a:t>中国人</a:t>
            </a:r>
            <a:endParaRPr b="0" lang="en-US" sz="8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981000">
            <a:off x="5011920" y="1700280"/>
            <a:ext cx="1278000" cy="119124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66ff"/>
                </a:solidFill>
                <a:latin typeface="华文行楷"/>
                <a:ea typeface="华文行楷"/>
              </a:rPr>
              <a:t>失掉</a:t>
            </a:r>
            <a:endParaRPr b="0" lang="en-US" sz="7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27280" y="2852640"/>
            <a:ext cx="5943600" cy="129564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华文行楷"/>
                <a:ea typeface="华文行楷"/>
              </a:rPr>
              <a:t>自信力</a:t>
            </a:r>
            <a:r>
              <a:rPr b="1" lang="zh-CN" sz="8000" spc="-1" strike="noStrike">
                <a:solidFill>
                  <a:srgbClr val="003366"/>
                </a:solidFill>
                <a:latin typeface="华文行楷"/>
                <a:ea typeface="华文行楷"/>
              </a:rPr>
              <a:t>了吗</a:t>
            </a:r>
            <a:r>
              <a:rPr b="1" lang="zh-CN" sz="6300" spc="-1" strike="noStrike">
                <a:solidFill>
                  <a:srgbClr val="003366"/>
                </a:solidFill>
                <a:latin typeface="华文行楷"/>
                <a:ea typeface="华文行楷"/>
              </a:rPr>
              <a:t> </a:t>
            </a:r>
            <a:endParaRPr b="0" lang="en-US" sz="63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4365720"/>
            <a:ext cx="7667640" cy="7920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鲁迅 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《且介亭杂文》</a:t>
            </a:r>
            <a:endParaRPr b="0" lang="en-US" sz="5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2">
            <a:lum bright="12000"/>
          </a:blip>
          <a:srcRect l="0" t="0" r="0" b="7681"/>
          <a:stretch/>
        </p:blipFill>
        <p:spPr>
          <a:xfrm>
            <a:off x="4419720" y="457200"/>
            <a:ext cx="3962160" cy="2576520"/>
          </a:xfrm>
          <a:prstGeom prst="rect">
            <a:avLst/>
          </a:prstGeom>
          <a:ln w="9360">
            <a:solidFill>
              <a:srgbClr val="ff00ff"/>
            </a:solidFill>
            <a:miter/>
          </a:ln>
        </p:spPr>
      </p:pic>
      <p:sp>
        <p:nvSpPr>
          <p:cNvPr id="152" name=""/>
          <p:cNvSpPr/>
          <p:nvPr/>
        </p:nvSpPr>
        <p:spPr>
          <a:xfrm>
            <a:off x="6477120" y="3886200"/>
            <a:ext cx="2271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宋体"/>
              </a:rPr>
              <a:t>周树人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19320" y="4464000"/>
            <a:ext cx="2200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宋体"/>
              </a:rPr>
              <a:t>豫才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5880" y="5073480"/>
            <a:ext cx="2724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宋体"/>
              </a:rPr>
              <a:t>浙江绍兴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14600" y="5595840"/>
            <a:ext cx="2128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宋体"/>
              </a:rPr>
              <a:t>文学家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19720" y="5607000"/>
            <a:ext cx="2384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宋体"/>
              </a:rPr>
              <a:t>思想家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77120" y="5607000"/>
            <a:ext cx="2342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宋体"/>
              </a:rPr>
              <a:t>革命家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533520" y="2849400"/>
            <a:ext cx="8001000" cy="3353040"/>
            <a:chOff x="533520" y="2849400"/>
            <a:chExt cx="8001000" cy="3353040"/>
          </a:xfrm>
        </p:grpSpPr>
        <p:sp>
          <p:nvSpPr>
            <p:cNvPr id="159" name=""/>
            <p:cNvSpPr/>
            <p:nvPr/>
          </p:nvSpPr>
          <p:spPr>
            <a:xfrm>
              <a:off x="533520" y="2849400"/>
              <a:ext cx="8001000" cy="28371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7a77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本文选自</a:t>
              </a:r>
              <a:r>
                <a:rPr b="1" lang="en-US" sz="3600" spc="-1" strike="noStrike">
                  <a:solidFill>
                    <a:srgbClr val="000000"/>
                  </a:solidFill>
                  <a:latin typeface="宋体"/>
                </a:rPr>
                <a:t>《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且介亭杂文</a:t>
              </a:r>
              <a:r>
                <a:rPr b="1" lang="en-US" sz="3600" spc="-1" strike="noStrike">
                  <a:solidFill>
                    <a:srgbClr val="000000"/>
                  </a:solidFill>
                  <a:latin typeface="宋体"/>
                </a:rPr>
                <a:t>》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，作者鲁迅（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881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－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936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），原名</a:t>
              </a:r>
              <a:r>
                <a:rPr b="1" lang="zh-CN" sz="3600" spc="-1" strike="noStrike">
                  <a:solidFill>
                    <a:srgbClr val="ffffff"/>
                  </a:solidFill>
                  <a:latin typeface="宋体"/>
                </a:rPr>
                <a:t>       ，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字     。鲁迅是他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918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年为（新青年）写稿时开始使用的笔名。       人。伟大的       、      和       。</a:t>
              </a:r>
              <a:endParaRPr b="0" lang="en-US" sz="36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400800" y="5668920"/>
              <a:ext cx="15238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19320" y="5059440"/>
              <a:ext cx="11430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324480" y="6202440"/>
              <a:ext cx="16765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14600" y="6202440"/>
              <a:ext cx="15238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495680" y="6202440"/>
              <a:ext cx="12956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477120" y="4449600"/>
              <a:ext cx="144756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1066680" y="1295280"/>
            <a:ext cx="3000600" cy="99072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8100000"/>
          </a:gradFill>
          <a:ln w="9360">
            <a:solidFill>
              <a:srgbClr val="ff00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作者简介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0" y="5546880"/>
            <a:ext cx="7020000" cy="11912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63634"/>
                </a:solidFill>
                <a:latin typeface="Arial"/>
              </a:rPr>
              <a:t>毛泽东称“鲁迅是中国文化革命的主将”   “鲁迅的骨头是最硬的”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907920"/>
            <a:ext cx="9144000" cy="3328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这篇文章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写于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934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年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5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日，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正是“九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•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一八”事变三周年之后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1931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年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月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18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日，日本帝国主义突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然向沈阳进攻，蒋介石下令不许抵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抗，国民党军队不战而逃，不到半年，日本帝国主义就占领了我东北三省。而“南京政府束手无策”“单会去哀求国联” 。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九一八”事变后，国民党政府多次向国联申诉，要求制止日本帝国主义侵略，但国联采取了袒护日本的立场，哀求国联无效后，一些国民党官僚和“社会名流”，以祈祷“解救国难”为名，多次在一些大城市举办“时轮金刚法会”，求神拜佛，怀古伤今。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有些甚至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散布对抗日前途的悲观论调，指责中国人失掉了自信力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针对上述情况，鲁迅为了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批驳这种错误论调，鼓舞民族的自信心，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写下了这样一篇文章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16000" y="0"/>
            <a:ext cx="3672000" cy="80964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8100000"/>
          </a:gradFill>
          <a:ln w="9360">
            <a:solidFill>
              <a:srgbClr val="ff00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时代背景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472000" y="333360"/>
            <a:ext cx="3672000" cy="2060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1271520" cy="129528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 rot="10800000">
            <a:off x="9601200" y="-720"/>
            <a:ext cx="76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276720" y="189000"/>
            <a:ext cx="3671640" cy="103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词语解释</a:t>
            </a:r>
            <a:endParaRPr b="0" lang="en-US" sz="2400" spc="1" strike="noStrike">
              <a:ln w="1260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341360"/>
            <a:ext cx="4392720" cy="53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怀古伤今：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慨叹：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③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诓（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骗：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④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渺茫：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⑤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前仆后继：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⑥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为民请命：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⑦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省</a:t>
            </a: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xǐng)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悟：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⑧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玄虚之至：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⑨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自欺欺人：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340000" y="1268280"/>
            <a:ext cx="68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追念古代的事情，感伤今天的现实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79640" y="191628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有所感触而叹息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08360" y="24922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欺骗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47640" y="306864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本课是因没有把握而难以预期。 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195640" y="3500280"/>
            <a:ext cx="66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前面的人倒下去，后面的人继续跟上来，形容英勇奋斗，不怕牺牲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58920" y="2492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Kuāng   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9456120" y="3312360"/>
            <a:ext cx="8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68360" y="429264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代表人民的利益，替人民说话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32000" y="4869000"/>
            <a:ext cx="365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醒悟，觉醒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68360" y="5445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玄妙空虚到了极点。玄虚，空虚，不真实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95640" y="6093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用自己都难以置信的话或手法来欺骗别人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208560" y="92160"/>
            <a:ext cx="3187800" cy="759600"/>
          </a:xfrm>
          <a:prstGeom prst="wedgeRoundRectCallout">
            <a:avLst>
              <a:gd name="adj1" fmla="val -165185"/>
              <a:gd name="adj2" fmla="val 562361"/>
              <a:gd name="adj3" fmla="val 16667"/>
            </a:avLst>
          </a:prstGeom>
          <a:solidFill>
            <a:srgbClr val="66ff33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1—  5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152280"/>
            <a:ext cx="4967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初读课文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整体把握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5800" y="762120"/>
            <a:ext cx="6781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对方的错误观点是什么？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2209680"/>
            <a:ext cx="7989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作者正面提出的观点是什么？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3733920"/>
            <a:ext cx="7315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把握文章的整体思路：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43000" y="1447920"/>
            <a:ext cx="6172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73240" y="144792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中国人失掉自信力了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87760" y="2971800"/>
            <a:ext cx="429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黑体"/>
                <a:ea typeface="黑体"/>
              </a:rPr>
              <a:t>我们有并不失掉自信力的中国人在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4508640"/>
            <a:ext cx="8820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（一）驳：中国人失掉自信力了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4000" y="5300640"/>
            <a:ext cx="8496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（二）立：我们有并不失掉自信力的中国人在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76720" y="6021360"/>
            <a:ext cx="2447640" cy="765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6——9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116000" y="1125360"/>
            <a:ext cx="563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议论文包括</a:t>
            </a:r>
            <a:r>
              <a:rPr b="1" lang="zh-CN" sz="3200" spc="-1" strike="noStrike" u="sng">
                <a:solidFill>
                  <a:srgbClr val="007a77"/>
                </a:solidFill>
                <a:uFillTx/>
                <a:latin typeface="Times New Roman"/>
              </a:rPr>
              <a:t>立论和驳论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两种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95280" y="0"/>
            <a:ext cx="35053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议论文的常识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1" name=""/>
          <p:cNvSpPr/>
          <p:nvPr/>
        </p:nvSpPr>
        <p:spPr>
          <a:xfrm>
            <a:off x="324000" y="170028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驳论是先指出对方错误的实质，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直接批驳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或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间接批驳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，继而提出自己的观点并加以论证的议论文。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先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破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后“立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”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643280" y="5157720"/>
            <a:ext cx="1828800" cy="642600"/>
          </a:xfrm>
          <a:prstGeom prst="rect">
            <a:avLst/>
          </a:pr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7a77"/>
                </a:solidFill>
                <a:uFillTx/>
                <a:latin typeface="Times New Roman"/>
              </a:rPr>
              <a:t>驳论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72360" y="4581360"/>
            <a:ext cx="1584360" cy="206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驳论点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驳论据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驳论证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95280" y="3284640"/>
            <a:ext cx="806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学习驳论文，首先要看作者怎样抓住批驳的“突破口”，要学会识别谬论，能够看出它错在哪里，为什么会错。还要学习反驳谬论，是直接驳论点，还是通过驳论据、论证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来驳倒论点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867280" y="4724280"/>
            <a:ext cx="432000" cy="1584360"/>
          </a:xfrm>
          <a:custGeom>
            <a:avLst/>
            <a:gdLst>
              <a:gd name="textAreaLeft" fmla="*/ 276120 w 432000"/>
              <a:gd name="textAreaRight" fmla="*/ 432360 w 43200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476360" y="33336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999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年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2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月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0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日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中国政府对澳门恢复行使主权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87" name="" descr="欢庆回归"/>
          <p:cNvPicPr/>
          <p:nvPr/>
        </p:nvPicPr>
        <p:blipFill>
          <a:blip r:embed="rId2"/>
          <a:stretch/>
        </p:blipFill>
        <p:spPr>
          <a:xfrm>
            <a:off x="0" y="2133720"/>
            <a:ext cx="4786200" cy="31431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95280" y="533412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Times New Roman"/>
              </a:rPr>
              <a:t>澳门儿童手拿区旗与国旗，迎接回归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89" name="" descr="中国国旗扬起"/>
          <p:cNvPicPr/>
          <p:nvPr/>
        </p:nvPicPr>
        <p:blipFill>
          <a:blip r:embed="rId3"/>
          <a:stretch/>
        </p:blipFill>
        <p:spPr>
          <a:xfrm>
            <a:off x="5219640" y="1600200"/>
            <a:ext cx="3600360" cy="41688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003640" y="6019920"/>
            <a:ext cx="391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Times New Roman"/>
              </a:rPr>
              <a:t>中国国旗在会场扬起来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9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152280"/>
            <a:ext cx="1144440" cy="1457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826920" y="476280"/>
            <a:ext cx="7775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精读课文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黑体"/>
              </a:rPr>
              <a:t>,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讨论交流第一部分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黑体"/>
              </a:rPr>
              <a:t>: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55640" y="1341360"/>
            <a:ext cx="7632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作者开篇树立的靶子是什么？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76240" y="2133720"/>
            <a:ext cx="429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中国人失掉自信力了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8920" y="5680080"/>
            <a:ext cx="8893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支持这个错误观点的论据是什么？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95280" y="2852280"/>
            <a:ext cx="8280360" cy="2803680"/>
            <a:chOff x="395280" y="2852280"/>
            <a:chExt cx="8280360" cy="2803680"/>
          </a:xfrm>
        </p:grpSpPr>
        <p:sp>
          <p:nvSpPr>
            <p:cNvPr id="211" name=""/>
            <p:cNvSpPr/>
            <p:nvPr/>
          </p:nvSpPr>
          <p:spPr>
            <a:xfrm>
              <a:off x="395280" y="3500280"/>
              <a:ext cx="3240000" cy="1191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两年前总自夸“地大物博”</a:t>
              </a:r>
              <a:endParaRPr b="0" lang="en-US" sz="36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867280" y="3429000"/>
              <a:ext cx="2808360" cy="1191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久不自夸只希望国联</a:t>
              </a:r>
              <a:endParaRPr b="0" lang="en-US" sz="36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124000" y="5013360"/>
              <a:ext cx="496908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现在求神拜佛怀古伤今</a:t>
              </a:r>
              <a:endParaRPr b="0" lang="en-US" sz="36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1763640" y="2852640"/>
              <a:ext cx="2592360" cy="720720"/>
            </a:xfrm>
            <a:prstGeom prst="line">
              <a:avLst/>
            </a:prstGeom>
            <a:ln w="5724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 flipV="1">
              <a:off x="4643280" y="2852640"/>
              <a:ext cx="2881440" cy="720720"/>
            </a:xfrm>
            <a:prstGeom prst="line">
              <a:avLst/>
            </a:prstGeom>
            <a:ln w="5724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 flipV="1">
              <a:off x="4572000" y="4941360"/>
              <a:ext cx="71280" cy="7164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4500720" y="2852280"/>
              <a:ext cx="0" cy="2089080"/>
            </a:xfrm>
            <a:prstGeom prst="line">
              <a:avLst/>
            </a:prstGeom>
            <a:ln w="5724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1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755640" y="76500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、作者既然认为对方的观点是错误的，为什么文中反复承认“是事实”“也是事实”“却也是事实”，与后文的批判有什么关系？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312408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_x000b__x000c_"/>
              </a:rPr>
              <a:t>先确认敌论据的真实性，但这真实的论据不能证明其论点，为后文的驳论证奠定基础。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50920" y="404640"/>
            <a:ext cx="867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☆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揣摩第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段话，三个副词“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总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”、“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只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”、“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一味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”能否互换位置？为什么？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30200" y="1916280"/>
            <a:ext cx="8174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不能。“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总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”让人看到国民党政府夸耀“地大物博”时的洋洋自得、自我炫耀的样子；“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只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”是抓救命稻草时的形象，仰人鼻息之状跃然纸上；“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一味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”则是深陷而不能自拔，沉迷于其中顽固不化的样子。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这三个副词准确地写出了国民党政府在自欺的道路上越走越远的“事实”，极富讽刺意味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95280" y="2708280"/>
            <a:ext cx="52214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信“地”、信“物”、信“国联”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59280" y="3068640"/>
            <a:ext cx="1584360" cy="72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5280" y="404640"/>
            <a:ext cx="8443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敌方的三个论据能证明“中国人失掉自信力”这个论点吗？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416600" y="1628640"/>
            <a:ext cx="3332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两年前总自夸“地大物博”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319400" y="3651120"/>
            <a:ext cx="2923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不久不自夸只希望国联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92120" y="4365720"/>
            <a:ext cx="2923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现在求神拜佛怀古伤今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042920" y="2637000"/>
            <a:ext cx="36734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失掉了“他信力”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rot="21307200">
            <a:off x="107640" y="1922400"/>
            <a:ext cx="558720" cy="1938240"/>
          </a:xfrm>
          <a:custGeom>
            <a:avLst/>
            <a:gdLst>
              <a:gd name="textAreaLeft" fmla="*/ 74880 w 558720"/>
              <a:gd name="textAreaRight" fmla="*/ 483840 w 558720"/>
              <a:gd name="textAreaTop" fmla="*/ 376200 h 1938240"/>
              <a:gd name="textAreaBottom" fmla="*/ 1262160 h 1938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85" stAng="-5400000" swAng="-5400000"/>
                <a:lnTo>
                  <a:pt x="0" y="9872"/>
                </a:lnTo>
                <a:arcTo wR="21600" hR="8385" stAng="10800000" swAng="-3105243"/>
                <a:lnTo>
                  <a:pt x="15280" y="21233"/>
                </a:lnTo>
                <a:lnTo>
                  <a:pt x="21600" y="17514"/>
                </a:lnTo>
                <a:lnTo>
                  <a:pt x="15280" y="13060"/>
                </a:lnTo>
                <a:lnTo>
                  <a:pt x="15280" y="16403"/>
                </a:lnTo>
                <a:arcTo wR="21600" hR="8385" stAng="7694757" swAng="2986491"/>
                <a:lnTo>
                  <a:pt x="85" y="9129"/>
                </a:lnTo>
                <a:arcTo wR="21600" hR="8385" stAng="-10681248" swAng="5281248"/>
                <a:close/>
              </a:path>
              <a:path fill="darkenLess" w="21600" h="21600">
                <a:moveTo>
                  <a:pt x="21600" y="0"/>
                </a:moveTo>
                <a:arcTo wR="21600" hR="8385" stAng="-5400000" swAng="-5400000"/>
                <a:lnTo>
                  <a:pt x="0" y="8385"/>
                </a:lnTo>
                <a:arcTo wR="21600" hR="8385" stAng="10800000" swAng="-118752"/>
                <a:lnTo>
                  <a:pt x="85" y="9129"/>
                </a:lnTo>
                <a:arcTo wR="21600" hR="8385" stAng="-10681248" swAng="5281248"/>
                <a:close/>
              </a:path>
            </a:pathLst>
          </a:cu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10165200">
            <a:off x="5148360" y="2204280"/>
            <a:ext cx="558720" cy="1800360"/>
          </a:xfrm>
          <a:custGeom>
            <a:avLst/>
            <a:gdLst>
              <a:gd name="textAreaLeft" fmla="*/ 74880 w 558720"/>
              <a:gd name="textAreaRight" fmla="*/ 483840 w 558720"/>
              <a:gd name="textAreaTop" fmla="*/ 325800 h 1800360"/>
              <a:gd name="textAreaBottom" fmla="*/ 112500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20" stAng="-5400000" swAng="-5400000"/>
                <a:lnTo>
                  <a:pt x="0" y="9589"/>
                </a:lnTo>
                <a:arcTo wR="21600" hR="7820" stAng="10800000" swAng="-2199104"/>
                <a:lnTo>
                  <a:pt x="12150" y="20812"/>
                </a:lnTo>
                <a:lnTo>
                  <a:pt x="21600" y="16524"/>
                </a:lnTo>
                <a:lnTo>
                  <a:pt x="12150" y="10659"/>
                </a:lnTo>
                <a:lnTo>
                  <a:pt x="12150" y="14851"/>
                </a:lnTo>
                <a:arcTo wR="21600" hR="7820" stAng="8600896" swAng="2057503"/>
                <a:lnTo>
                  <a:pt x="139" y="8704"/>
                </a:lnTo>
                <a:arcTo wR="21600" hR="7820" stAng="-10658398" swAng="5258398"/>
                <a:close/>
              </a:path>
              <a:path fill="darkenLess" w="21600" h="21600">
                <a:moveTo>
                  <a:pt x="21600" y="0"/>
                </a:moveTo>
                <a:arcTo wR="21600" hR="7820" stAng="-5400000" swAng="-5400000"/>
                <a:lnTo>
                  <a:pt x="0" y="7820"/>
                </a:lnTo>
                <a:arcTo wR="21600" hR="7820" stAng="10800000" swAng="-141602"/>
                <a:lnTo>
                  <a:pt x="139" y="8704"/>
                </a:lnTo>
                <a:arcTo wR="21600" hR="7820" stAng="-10658398" swAng="5258398"/>
                <a:close/>
              </a:path>
            </a:pathLst>
          </a:cu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26920" y="5877000"/>
            <a:ext cx="396108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发展着“自欺力”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570040" y="5013360"/>
            <a:ext cx="489240" cy="792000"/>
          </a:xfrm>
          <a:prstGeom prst="downArrow">
            <a:avLst>
              <a:gd name="adj1" fmla="val 50000"/>
              <a:gd name="adj2" fmla="val 40471"/>
            </a:avLst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932360" y="2997360"/>
            <a:ext cx="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768360" y="1484280"/>
            <a:ext cx="485640" cy="4969800"/>
          </a:xfrm>
          <a:prstGeom prst="rect">
            <a:avLst/>
          </a:prstGeom>
          <a:solidFill>
            <a:srgbClr val="66ff33"/>
          </a:solidFill>
          <a:ln w="9360">
            <a:solidFill>
              <a:srgbClr val="ff00ff"/>
            </a:solidFill>
            <a:miter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中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国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人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失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掉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自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信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力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4859280" y="4869000"/>
            <a:ext cx="1657440" cy="1224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5508360" y="3141720"/>
            <a:ext cx="637920" cy="838080"/>
            <a:chOff x="5508360" y="3141720"/>
            <a:chExt cx="637920" cy="838080"/>
          </a:xfrm>
        </p:grpSpPr>
        <p:sp>
          <p:nvSpPr>
            <p:cNvPr id="237" name=""/>
            <p:cNvSpPr/>
            <p:nvPr/>
          </p:nvSpPr>
          <p:spPr>
            <a:xfrm flipH="1">
              <a:off x="5508360" y="3141720"/>
              <a:ext cx="609480" cy="838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537160" y="3141720"/>
              <a:ext cx="609120" cy="838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5435280" y="5084640"/>
            <a:ext cx="609840" cy="838080"/>
            <a:chOff x="5435280" y="5084640"/>
            <a:chExt cx="609840" cy="838080"/>
          </a:xfrm>
        </p:grpSpPr>
        <p:sp>
          <p:nvSpPr>
            <p:cNvPr id="240" name=""/>
            <p:cNvSpPr/>
            <p:nvPr/>
          </p:nvSpPr>
          <p:spPr>
            <a:xfrm flipH="1">
              <a:off x="5435280" y="5084640"/>
              <a:ext cx="609480" cy="838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435640" y="5084640"/>
              <a:ext cx="609480" cy="838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6774840" y="1773360"/>
            <a:ext cx="1399320" cy="475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驳论证（直接反驳）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63840" y="836640"/>
            <a:ext cx="911880" cy="60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批驳对方的论证过程不合逻辑，偷换概念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0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5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8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3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3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8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3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2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50920" y="40464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5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、提问：文中“他信力”“自欺力”加引号起什么作用 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14920" y="1484280"/>
            <a:ext cx="53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起讽刺否定的作用。</a:t>
            </a:r>
            <a:r>
              <a:rPr b="0" lang="zh-CN" sz="4400" spc="-1" strike="noStrike">
                <a:solidFill>
                  <a:srgbClr val="007a77"/>
                </a:solidFill>
                <a:latin typeface="隶书"/>
                <a:ea typeface="隶书"/>
              </a:rPr>
              <a:t> 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4920" y="2362320"/>
            <a:ext cx="8381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6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、提问：“失掉了他信力，就会疑，一个转身，也许能够只相信了自己，倒是一条新生路。”这里的“新生路”指什么？ 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510552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新生路指相信自己的力量，号召全国民众团结起来抗日救亡。</a:t>
            </a:r>
            <a:r>
              <a:rPr b="0" lang="zh-CN" sz="4400" spc="-1" strike="noStrike">
                <a:solidFill>
                  <a:srgbClr val="007a77"/>
                </a:solidFill>
                <a:latin typeface="隶书"/>
                <a:ea typeface="隶书"/>
              </a:rPr>
              <a:t> 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68360" y="170028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仿拟的修辞手法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9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4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9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95280" y="2708280"/>
            <a:ext cx="813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因为这部分文字道出了“求神拜佛”的实质，展示了作者无私无畏的精神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24000" y="549360"/>
            <a:ext cx="84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第四段有一部分加点的文字，国民党检查管曾删掉这段文字，想想为什么被删去？这段文字有何作用？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826920" y="333360"/>
            <a:ext cx="7775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精读课文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讨论交流第二部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55640" y="1197000"/>
            <a:ext cx="61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一、品读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黑体"/>
              </a:rPr>
              <a:t>6——8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段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作者自己的论点是什么？提出哪些论据来加以论证的？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采用怎样的论证方法？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方正舒体"/>
              </a:rPr>
              <a:t>论点：“有并不失掉自信力的中国人在”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幼圆"/>
              </a:rPr>
              <a:t>论据：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有过去和现在的事实为证 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幼圆"/>
              </a:rPr>
              <a:t>（从古至今都有满怀自信的“中国的脊梁”）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针锋相对地提出自己的观点，并列举事实证明 ，热情歌颂从古到今有自信力的“中国的脊梁”，从而彻底驳倒对方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。（这是间接反驳）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3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333360"/>
            <a:ext cx="431640" cy="5763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24000" y="1628640"/>
            <a:ext cx="8583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指默默无闻、努力工作的广大劳动人民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毕升、祖冲之、李时珍、詹天佑等人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09680" y="2997360"/>
            <a:ext cx="87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指那些不怕牺牲、不计得失、忠于祖国的人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岳飞、文天祥、戚继光、林则徐等人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95280" y="4437000"/>
            <a:ext cx="87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指同情人民，为人民鸣不平、伸张正义的人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屈原、关汉卿、海瑞等人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68360" y="5791320"/>
            <a:ext cx="867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指历尽艰辛、英勇献身、追求真理的人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商鞅、谭嗣同、玄奘、法显等人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944640" y="1197000"/>
            <a:ext cx="22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埋头苦干的人”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00280" y="2565360"/>
            <a:ext cx="22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拼命硬干的人”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4000" y="3933720"/>
            <a:ext cx="303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为民请命的人”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00280" y="5373720"/>
            <a:ext cx="22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舍身求法的人”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68360" y="0"/>
            <a:ext cx="86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、列举的四种人分别指什么样的人？请举出具体的人物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1125360"/>
            <a:ext cx="88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作者为什么赞扬他们“这就是中国的脊梁”？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79280" y="242100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这是</a:t>
            </a:r>
            <a:r>
              <a:rPr b="1" lang="zh-CN" sz="3600" spc="-1" strike="noStrike">
                <a:solidFill>
                  <a:srgbClr val="009900"/>
                </a:solidFill>
                <a:latin typeface="宋体"/>
              </a:rPr>
              <a:t>比喻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说法。指</a:t>
            </a:r>
            <a:r>
              <a:rPr b="1" lang="zh-CN" sz="3600" spc="-1" strike="noStrike">
                <a:solidFill>
                  <a:srgbClr val="ff6600"/>
                </a:solidFill>
                <a:latin typeface="宋体"/>
              </a:rPr>
              <a:t>脚踏实地为民族的进步而奋斗的人们，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他们来自下层，代表着广大人民的利益。他们是使中国挺立起来的</a:t>
            </a:r>
            <a:r>
              <a:rPr b="1" lang="zh-CN" sz="3600" spc="-1" strike="noStrike">
                <a:solidFill>
                  <a:srgbClr val="ff6600"/>
                </a:solidFill>
                <a:latin typeface="宋体"/>
              </a:rPr>
              <a:t>“脊梁”。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这些没有失掉自信力的中国人是中国的</a:t>
            </a:r>
            <a:r>
              <a:rPr b="1" lang="zh-CN" sz="3600" spc="-1" strike="noStrike">
                <a:solidFill>
                  <a:srgbClr val="dc5900"/>
                </a:solidFill>
                <a:latin typeface="宋体"/>
              </a:rPr>
              <a:t>主流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是中国的</a:t>
            </a:r>
            <a:r>
              <a:rPr b="1" lang="zh-CN" sz="3600" spc="-1" strike="noStrike">
                <a:solidFill>
                  <a:srgbClr val="dc5900"/>
                </a:solidFill>
                <a:latin typeface="宋体"/>
              </a:rPr>
              <a:t>希望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3141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</a:rPr>
              <a:t>☆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联系背景，说说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文中“这一类的人们”指的是谁？ 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900000" y="3789360"/>
            <a:ext cx="692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_x000b__x000c_"/>
              </a:rPr>
              <a:t>指坚持抗战和民族解放的人们。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6934320" y="5200560"/>
            <a:ext cx="2209680" cy="16574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0" y="189000"/>
            <a:ext cx="88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5</a:t>
            </a:r>
            <a:r>
              <a:rPr b="1" lang="zh-CN" sz="4400" spc="-1" strike="noStrike">
                <a:solidFill>
                  <a:srgbClr val="0099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这一类没有失掉自信心的人现状如何？ 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68360" y="836640"/>
            <a:ext cx="867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从人数上看：何尝少呢？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从特征上看：有确信，不自欺，前仆后继地战斗。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从处境上看：总在被摧残，被抹杀，消灭于黑暗中，不能为大家所知道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9280" y="4365720"/>
            <a:ext cx="811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Arial"/>
              </a:rPr>
              <a:t>☆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 “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说中国人失掉了自信力，用以指一部分人则可，倘若加于全体，那简直是诬蔑。”这句话批驳敌论证的什么毛病？ 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0920" y="5950080"/>
            <a:ext cx="799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_x000b__x000c_"/>
              </a:rPr>
              <a:t>批驳敌论证</a:t>
            </a:r>
            <a:r>
              <a:rPr b="1" lang="zh-CN" sz="4000" spc="-1" strike="noStrike" u="sng">
                <a:solidFill>
                  <a:srgbClr val="007a77"/>
                </a:solidFill>
                <a:uFillTx/>
                <a:latin typeface="_x000b__x000c_"/>
              </a:rPr>
              <a:t>以偏概全</a:t>
            </a:r>
            <a:r>
              <a:rPr b="1" lang="zh-CN" sz="4000" spc="-1" strike="noStrike">
                <a:solidFill>
                  <a:srgbClr val="007a77"/>
                </a:solidFill>
                <a:latin typeface="_x000b__x000c_"/>
              </a:rPr>
              <a:t>的毛病。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2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-360" y="764640"/>
            <a:ext cx="4716360" cy="24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华文中宋"/>
                <a:ea typeface="华文中宋"/>
              </a:rPr>
              <a:t>         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2001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年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7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月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13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日，萨马兰奇在莫斯科宣布北京获得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2008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年奥运会主办权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859280" y="476280"/>
            <a:ext cx="4033800" cy="6048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324000" y="3138480"/>
            <a:ext cx="4464000" cy="35496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58920" cy="944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结      论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阅读最后一段，思考：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本文的结论是什么？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本段在全文中的作用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结论：自信力的有无，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Arial"/>
                <a:ea typeface="隶书"/>
              </a:rPr>
              <a:t>状元宰相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的文章不足为据，要看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Arial"/>
                <a:ea typeface="隶书"/>
              </a:rPr>
              <a:t>地底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方正舒体"/>
              </a:rPr>
              <a:t>作用：照应题目，作出回答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4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9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4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476360" y="404640"/>
            <a:ext cx="6624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、“状元宰相”指什么？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76360" y="981000"/>
            <a:ext cx="7416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黑体"/>
              </a:rPr>
              <a:t>国民党反动政客及其御用文人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549440" y="1557360"/>
            <a:ext cx="7345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2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、“地底下”指什么？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08000" y="4581360"/>
            <a:ext cx="6120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黑体"/>
              </a:rPr>
              <a:t>美化伪装，欺骗宣传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547640" y="4076640"/>
            <a:ext cx="7272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、“脂粉”的意思是什么？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476360" y="5661000"/>
            <a:ext cx="7201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黑体"/>
              </a:rPr>
              <a:t>古往今来的志士仁人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620720" y="5157720"/>
            <a:ext cx="7523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4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、“筋骨和脊梁”比喻什么？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619280" y="2133720"/>
            <a:ext cx="712944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指</a:t>
            </a:r>
            <a:r>
              <a:rPr b="1" lang="zh-CN" sz="3200" spc="-1" strike="noStrike" u="sng">
                <a:solidFill>
                  <a:srgbClr val="3333ff"/>
                </a:solidFill>
                <a:uFillTx/>
                <a:latin typeface="Arial"/>
                <a:ea typeface="黑体"/>
              </a:rPr>
              <a:t>变革社会的积极力量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 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黑体"/>
              </a:rPr>
              <a:t>.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因为它来自民众，故称“地底下”，在当时，这股力量指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还处于地下斗争状态的中国共产党、及其领导的革命力量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 rot="5400000">
            <a:off x="-1189440" y="2132280"/>
            <a:ext cx="3816360" cy="936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体会比喻义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zoom dir="out"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1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6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1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000"/>
                            </p:stCondLst>
                            <p:childTnLst>
                              <p:par>
                                <p:cTn id="50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5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0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5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0" y="333360"/>
            <a:ext cx="44956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作者写作思路</a:t>
            </a:r>
            <a:endParaRPr b="0" lang="en-US" sz="5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2209680"/>
            <a:ext cx="190512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cap="sq"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树靶子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484360" y="2133720"/>
            <a:ext cx="17528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cap="sq"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打靶子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859280" y="2133720"/>
            <a:ext cx="2057400" cy="642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立观点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3809880"/>
            <a:ext cx="2133720" cy="1477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摆出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敌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论点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556000" y="3716280"/>
            <a:ext cx="1896840" cy="2025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驳斥敌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论证            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859280" y="3645000"/>
            <a:ext cx="2376720" cy="14770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证明自己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观点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2895480"/>
            <a:ext cx="0" cy="685800"/>
          </a:xfrm>
          <a:prstGeom prst="line">
            <a:avLst/>
          </a:prstGeom>
          <a:ln cap="sq" w="38160">
            <a:solidFill>
              <a:srgbClr val="007a77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505320" y="2819520"/>
            <a:ext cx="0" cy="685800"/>
          </a:xfrm>
          <a:prstGeom prst="line">
            <a:avLst/>
          </a:prstGeom>
          <a:ln cap="sq" w="38160">
            <a:solidFill>
              <a:srgbClr val="007a77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796000" y="2781360"/>
            <a:ext cx="0" cy="685800"/>
          </a:xfrm>
          <a:prstGeom prst="line">
            <a:avLst/>
          </a:prstGeom>
          <a:ln cap="sq" w="38160">
            <a:solidFill>
              <a:srgbClr val="007a77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2057400" y="2514600"/>
            <a:ext cx="457200" cy="0"/>
          </a:xfrm>
          <a:prstGeom prst="line">
            <a:avLst/>
          </a:prstGeom>
          <a:ln cap="sq" w="38160">
            <a:solidFill>
              <a:srgbClr val="007a77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427640" y="2421000"/>
            <a:ext cx="533160" cy="0"/>
          </a:xfrm>
          <a:prstGeom prst="line">
            <a:avLst/>
          </a:prstGeom>
          <a:ln cap="sq" w="38160">
            <a:solidFill>
              <a:srgbClr val="007a77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576360" y="5410080"/>
            <a:ext cx="7467480" cy="144792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7524720" y="1989000"/>
            <a:ext cx="1871640" cy="6426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cap="sq"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归结论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020000" y="2349360"/>
            <a:ext cx="533160" cy="0"/>
          </a:xfrm>
          <a:prstGeom prst="line">
            <a:avLst/>
          </a:prstGeom>
          <a:ln cap="sq" w="38160">
            <a:solidFill>
              <a:srgbClr val="007a77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0" y="115740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一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摆敌论点论据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—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124080" y="1066680"/>
            <a:ext cx="152640" cy="1067040"/>
          </a:xfrm>
          <a:custGeom>
            <a:avLst/>
            <a:gdLst>
              <a:gd name="textAreaLeft" fmla="*/ 97560 w 152640"/>
              <a:gd name="textAreaRight" fmla="*/ 153000 w 15264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6204"/>
                </a:lnTo>
                <a:cubicBezTo>
                  <a:pt x="10800" y="7104"/>
                  <a:pt x="5400" y="8004"/>
                  <a:pt x="0" y="8004"/>
                </a:cubicBezTo>
                <a:cubicBezTo>
                  <a:pt x="5400" y="8004"/>
                  <a:pt x="10800" y="8904"/>
                  <a:pt x="10800" y="9804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200400" y="7621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论据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200400" y="18288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论点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114800" y="6238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两年前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114800" y="10810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不    久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114800" y="15382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现    在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410080" y="6238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自夸“地大物博”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410080" y="10810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希望国联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410080" y="15238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求神拜佛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962520" y="19051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43728"/>
                </a:solidFill>
                <a:latin typeface="Times New Roman"/>
              </a:rPr>
              <a:t>中国人失掉自信力了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-152280" y="327672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二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反驳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219320" y="2743200"/>
            <a:ext cx="228600" cy="1676520"/>
          </a:xfrm>
          <a:custGeom>
            <a:avLst/>
            <a:gdLst>
              <a:gd name="textAreaLeft" fmla="*/ 146160 w 228600"/>
              <a:gd name="textAreaRight" fmla="*/ 228960 w 2286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47920" y="2514600"/>
            <a:ext cx="190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直接反驳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—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124080" y="237636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失掉的是“他信力”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28195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发展着“自欺力”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295280" y="420516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间接反驳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—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743200" y="32004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论点 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09880" y="32004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有并不失掉自信力的中国人在    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971800" y="47242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论据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86200" y="434340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600"/>
                </a:lnTo>
                <a:cubicBezTo>
                  <a:pt x="10800" y="8500"/>
                  <a:pt x="5400" y="9400"/>
                  <a:pt x="0" y="9400"/>
                </a:cubicBezTo>
                <a:cubicBezTo>
                  <a:pt x="5400" y="9400"/>
                  <a:pt x="10800" y="10300"/>
                  <a:pt x="10800" y="112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038480" y="41148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古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038480" y="5410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今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572000" y="3733920"/>
            <a:ext cx="228600" cy="1523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876920" y="35812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埋头苦干的人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648320" y="53341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有确信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不自欺  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876920" y="40384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拼命硬干的人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876920" y="452592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为民请命的人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648320" y="57150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前仆后继的战斗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876920" y="49528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舍身求法的人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495680" y="5410080"/>
            <a:ext cx="152640" cy="762120"/>
          </a:xfrm>
          <a:custGeom>
            <a:avLst/>
            <a:gdLst>
              <a:gd name="textAreaLeft" fmla="*/ 97560 w 152640"/>
              <a:gd name="textAreaRight" fmla="*/ 153000 w 15264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0"/>
            <a:ext cx="66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文章结构内容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5911920"/>
            <a:ext cx="16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三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结论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: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58920" y="61657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自信力的有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状元宰相的文章不足为据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看地底下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119720" y="4267080"/>
            <a:ext cx="10335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脊  梁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 rot="5373600">
            <a:off x="6628320" y="1748160"/>
            <a:ext cx="768240" cy="2291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28"/>
                </a:moveTo>
                <a:lnTo>
                  <a:pt x="18528" y="21628"/>
                </a:lnTo>
                <a:lnTo>
                  <a:pt x="18528" y="7181"/>
                </a:lnTo>
                <a:lnTo>
                  <a:pt x="15428" y="7181"/>
                </a:lnTo>
                <a:lnTo>
                  <a:pt x="18514" y="0"/>
                </a:lnTo>
                <a:lnTo>
                  <a:pt x="21600" y="7181"/>
                </a:lnTo>
                <a:lnTo>
                  <a:pt x="18500" y="7181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16226400">
            <a:off x="7746840" y="1799640"/>
            <a:ext cx="909720" cy="142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28"/>
                </a:moveTo>
                <a:lnTo>
                  <a:pt x="18528" y="21628"/>
                </a:lnTo>
                <a:lnTo>
                  <a:pt x="18528" y="7181"/>
                </a:lnTo>
                <a:lnTo>
                  <a:pt x="15428" y="7181"/>
                </a:lnTo>
                <a:lnTo>
                  <a:pt x="18514" y="0"/>
                </a:lnTo>
                <a:lnTo>
                  <a:pt x="21600" y="7181"/>
                </a:lnTo>
                <a:lnTo>
                  <a:pt x="18500" y="7181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 rot="5373600">
            <a:off x="8150040" y="5717520"/>
            <a:ext cx="61596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28"/>
                </a:moveTo>
                <a:lnTo>
                  <a:pt x="18528" y="21628"/>
                </a:lnTo>
                <a:lnTo>
                  <a:pt x="18528" y="7181"/>
                </a:lnTo>
                <a:lnTo>
                  <a:pt x="15428" y="7181"/>
                </a:lnTo>
                <a:lnTo>
                  <a:pt x="18514" y="0"/>
                </a:lnTo>
                <a:lnTo>
                  <a:pt x="21600" y="7181"/>
                </a:lnTo>
                <a:lnTo>
                  <a:pt x="18500" y="7181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 rot="5373600">
            <a:off x="7202520" y="1176840"/>
            <a:ext cx="610920" cy="2367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28"/>
                </a:moveTo>
                <a:lnTo>
                  <a:pt x="18528" y="21628"/>
                </a:lnTo>
                <a:lnTo>
                  <a:pt x="18528" y="7181"/>
                </a:lnTo>
                <a:lnTo>
                  <a:pt x="15428" y="7181"/>
                </a:lnTo>
                <a:lnTo>
                  <a:pt x="18514" y="0"/>
                </a:lnTo>
                <a:lnTo>
                  <a:pt x="21600" y="7181"/>
                </a:lnTo>
                <a:lnTo>
                  <a:pt x="18500" y="7181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229600" y="1143000"/>
            <a:ext cx="45720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686800" y="1143000"/>
            <a:ext cx="0" cy="99072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001000" y="4724280"/>
            <a:ext cx="91440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8915400" y="5867280"/>
            <a:ext cx="0" cy="7632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915400" y="4724280"/>
            <a:ext cx="0" cy="114300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086600" y="1828800"/>
            <a:ext cx="106668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153280" y="1828800"/>
            <a:ext cx="0" cy="68580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458200" y="3505320"/>
            <a:ext cx="45720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8915400" y="2971800"/>
            <a:ext cx="0" cy="53352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809880"/>
            <a:ext cx="304920" cy="2210040"/>
          </a:xfrm>
          <a:custGeom>
            <a:avLst/>
            <a:gdLst>
              <a:gd name="textAreaLeft" fmla="*/ 0 w 304920"/>
              <a:gd name="textAreaRight" fmla="*/ 110160 w 304920"/>
              <a:gd name="textAreaTop" fmla="*/ 57600 h 2210040"/>
              <a:gd name="textAreaBottom" fmla="*/ 2152440 h 221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7231"/>
                </a:lnTo>
                <a:cubicBezTo>
                  <a:pt x="10800" y="8131"/>
                  <a:pt x="16200" y="9031"/>
                  <a:pt x="21600" y="9031"/>
                </a:cubicBezTo>
                <a:cubicBezTo>
                  <a:pt x="16200" y="9031"/>
                  <a:pt x="10800" y="9931"/>
                  <a:pt x="10800" y="10831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819520" y="3505320"/>
            <a:ext cx="228600" cy="16002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0671"/>
                </a:lnTo>
                <a:cubicBezTo>
                  <a:pt x="10800" y="11571"/>
                  <a:pt x="5400" y="12471"/>
                  <a:pt x="0" y="12471"/>
                </a:cubicBezTo>
                <a:cubicBezTo>
                  <a:pt x="5400" y="12471"/>
                  <a:pt x="10800" y="13371"/>
                  <a:pt x="10800" y="1427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971800" y="2590920"/>
            <a:ext cx="228600" cy="533160"/>
          </a:xfrm>
          <a:custGeom>
            <a:avLst/>
            <a:gdLst>
              <a:gd name="textAreaLeft" fmla="*/ 146160 w 228600"/>
              <a:gd name="textAreaRight" fmla="*/ 228960 w 228600"/>
              <a:gd name="textAreaTop" fmla="*/ 13680 h 533160"/>
              <a:gd name="textAreaBottom" fmla="*/ 519480 h 53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962520" y="838080"/>
            <a:ext cx="228600" cy="990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4362"/>
                </a:lnTo>
                <a:cubicBezTo>
                  <a:pt x="10800" y="5262"/>
                  <a:pt x="5400" y="6162"/>
                  <a:pt x="0" y="6162"/>
                </a:cubicBezTo>
                <a:cubicBezTo>
                  <a:pt x="5400" y="6162"/>
                  <a:pt x="10800" y="7062"/>
                  <a:pt x="10800" y="796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001000" y="838080"/>
            <a:ext cx="152280" cy="609840"/>
          </a:xfrm>
          <a:custGeom>
            <a:avLst/>
            <a:gdLst>
              <a:gd name="textAreaLeft" fmla="*/ 0 w 152280"/>
              <a:gd name="textAreaRight" fmla="*/ 55080 w 15228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500"/>
                            </p:stCondLst>
                            <p:childTnLst>
                              <p:par>
                                <p:cTn id="5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500"/>
                            </p:stCondLst>
                            <p:childTnLst>
                              <p:par>
                                <p:cTn id="6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3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500"/>
                            </p:stCondLst>
                            <p:childTnLst>
                              <p:par>
                                <p:cTn id="6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1500"/>
                            </p:stCondLst>
                            <p:childTnLst>
                              <p:par>
                                <p:cTn id="6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500"/>
                            </p:stCondLst>
                            <p:childTnLst>
                              <p:par>
                                <p:cTn id="6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500"/>
                            </p:stCondLst>
                            <p:childTnLst>
                              <p:par>
                                <p:cTn id="7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3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1000"/>
                            </p:stCondLst>
                            <p:childTnLst>
                              <p:par>
                                <p:cTn id="7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500"/>
                            </p:stCondLst>
                            <p:childTnLst>
                              <p:par>
                                <p:cTn id="739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3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500"/>
                            </p:stCondLst>
                            <p:childTnLst>
                              <p:par>
                                <p:cTn id="7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3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500"/>
                            </p:stCondLst>
                            <p:childTnLst>
                              <p:par>
                                <p:cTn id="791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3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500"/>
                            </p:stCondLst>
                            <p:childTnLst>
                              <p:par>
                                <p:cTn id="8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1000"/>
                            </p:stCondLst>
                            <p:childTnLst>
                              <p:par>
                                <p:cTn id="8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1500"/>
                            </p:stCondLst>
                            <p:childTnLst>
                              <p:par>
                                <p:cTn id="8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3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3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971640" y="3189960"/>
            <a:ext cx="763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华文新魏"/>
                <a:ea typeface="华文新魏"/>
              </a:rPr>
              <a:t>        </a:t>
            </a:r>
            <a:r>
              <a:rPr b="1" lang="zh-CN" sz="4000" spc="-1" strike="noStrike">
                <a:solidFill>
                  <a:srgbClr val="003399"/>
                </a:solidFill>
                <a:latin typeface="宋体"/>
              </a:rPr>
              <a:t>本文义正辞严地批判了当时对抗日前途悲观的亡国论调，驳斥了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国民党反动政客及其走狗文人诬蔑中国人民失掉自信力</a:t>
            </a:r>
            <a:r>
              <a:rPr b="1" lang="zh-CN" sz="4000" spc="-1" strike="noStrike">
                <a:solidFill>
                  <a:srgbClr val="003399"/>
                </a:solidFill>
                <a:latin typeface="宋体"/>
              </a:rPr>
              <a:t>的无耻谰言，表达了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作者对中国革命前途的信心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755640" y="549360"/>
            <a:ext cx="3021120" cy="120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文章主题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395280" y="1557360"/>
            <a:ext cx="792000" cy="316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7a77"/>
            </a:solidFill>
            <a:miter/>
          </a:ln>
          <a:effectLst>
            <a:outerShdw dist="17819" dir="2700000" blurRad="0" rotWithShape="0">
              <a:srgbClr val="66ff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拓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展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延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伸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403280" y="836640"/>
            <a:ext cx="74516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楷体_GB2312"/>
              </a:rPr>
              <a:t>从自身做起，我们应该怎样树立民族自信力呢？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403280" y="2852640"/>
            <a:ext cx="7416720" cy="19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我们作为中学生，应当扩大知识面，深入了解从古到今具有民族气节的英雄人物事迹，在伟大精神熏陶下塑造心灵，并且不断丰富知识，增长才干等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7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2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7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395280" y="1557360"/>
            <a:ext cx="792000" cy="316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7a77"/>
            </a:solidFill>
            <a:miter/>
          </a:ln>
          <a:effectLst>
            <a:outerShdw dist="17819" dir="2700000" blurRad="0" rotWithShape="0">
              <a:srgbClr val="66ff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黑体"/>
              </a:rPr>
              <a:t>处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黑体"/>
              </a:rPr>
              <a:t>理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黑体"/>
              </a:rPr>
              <a:t>习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黑体"/>
              </a:rPr>
              <a:t>题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332000" y="333360"/>
            <a:ext cx="7812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楷体_GB2312"/>
              </a:rPr>
              <a:t>辨析“中国人”的含义。（题略）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589400" y="1267920"/>
            <a:ext cx="610560" cy="436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①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②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③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④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⑤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340000" y="1254240"/>
            <a:ext cx="6262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指极少数顽固分子以外的中国人民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340000" y="2421000"/>
            <a:ext cx="5329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指广大人民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340000" y="3213000"/>
            <a:ext cx="6048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指国民党反动统治者及其御用文人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340000" y="4292640"/>
            <a:ext cx="5689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指所有的中国人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411280" y="5084640"/>
            <a:ext cx="6048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指国民党反动统治者及其御用文人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4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9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4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9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4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9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4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9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250920" y="2421000"/>
            <a:ext cx="388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2001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年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11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月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10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日，世界贸易组织（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WTO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）作出决定，接纳中国加入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WTO,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历经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15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年的奋争与期待，中国终昂首跨入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WTO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大门！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102200" y="0"/>
            <a:ext cx="5041800" cy="6597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1303200" cy="2264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371600" y="38088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200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年，中国上海市获得了２０１０年世界博览会举办权。这将是世博会第一次在发展中国家举行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-4572000" y="83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724360" y="1557360"/>
            <a:ext cx="2911680" cy="43815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39640" y="595008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上海市民在南京东路步行街欢庆申博成功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684360" y="2492280"/>
            <a:ext cx="4572000" cy="3395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0" y="333360"/>
            <a:ext cx="1143000" cy="1523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524400" y="20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06" name="04" descr=""/>
          <p:cNvPicPr/>
          <p:nvPr/>
        </p:nvPicPr>
        <p:blipFill>
          <a:blip r:embed="rId2"/>
          <a:stretch/>
        </p:blipFill>
        <p:spPr>
          <a:xfrm>
            <a:off x="4788000" y="2286000"/>
            <a:ext cx="3862440" cy="40384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219320" y="3049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         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2003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年１０月１５日，“神舟”五号载人飞船成功发射，并于１６日安全返回地面。我国成为世界上第三个独立掌握载人航天技术的国家。航天员杨利伟成为中国首位航天英雄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39640" y="2209680"/>
            <a:ext cx="3781440" cy="4191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57480" cy="1257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627280" y="304920"/>
            <a:ext cx="59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在</a:t>
            </a: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2004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年雅典奥运上，中国代表团以</a:t>
            </a: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32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金的骄人成绩，跻身亚军，直逼美国霸主地位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1916280"/>
            <a:ext cx="5029200" cy="331920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2666880" y="2133720"/>
            <a:ext cx="5297760" cy="360"/>
            <a:chOff x="2666880" y="2133720"/>
            <a:chExt cx="5297760" cy="360"/>
          </a:xfrm>
        </p:grpSpPr>
        <p:sp>
          <p:nvSpPr>
            <p:cNvPr id="113" name=""/>
            <p:cNvSpPr/>
            <p:nvPr/>
          </p:nvSpPr>
          <p:spPr>
            <a:xfrm>
              <a:off x="2666880" y="2133720"/>
              <a:ext cx="5297760" cy="360"/>
            </a:xfrm>
            <a:prstGeom prst="rect">
              <a:avLst/>
            </a:prstGeom>
            <a:solidFill>
              <a:srgbClr val="f1f3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666880" y="2133720"/>
              <a:ext cx="5297760" cy="360"/>
            </a:xfrm>
            <a:prstGeom prst="rect">
              <a:avLst/>
            </a:prstGeom>
            <a:solidFill>
              <a:srgbClr val="f1f3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0" y="551664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中国女排获得雅典奥运金牌再创辉煌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80000" y="51577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刘翔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获得的男子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110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米栏金牌是中国男选手在奥运会上夺得的第一枚田径金牌。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867280" y="3430080"/>
            <a:ext cx="675972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651640" y="1916280"/>
            <a:ext cx="2971800" cy="30477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0" y="333360"/>
            <a:ext cx="1800360" cy="1351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55520" y="46080"/>
            <a:ext cx="4286160" cy="37814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4500720" y="0"/>
            <a:ext cx="4286160" cy="2857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0" y="4000680"/>
            <a:ext cx="4286160" cy="28573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4716360" y="3048120"/>
            <a:ext cx="3888000" cy="3809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4038480" cy="35276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572000" y="3257640"/>
            <a:ext cx="4572000" cy="3600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0" y="3933720"/>
            <a:ext cx="4067280" cy="29242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4427640" y="0"/>
            <a:ext cx="4716360" cy="2924280"/>
          </a:xfrm>
          <a:prstGeom prst="rect">
            <a:avLst/>
          </a:prstGeom>
          <a:ln w="0">
            <a:noFill/>
          </a:ln>
        </p:spPr>
      </p:pic>
    </p:spTree>
  </p:cSld>
  <p:transition advTm="2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5T02:51:42Z</dcterms:created>
  <dc:creator>龙渊生</dc:creator>
  <dc:description/>
  <dc:language>en-US</dc:language>
  <cp:lastModifiedBy>user</cp:lastModifiedBy>
  <dcterms:modified xsi:type="dcterms:W3CDTF">2006-01-13T04:15:30Z</dcterms:modified>
  <cp:revision>47</cp:revision>
  <dc:subject/>
  <dc:title>中国人失掉自信力了吗</dc:title>
</cp:coreProperties>
</file>