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416-A39F-4418-85DF-E45DD81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8B8-6A22-4816-A14E-C4DC412E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449-2FD2-4C35-946D-CEEAA556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E66-B067-423B-939C-49B0C309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FF9E-75DE-4D91-9FE1-7AC3549D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F3C4-D64A-44BF-A418-3F96BDCE4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EA70-DCEA-4244-A14C-273E42E3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CF15A-B2DC-471D-94BA-C713B880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A8035-E414-4982-9E7F-21581257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AB7A-9A4A-4C2E-8D37-62D52130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7D3C-ECA6-4947-B27F-5987315D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26E9-EFB6-4C2A-9726-B34DBAF1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9A1-2D91-4CA9-970B-82864A5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94E4-0049-4302-8BC7-0089BA91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4E58-248D-4E7D-BA0E-0D92AA0E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56251-116B-46E8-88FA-308E1BD83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BF76-62B9-4228-B9E6-149D99AED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E496-642B-460C-B5A9-AE72BA93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27F-51A7-400F-BCC6-348AD4A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878A-BFA8-421F-8EB6-14CD793D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ADC7-D1F0-4EB8-A41E-98FABE93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300-617F-4B84-B715-A6311A91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D1B-2512-42AD-8684-AAD6F0B4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B5A-A4AC-42D4-81AA-8EC9C6AD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EA9A-E426-42EA-BA44-2DB3B06B346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A4E0-87B2-4521-AD2E-73C706A52449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3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5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0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500"/>
                            </p:stCondLst>
                            <p:childTnLst>
                              <p:par>
                                <p:cTn id="7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500"/>
                            </p:stCondLst>
                            <p:childTnLst>
                              <p:par>
                                <p:cTn id="8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8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