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1.jpeg" ContentType="image/jpeg"/>
  <Override PartName="/ppt/media/chimes.wav" ContentType="audio/x-wav"/>
  <Override PartName="/ppt/media/image20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2.jpeg" ContentType="image/jpeg"/>
  <Override PartName="/ppt/media/image39.png" ContentType="image/png"/>
  <Override PartName="/ppt/media/image1.jpeg" ContentType="image/jpeg"/>
  <Override PartName="/ppt/media/image35.jpeg" ContentType="image/jpeg"/>
  <Override PartName="/ppt/media/image23.jpeg" ContentType="image/jpeg"/>
  <Override PartName="/ppt/media/image2.jpeg" ContentType="image/jpeg"/>
  <Override PartName="/ppt/media/image36.jpeg" ContentType="image/jpeg"/>
  <Override PartName="/ppt/media/image24.jpeg" ContentType="image/jpeg"/>
  <Override PartName="/ppt/media/image3.jpeg" ContentType="image/jpeg"/>
  <Override PartName="/ppt/media/image37.jpeg" ContentType="image/jpeg"/>
  <Override PartName="/ppt/media/image25.jpeg" ContentType="image/jpeg"/>
  <Override PartName="/ppt/media/image32.png" ContentType="image/png"/>
  <Override PartName="/ppt/media/image4.jpeg" ContentType="image/jpeg"/>
  <Override PartName="/ppt/media/image40.png" ContentType="image/png"/>
  <Override PartName="/ppt/media/image26.jpeg" ContentType="image/jpeg"/>
  <Override PartName="/ppt/media/image42.png" ContentType="image/png"/>
  <Override PartName="/ppt/media/image33.jpeg" ContentType="image/jpeg"/>
  <Override PartName="/ppt/media/image45.png" ContentType="image/png"/>
  <Override PartName="/ppt/media/image6.jpeg" ContentType="image/jpeg"/>
  <Override PartName="/ppt/media/image34.jpeg" ContentType="image/jpeg"/>
  <Override PartName="/ppt/media/image7.jpeg" ContentType="image/jpeg"/>
  <Override PartName="/ppt/media/image44.png" ContentType="image/png"/>
  <Override PartName="/ppt/media/camera.wav" ContentType="audio/x-wav"/>
  <Override PartName="/ppt/media/image46.jpeg" ContentType="image/jpeg"/>
  <Override PartName="/ppt/media/image9.jpeg" ContentType="image/jpeg"/>
  <Override PartName="/ppt/media/image11.jpeg" ContentType="image/jpeg"/>
  <Override PartName="/ppt/media/image30.jpeg" ContentType="image/jpeg"/>
  <Override PartName="/ppt/media/image43.png" ContentType="image/png"/>
  <Override PartName="/ppt/media/image47.jpeg" ContentType="image/jpeg"/>
  <Override PartName="/ppt/media/image31.jpeg" ContentType="image/jpeg"/>
  <Override PartName="/ppt/media/image48.jpeg" ContentType="image/jpeg"/>
  <Override PartName="/ppt/media/image49.jpeg" ContentType="image/jpeg"/>
  <Override PartName="/ppt/media/image38.png" ContentType="image/png"/>
  <Override PartName="/ppt/media/image41.wmf" ContentType="image/x-wmf"/>
  <Override PartName="/ppt/media/image8.jpeg" ContentType="image/jpeg"/>
  <Override PartName="/ppt/media/image10.jpeg" ContentType="image/jpeg"/>
  <Override PartName="/ppt/media/image29.jpeg" ContentType="image/jpeg"/>
  <Override PartName="/ppt/media/image12.jpeg" ContentType="image/jpeg"/>
  <Override PartName="/ppt/media/image13.png" ContentType="image/png"/>
  <Override PartName="/ppt/media/image27.jpeg" ContentType="image/jpeg"/>
  <Override PartName="/ppt/media/image50.jpeg" ContentType="image/jpeg"/>
  <Override PartName="/ppt/media/image28.jpeg" ContentType="image/jpeg"/>
  <Override PartName="/ppt/media/whoosh.wav" ContentType="audio/x-wav"/>
  <Override PartName="/ppt/media/image51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13.xml" ContentType="application/vnd.openxmlformats-officedocument.presentationml.slide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D462B-8A72-46F7-9EB2-9304F4518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69E85-CDCC-4FBB-9E61-7036D1601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26C3D-C3E0-4640-8E52-4DDC39BD80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7CCEB-8A63-4D31-85D6-6D64BAEACB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711C1B-B490-4981-841C-CC232F443F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CF30-9446-4484-92DC-6DC1510FCA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9C81D-B0C1-4466-94C4-E3A01E73EC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C2D902-0EC9-4D5C-9C5C-05047D84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207413-D1B8-4C6B-9F3E-95E2534F94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6BBE4D-DDB1-499B-A8D7-DA07403FC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172BE-C0F2-4B29-AED2-19C932D2AB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AF03-EE60-4810-A09A-F99C0CE0E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19F1B4-3A03-4DE1-9F21-53D8C9D7A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1797C-35A2-49DF-8F8D-1611EE951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2BEC7-8F01-4F91-B056-1C04D81646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F76C67-6DEB-44F2-935A-7B654FAFBA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90512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4096080"/>
            <a:ext cx="274968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EB4D1A-80C1-408E-8CF7-7CA4427C6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20792-62D7-431D-8D24-BF8DBB8E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E5754-2FBD-4E1C-ACA5-751CD6143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AABF0-54C3-44BB-BC4E-D7B289209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60912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C2E4E-780E-4466-9FC6-954F4F1D0C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3B96-E49D-411D-ABE5-13840C78B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409608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F4A89-B156-429C-B379-33FBDBDC2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905120"/>
            <a:ext cx="416772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4096080"/>
            <a:ext cx="8540640" cy="200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A72C5-942B-442A-9CE5-026B68D969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BF514-56E1-405D-A00E-B07C7AE2EE47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7a77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7a77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C73722-121F-4E79-9A0E-624C0625D8DD}" type="slidenum">
              <a:rPr b="0" lang="zh-CN" sz="1400" spc="-1" strike="noStrike">
                <a:solidFill>
                  <a:srgbClr val="007a77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hyperlink" Target="http://114.gd.cn/spzs/newinfo.asp?idate=2004-9-1" TargetMode="External"/><Relationship Id="rId5" Type="http://schemas.openxmlformats.org/officeDocument/2006/relationships/image" Target="../media/image5.jpeg"/><Relationship Id="rId6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jpe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3.jpeg"/><Relationship Id="rId3" Type="http://schemas.openxmlformats.org/officeDocument/2006/relationships/image" Target="../media/image34.jpeg"/><Relationship Id="rId4" Type="http://schemas.openxmlformats.org/officeDocument/2006/relationships/image" Target="../media/image35.jpeg"/><Relationship Id="rId5" Type="http://schemas.openxmlformats.org/officeDocument/2006/relationships/image" Target="../media/image36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1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2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3.png"/><Relationship Id="rId3" Type="http://schemas.openxmlformats.org/officeDocument/2006/relationships/image" Target="../media/image43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hyperlink" Target="http://www.szpingtai.com/lppt2-6.asp" TargetMode="External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whoosh.wav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5.png"/><Relationship Id="rId3" Type="http://schemas.openxmlformats.org/officeDocument/2006/relationships/audio" Target="../media/camera.wav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image" Target="../media/image11.jpeg"/><Relationship Id="rId5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6.jpeg"/><Relationship Id="rId3" Type="http://schemas.openxmlformats.org/officeDocument/2006/relationships/image" Target="../media/image47.jpeg"/><Relationship Id="rId4" Type="http://schemas.openxmlformats.org/officeDocument/2006/relationships/image" Target="../media/image48.jpeg"/><Relationship Id="rId5" Type="http://schemas.openxmlformats.org/officeDocument/2006/relationships/image" Target="../media/image49.jpeg"/><Relationship Id="rId6" Type="http://schemas.openxmlformats.org/officeDocument/2006/relationships/image" Target="../media/image46.jpeg"/><Relationship Id="rId7" Type="http://schemas.openxmlformats.org/officeDocument/2006/relationships/image" Target="../media/image50.jpeg"/><Relationship Id="rId8" Type="http://schemas.openxmlformats.org/officeDocument/2006/relationships/image" Target="../media/image51.jpeg"/><Relationship Id="rId9" Type="http://schemas.openxmlformats.org/officeDocument/2006/relationships/image" Target="../media/image46.jpeg"/><Relationship Id="rId10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chimes.wav"/><Relationship Id="rId13" Type="http://schemas.openxmlformats.org/officeDocument/2006/relationships/audio" Target="../media/chimes.wav"/><Relationship Id="rId14" Type="http://schemas.openxmlformats.org/officeDocument/2006/relationships/audio" Target="../media/chimes.wav"/><Relationship Id="rId15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4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jpeg"/><Relationship Id="rId3" Type="http://schemas.openxmlformats.org/officeDocument/2006/relationships/image" Target="../media/image21.jpeg"/><Relationship Id="rId4" Type="http://schemas.openxmlformats.org/officeDocument/2006/relationships/image" Target="../media/image2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7.jpeg"/><Relationship Id="rId3" Type="http://schemas.openxmlformats.org/officeDocument/2006/relationships/image" Target="../media/image28.jpeg"/><Relationship Id="rId4" Type="http://schemas.openxmlformats.org/officeDocument/2006/relationships/image" Target="../media/image29.jpeg"/><Relationship Id="rId5" Type="http://schemas.openxmlformats.org/officeDocument/2006/relationships/image" Target="../media/image30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2781360"/>
            <a:ext cx="9144000" cy="3311640"/>
          </a:xfrm>
          <a:prstGeom prst="rect">
            <a:avLst/>
          </a:prstGeom>
          <a:ln w="0">
            <a:noFill/>
          </a:ln>
        </p:spPr>
      </p:pic>
      <p:sp>
        <p:nvSpPr>
          <p:cNvPr id="82" name=""/>
          <p:cNvSpPr/>
          <p:nvPr/>
        </p:nvSpPr>
        <p:spPr>
          <a:xfrm>
            <a:off x="533520" y="395280"/>
            <a:ext cx="7924680" cy="206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997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年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月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日，香港在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沦亡百年之后于回到祖国的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Times New Roman"/>
              </a:rPr>
              <a:t>怀抱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971640" y="623736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Times New Roman"/>
              </a:rPr>
              <a:t>一九九七年六月三十日午夜</a:t>
            </a:r>
            <a:r>
              <a:rPr b="1" lang="en-US" sz="2800" spc="-1" strike="noStrike">
                <a:solidFill>
                  <a:srgbClr val="c0c0c0"/>
                </a:solidFill>
                <a:latin typeface="Times New Roman"/>
              </a:rPr>
              <a:t>,</a:t>
            </a:r>
            <a:r>
              <a:rPr b="1" lang="zh-CN" sz="2800" spc="-1" strike="noStrike">
                <a:solidFill>
                  <a:srgbClr val="c0c0c0"/>
                </a:solidFill>
                <a:latin typeface="Times New Roman"/>
              </a:rPr>
              <a:t>英国旗徐徐降下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5724360" y="0"/>
            <a:ext cx="3419640" cy="279396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0" y="0"/>
            <a:ext cx="1085760" cy="12193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2124000" y="333360"/>
            <a:ext cx="66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         </a:t>
            </a:r>
            <a:r>
              <a:rPr b="1" lang="en-US" sz="3200" spc="-1" strike="noStrike">
                <a:solidFill>
                  <a:srgbClr val="ff0000"/>
                </a:solidFill>
                <a:latin typeface="_x000b__x000c_"/>
              </a:rPr>
              <a:t>2003</a:t>
            </a:r>
            <a:r>
              <a:rPr b="1" lang="zh-CN" sz="3200" spc="-1" strike="noStrike">
                <a:solidFill>
                  <a:srgbClr val="ff0000"/>
                </a:solidFill>
                <a:latin typeface="_x000b__x000c_"/>
              </a:rPr>
              <a:t>年，从春到夏，突如其来的非典疫情迅速蔓延到全国大部分省、自治区、直辖市。全党全国人民在党中央、国务院的坚强领导下，万众一心，众志成城，防治非典斗争取得阶段性重大胜利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0" y="3429000"/>
            <a:ext cx="8820000" cy="3429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2130480" cy="3068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1" name=""/>
          <p:cNvGrpSpPr/>
          <p:nvPr/>
        </p:nvGrpSpPr>
        <p:grpSpPr>
          <a:xfrm>
            <a:off x="1177920" y="571680"/>
            <a:ext cx="6786720" cy="360"/>
            <a:chOff x="1177920" y="571680"/>
            <a:chExt cx="6786720" cy="360"/>
          </a:xfrm>
        </p:grpSpPr>
        <p:sp>
          <p:nvSpPr>
            <p:cNvPr id="132" name=""/>
            <p:cNvSpPr/>
            <p:nvPr/>
          </p:nvSpPr>
          <p:spPr>
            <a:xfrm>
              <a:off x="1177920" y="571680"/>
              <a:ext cx="6786720" cy="360"/>
            </a:xfrm>
            <a:prstGeom prst="rect">
              <a:avLst/>
            </a:prstGeom>
            <a:solidFill>
              <a:srgbClr val="f1f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1177920" y="571680"/>
              <a:ext cx="6786720" cy="360"/>
            </a:xfrm>
            <a:prstGeom prst="rect">
              <a:avLst/>
            </a:prstGeom>
            <a:solidFill>
              <a:srgbClr val="f1f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217520" cy="206064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050560" y="259920"/>
            <a:ext cx="5905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2005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年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0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月“神六”载人航天飞行获得圆满成功</a:t>
            </a: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pic>
        <p:nvPicPr>
          <p:cNvPr id="136" name="" descr=""/>
          <p:cNvPicPr/>
          <p:nvPr/>
        </p:nvPicPr>
        <p:blipFill>
          <a:blip r:embed="rId3"/>
          <a:stretch/>
        </p:blipFill>
        <p:spPr>
          <a:xfrm>
            <a:off x="5508720" y="1773360"/>
            <a:ext cx="3635280" cy="5084640"/>
          </a:xfrm>
          <a:prstGeom prst="rect">
            <a:avLst/>
          </a:prstGeom>
          <a:ln w="0">
            <a:noFill/>
          </a:ln>
        </p:spPr>
      </p:pic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8352000" y="2060280"/>
            <a:ext cx="792000" cy="418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74000"/>
          </a:bodyPr>
          <a:p>
            <a:pPr marL="253800" indent="-25380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“</a:t>
            </a:r>
            <a:r>
              <a:rPr b="1" lang="zh-CN" sz="3600" spc="-1" strike="noStrike">
                <a:solidFill>
                  <a:srgbClr val="0000ff"/>
                </a:solidFill>
                <a:latin typeface="Arial"/>
              </a:rPr>
              <a:t>神六”顺利升空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4"/>
          <a:stretch/>
        </p:blipFill>
        <p:spPr>
          <a:xfrm>
            <a:off x="0" y="3716280"/>
            <a:ext cx="2735280" cy="3141720"/>
          </a:xfrm>
          <a:prstGeom prst="rect">
            <a:avLst/>
          </a:prstGeom>
          <a:ln w="0">
            <a:noFill/>
          </a:ln>
        </p:spPr>
      </p:pic>
      <p:sp>
        <p:nvSpPr>
          <p:cNvPr id="139" name=""/>
          <p:cNvSpPr/>
          <p:nvPr/>
        </p:nvSpPr>
        <p:spPr>
          <a:xfrm>
            <a:off x="900000" y="5589720"/>
            <a:ext cx="3311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059280" y="4841640"/>
            <a:ext cx="208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着陆场工作人员在欢呼庆祝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2195640" y="1557360"/>
            <a:ext cx="3240000" cy="22464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250920" y="2205000"/>
            <a:ext cx="20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飞行员安全返回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468360" y="404640"/>
            <a:ext cx="8280360" cy="1191240"/>
          </a:xfrm>
          <a:prstGeom prst="rect">
            <a:avLst/>
          </a:prstGeom>
          <a:solidFill>
            <a:srgbClr val="ffffff">
              <a:alpha val="50000"/>
            </a:srgbClr>
          </a:solidFill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21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世纪喜事不断，中国人感到从未有过的幸福、自豪；然而，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70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多年前的中国是怎样的面貌呢？那时的中国人又是怎样的精神状态呢？当时，有一位思想的巨人、顽强的战士，以犀利的目光洞悉着这一切，一次次振臂呐喊、一次次冲锋陷阵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他，就是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鲁迅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先生。</a:t>
            </a:r>
            <a:br>
              <a:rPr sz="3600"/>
            </a:b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   今天，我们来学习他的一篇杂文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《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中国人失掉自信力了吗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》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看看我们能从中得到什么新的启发，学到怎样的做人、作文的方法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990720" y="2438280"/>
            <a:ext cx="60195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46" name="" descr=""/>
          <p:cNvPicPr/>
          <p:nvPr/>
        </p:nvPicPr>
        <p:blipFill>
          <a:blip r:embed="rId2">
            <a:lum bright="48000"/>
          </a:blip>
          <a:srcRect l="0" t="0" r="0" b="7681"/>
          <a:stretch/>
        </p:blipFill>
        <p:spPr>
          <a:xfrm>
            <a:off x="0" y="476280"/>
            <a:ext cx="9144000" cy="594360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1028880" y="1700280"/>
            <a:ext cx="3903480" cy="131292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9900"/>
                </a:solidFill>
                <a:latin typeface="华文行楷"/>
                <a:ea typeface="华文行楷"/>
              </a:rPr>
              <a:t>中国人</a:t>
            </a:r>
            <a:endParaRPr b="0" lang="en-US" sz="8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981000">
            <a:off x="5011920" y="1700280"/>
            <a:ext cx="1278000" cy="11912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7200" spc="-1" strike="noStrike">
                <a:solidFill>
                  <a:srgbClr val="3366ff"/>
                </a:solidFill>
                <a:latin typeface="华文行楷"/>
                <a:ea typeface="华文行楷"/>
              </a:rPr>
              <a:t>失掉</a:t>
            </a:r>
            <a:endParaRPr b="0" lang="en-US" sz="7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627280" y="2852640"/>
            <a:ext cx="5943600" cy="129564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00"/>
                </a:solidFill>
                <a:latin typeface="华文行楷"/>
                <a:ea typeface="华文行楷"/>
              </a:rPr>
              <a:t>自信力</a:t>
            </a:r>
            <a:r>
              <a:rPr b="1" lang="zh-CN" sz="8000" spc="-1" strike="noStrike">
                <a:solidFill>
                  <a:srgbClr val="003366"/>
                </a:solidFill>
                <a:latin typeface="华文行楷"/>
                <a:ea typeface="华文行楷"/>
              </a:rPr>
              <a:t>了吗</a:t>
            </a:r>
            <a:r>
              <a:rPr b="1" lang="zh-CN" sz="6300" spc="-1" strike="noStrike">
                <a:solidFill>
                  <a:srgbClr val="003366"/>
                </a:solidFill>
                <a:latin typeface="华文行楷"/>
                <a:ea typeface="华文行楷"/>
              </a:rPr>
              <a:t> </a:t>
            </a:r>
            <a:endParaRPr b="0" lang="en-US" sz="63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476360" y="4365720"/>
            <a:ext cx="7667640" cy="792000"/>
          </a:xfrm>
          <a:prstGeom prst="rect">
            <a:avLst/>
          </a:prstGeom>
          <a:noFill/>
          <a:ln w="0">
            <a:noFill/>
          </a:ln>
          <a:effectLst>
            <a:outerShdw dist="107932" dir="135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鲁迅   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•</a:t>
            </a:r>
            <a:r>
              <a:rPr b="0" lang="zh-CN" sz="5400" spc="-1" strike="noStrike">
                <a:solidFill>
                  <a:srgbClr val="000000"/>
                </a:solidFill>
                <a:latin typeface="Times New Roman"/>
                <a:ea typeface="华文行楷"/>
              </a:rPr>
              <a:t>《且介亭杂文》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"/>
                            </p:stCondLst>
                            <p:childTnLst>
                              <p:par>
                                <p:cTn id="21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5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2">
            <a:lum bright="12000"/>
          </a:blip>
          <a:srcRect l="0" t="0" r="0" b="7681"/>
          <a:stretch/>
        </p:blipFill>
        <p:spPr>
          <a:xfrm>
            <a:off x="4419720" y="457200"/>
            <a:ext cx="3962160" cy="2576520"/>
          </a:xfrm>
          <a:prstGeom prst="rect">
            <a:avLst/>
          </a:prstGeom>
          <a:ln w="9360">
            <a:solidFill>
              <a:srgbClr val="ff00ff"/>
            </a:solidFill>
            <a:miter/>
          </a:ln>
        </p:spPr>
      </p:pic>
      <p:sp>
        <p:nvSpPr>
          <p:cNvPr id="152" name=""/>
          <p:cNvSpPr/>
          <p:nvPr/>
        </p:nvSpPr>
        <p:spPr>
          <a:xfrm>
            <a:off x="6477120" y="3886200"/>
            <a:ext cx="22716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周树人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219320" y="4464000"/>
            <a:ext cx="22003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豫才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095880" y="5073480"/>
            <a:ext cx="27241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浙江绍兴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514600" y="5595840"/>
            <a:ext cx="21286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文学家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419720" y="5607000"/>
            <a:ext cx="23842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思想家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477120" y="5607000"/>
            <a:ext cx="23428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66ff33"/>
                </a:solidFill>
                <a:latin typeface="宋体"/>
              </a:rPr>
              <a:t>革命家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158" name=""/>
          <p:cNvGrpSpPr/>
          <p:nvPr/>
        </p:nvGrpSpPr>
        <p:grpSpPr>
          <a:xfrm>
            <a:off x="533520" y="2849400"/>
            <a:ext cx="8001000" cy="3353040"/>
            <a:chOff x="533520" y="2849400"/>
            <a:chExt cx="8001000" cy="3353040"/>
          </a:xfrm>
        </p:grpSpPr>
        <p:sp>
          <p:nvSpPr>
            <p:cNvPr id="159" name=""/>
            <p:cNvSpPr/>
            <p:nvPr/>
          </p:nvSpPr>
          <p:spPr>
            <a:xfrm>
              <a:off x="533520" y="2849400"/>
              <a:ext cx="8001000" cy="28371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c0c0c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         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本文选自</a:t>
              </a:r>
              <a:r>
                <a:rPr b="1" lang="en-US" sz="3600" spc="-1" strike="noStrike">
                  <a:solidFill>
                    <a:srgbClr val="000000"/>
                  </a:solidFill>
                  <a:latin typeface="宋体"/>
                </a:rPr>
                <a:t>《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且介亭杂文</a:t>
              </a:r>
              <a:r>
                <a:rPr b="1" lang="en-US" sz="3600" spc="-1" strike="noStrike">
                  <a:solidFill>
                    <a:srgbClr val="000000"/>
                  </a:solidFill>
                  <a:latin typeface="宋体"/>
                </a:rPr>
                <a:t>》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，作者鲁迅（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881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－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936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），原名</a:t>
              </a:r>
              <a:r>
                <a:rPr b="1" lang="zh-CN" sz="3600" spc="-1" strike="noStrike">
                  <a:solidFill>
                    <a:srgbClr val="ffffff"/>
                  </a:solidFill>
                  <a:latin typeface="宋体"/>
                </a:rPr>
                <a:t>       ，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字     。鲁迅是他</a:t>
              </a: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1918</a:t>
              </a:r>
              <a:r>
                <a:rPr b="1" lang="zh-CN" sz="3600" spc="-1" strike="noStrike">
                  <a:solidFill>
                    <a:srgbClr val="000000"/>
                  </a:solidFill>
                  <a:latin typeface="宋体"/>
                </a:rPr>
                <a:t>年为（新青年）写稿时开始使用的笔名。       人。伟大的       、      和       。</a:t>
              </a: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6400800" y="5668920"/>
              <a:ext cx="15238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1219320" y="5059440"/>
              <a:ext cx="114300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6324480" y="6202440"/>
              <a:ext cx="167652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2514600" y="6202440"/>
              <a:ext cx="152388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495680" y="6202440"/>
              <a:ext cx="129564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6477120" y="4449600"/>
              <a:ext cx="1447560" cy="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1066680" y="1295280"/>
            <a:ext cx="3000600" cy="99072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8100000"/>
          </a:gradFill>
          <a:ln w="9360">
            <a:solidFill>
              <a:srgbClr val="ff00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作者简介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2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2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1000"/>
                            </p:stCondLst>
                            <p:childTnLst>
                              <p:par>
                                <p:cTn id="50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6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2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str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str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89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0" y="5546880"/>
            <a:ext cx="7020000" cy="1191240"/>
          </a:xfrm>
          <a:prstGeom prst="rect">
            <a:avLst/>
          </a:prstGeom>
          <a:solidFill>
            <a:srgbClr val="ffffff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463634"/>
                </a:solidFill>
                <a:latin typeface="Arial"/>
              </a:rPr>
              <a:t>毛泽东称“鲁迅是中国文化革命的主将”   “鲁迅的骨头是最硬的”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 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0" y="907920"/>
            <a:ext cx="9144000" cy="33282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   </a:t>
            </a:r>
            <a:r>
              <a:rPr b="1" lang="zh-CN" sz="2800" spc="-1" strike="noStrike">
                <a:solidFill>
                  <a:srgbClr val="007a77"/>
                </a:solidFill>
                <a:latin typeface="宋体"/>
              </a:rPr>
              <a:t>这篇文章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写于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934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年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9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月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5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日，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正是“九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•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一八”事变三周年之后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931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年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9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月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18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日，日本帝国主义突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然向沈阳进攻，蒋介石下令不许抵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抗，国民党军队不战而逃，不到半年，日本帝国主义就占领了我东北三省。而“南京政府束手无策”“单会去哀求国联” 。</a:t>
            </a:r>
            <a:r>
              <a:rPr b="1" lang="en-US" sz="2800" spc="-1" strike="noStrike">
                <a:solidFill>
                  <a:srgbClr val="007a77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007a77"/>
                </a:solidFill>
                <a:latin typeface="Arial"/>
              </a:rPr>
              <a:t>九一八”事变后，国民党政府多次向国联申诉，要求制止日本帝国主义侵略，但国联采取了袒护日本的立场，哀求国联无效后，一些国民党官僚和“社会名流”，以祈祷“解救国难”为名，多次在一些大城市举办“时轮金刚法会”，求神拜佛，怀古伤今。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有些甚至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散布对抗日前途的悲观论调，指责中国人失掉了自信力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    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针对上述情况，鲁迅为了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</a:rPr>
              <a:t>批驳这种错误论调，鼓舞民族的自信心，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写下了这样一篇文章</a:t>
            </a: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——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116000" y="0"/>
            <a:ext cx="3672000" cy="809640"/>
          </a:xfrm>
          <a:prstGeom prst="rect">
            <a:avLst/>
          </a:prstGeom>
          <a:gradFill rotWithShape="0">
            <a:gsLst>
              <a:gs pos="0">
                <a:srgbClr val="fbeac7"/>
              </a:gs>
              <a:gs pos="100000">
                <a:srgbClr val="fee7f2"/>
              </a:gs>
            </a:gsLst>
            <a:lin ang="8100000"/>
          </a:gradFill>
          <a:ln w="9360">
            <a:solidFill>
              <a:srgbClr val="ff00ff"/>
            </a:solidFill>
            <a:miter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</a:rPr>
              <a:t>时代背景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5472000" y="333360"/>
            <a:ext cx="3672000" cy="2060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  <p:timing>
    <p:tnLst>
      <p:par>
        <p:cTn id="90" dur="indefinite" restart="never" nodeType="tmRoot">
          <p:childTnLst>
            <p:seq>
              <p:cTn id="91" dur="indefinite" nodeType="mainSeq">
                <p:childTnLst>
                  <p:par>
                    <p:cTn id="92" fill="hold">
                      <p:stCondLst>
                        <p:cond delay="0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9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00"/>
                            </p:stCondLst>
                            <p:childTnLst>
                              <p:par>
                                <p:cTn id="1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8" dur="2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3" name="" descr=""/>
          <p:cNvPicPr/>
          <p:nvPr/>
        </p:nvPicPr>
        <p:blipFill>
          <a:blip r:embed="rId2"/>
          <a:stretch/>
        </p:blipFill>
        <p:spPr>
          <a:xfrm>
            <a:off x="250920" y="0"/>
            <a:ext cx="1271520" cy="1295280"/>
          </a:xfrm>
          <a:prstGeom prst="rect">
            <a:avLst/>
          </a:prstGeom>
          <a:ln w="0">
            <a:noFill/>
          </a:ln>
        </p:spPr>
      </p:pic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 rot="10800000">
            <a:off x="9601200" y="-720"/>
            <a:ext cx="76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175" name=""/>
          <p:cNvSpPr txBox="1"/>
          <p:nvPr/>
        </p:nvSpPr>
        <p:spPr>
          <a:xfrm>
            <a:off x="3276720" y="189000"/>
            <a:ext cx="3671640" cy="1039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8564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12600">
                  <a:solidFill>
                    <a:srgbClr val="ff00ff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808080"/>
                  </a:outerShdw>
                </a:effectLst>
                <a:latin typeface="宋体"/>
              </a:rPr>
              <a:t>词语解释</a:t>
            </a:r>
            <a:endParaRPr b="0" lang="en-US" sz="2400" spc="1" strike="noStrike">
              <a:ln w="12600">
                <a:solidFill>
                  <a:srgbClr val="ff00ff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76" name=""/>
          <p:cNvSpPr/>
          <p:nvPr/>
        </p:nvSpPr>
        <p:spPr>
          <a:xfrm>
            <a:off x="0" y="1341360"/>
            <a:ext cx="4392720" cy="53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①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怀古伤今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②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慨叹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③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诓（</a:t>
            </a:r>
            <a:r>
              <a:rPr b="1" lang="zh-CN" sz="3200" spc="-1" strike="noStrike">
                <a:solidFill>
                  <a:srgbClr val="ff33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   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)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骗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④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渺茫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⑤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前仆后继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⑥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为民请命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⑦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省</a:t>
            </a:r>
            <a:r>
              <a:rPr b="1" lang="en-US" sz="3200" spc="-1" strike="noStrike">
                <a:solidFill>
                  <a:srgbClr val="007a77"/>
                </a:solidFill>
                <a:latin typeface="宋体"/>
              </a:rPr>
              <a:t>(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xǐng)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悟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⑧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玄虚之至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⑨</a:t>
            </a:r>
            <a:r>
              <a:rPr b="1" lang="zh-CN" sz="3200" spc="-1" strike="noStrike">
                <a:solidFill>
                  <a:srgbClr val="007a77"/>
                </a:solidFill>
                <a:latin typeface="宋体"/>
              </a:rPr>
              <a:t>自欺欺人：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340000" y="1268280"/>
            <a:ext cx="68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宋体"/>
              </a:rPr>
              <a:t>追念古代的事情，感伤今天的现实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79640" y="191628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有所感触而叹息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3708360" y="2492280"/>
            <a:ext cx="244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欺骗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47640" y="3068640"/>
            <a:ext cx="727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本课是因没有把握而难以预期。 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2195640" y="3500280"/>
            <a:ext cx="66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前面的人倒下去，后面的人继续跟上来，形容英勇奋斗，不怕牺牲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58920" y="249228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宋体"/>
              </a:rPr>
              <a:t>Kuāng   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 flipH="1" flipV="1">
            <a:off x="9456120" y="3312360"/>
            <a:ext cx="824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268360" y="4292640"/>
            <a:ext cx="6264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代表人民的利益，替人民说话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3132000" y="4869000"/>
            <a:ext cx="365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醒悟，觉醒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68360" y="5445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</a:rPr>
              <a:t>玄妙空虚到了极点。玄虚，空虚，不真实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2195640" y="6093000"/>
            <a:ext cx="727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ff"/>
                </a:solidFill>
                <a:latin typeface="Arial"/>
              </a:rPr>
              <a:t>用自己都难以置信的话或手法来欺骗别人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6208560" y="92160"/>
            <a:ext cx="3187800" cy="759600"/>
          </a:xfrm>
          <a:prstGeom prst="wedgeRoundRectCallout">
            <a:avLst>
              <a:gd name="adj1" fmla="val -165185"/>
              <a:gd name="adj2" fmla="val 562361"/>
              <a:gd name="adj3" fmla="val 16667"/>
            </a:avLst>
          </a:prstGeom>
          <a:solidFill>
            <a:srgbClr val="66ff33"/>
          </a:solidFill>
          <a:ln w="93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0033cc"/>
                </a:solidFill>
                <a:latin typeface="Arial"/>
              </a:rPr>
              <a:t>1—  5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85800" y="152280"/>
            <a:ext cx="4967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初读课文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,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整体把握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85800" y="762120"/>
            <a:ext cx="67816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对方的错误观点是什么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685800" y="2209680"/>
            <a:ext cx="79898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作者正面提出的观点是什么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685800" y="3733920"/>
            <a:ext cx="73152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把握文章的整体思路：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1143000" y="1447920"/>
            <a:ext cx="61722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73240" y="1447920"/>
            <a:ext cx="429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中国人失掉自信力了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87760" y="2971800"/>
            <a:ext cx="429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黑体"/>
                <a:ea typeface="黑体"/>
              </a:rPr>
              <a:t>我们有并不失掉自信力的中国人在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324000" y="4508640"/>
            <a:ext cx="8820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（一）驳：中国人失掉自信力了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324000" y="5300640"/>
            <a:ext cx="8496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（二）立：我们有并不失掉自信力的中国人在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276720" y="6021360"/>
            <a:ext cx="2447640" cy="7653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（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6——9</a:t>
            </a: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7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2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2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7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2" dur="2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1116000" y="1125360"/>
            <a:ext cx="5637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议论文包括</a:t>
            </a:r>
            <a:r>
              <a:rPr b="1" lang="zh-CN" sz="3200" spc="-1" strike="noStrike" u="sng">
                <a:solidFill>
                  <a:srgbClr val="007a77"/>
                </a:solidFill>
                <a:uFillTx/>
                <a:latin typeface="Times New Roman"/>
              </a:rPr>
              <a:t>立论和驳论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两种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0" name=""/>
          <p:cNvSpPr txBox="1"/>
          <p:nvPr/>
        </p:nvSpPr>
        <p:spPr>
          <a:xfrm>
            <a:off x="395280" y="0"/>
            <a:ext cx="3505320" cy="1066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宋体"/>
              </a:rPr>
              <a:t>议论文的常识</a:t>
            </a:r>
            <a:endParaRPr b="1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宋体"/>
              <a:ea typeface="宋体"/>
            </a:endParaRPr>
          </a:p>
        </p:txBody>
      </p:sp>
      <p:sp>
        <p:nvSpPr>
          <p:cNvPr id="201" name=""/>
          <p:cNvSpPr/>
          <p:nvPr/>
        </p:nvSpPr>
        <p:spPr>
          <a:xfrm>
            <a:off x="324000" y="1700280"/>
            <a:ext cx="8642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       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驳论是先指出对方错误的实质，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直接批驳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或</a:t>
            </a:r>
            <a:r>
              <a:rPr b="1" lang="zh-CN" sz="3200" spc="-1" strike="noStrike">
                <a:solidFill>
                  <a:srgbClr val="3333ff"/>
                </a:solidFill>
                <a:latin typeface="Times New Roman"/>
              </a:rPr>
              <a:t>间接批驳</a:t>
            </a: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，继而提出自己的观点并加以论证的议论文。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(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先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“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破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后“立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”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643280" y="5157720"/>
            <a:ext cx="1828800" cy="642600"/>
          </a:xfrm>
          <a:prstGeom prst="rect">
            <a:avLst/>
          </a:prstGeom>
          <a:solidFill>
            <a:srgbClr val="ebf7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 u="sng">
                <a:solidFill>
                  <a:srgbClr val="007a77"/>
                </a:solidFill>
                <a:uFillTx/>
                <a:latin typeface="Times New Roman"/>
              </a:rPr>
              <a:t>驳论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372360" y="4581360"/>
            <a:ext cx="1584360" cy="206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驳论点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驳论据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驳论证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95280" y="3284640"/>
            <a:ext cx="8064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        </a:t>
            </a: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学习驳论文，首先要看作者怎样抓住批驳的“突破口”，要学会识别谬论，能够看出它错在哪里，为什么会错。还要学习反驳谬论，是直接驳论点，还是通过驳论据、论证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8000"/>
                </a:solidFill>
                <a:latin typeface="Arial"/>
              </a:rPr>
              <a:t>来驳倒论点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5867280" y="4724280"/>
            <a:ext cx="432000" cy="1584360"/>
          </a:xfrm>
          <a:custGeom>
            <a:avLst/>
            <a:gdLst>
              <a:gd name="textAreaLeft" fmla="*/ 276120 w 432000"/>
              <a:gd name="textAreaRight" fmla="*/ 432360 w 432000"/>
              <a:gd name="textAreaTop" fmla="*/ 41040 h 1584360"/>
              <a:gd name="textAreaBottom" fmla="*/ 1543320 h 1584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solidFill>
            <a:srgbClr val="ffff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03" dur="indefinite" restart="never" nodeType="tmRoot">
          <p:childTnLst>
            <p:seq>
              <p:cTn id="204" dur="indefinite" nodeType="mainSeq">
                <p:childTnLst>
                  <p:par>
                    <p:cTn id="205" fill="hold">
                      <p:stCondLst>
                        <p:cond delay="0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1476360" y="33336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7a77"/>
                </a:solidFill>
                <a:latin typeface="Times New Roman"/>
              </a:rPr>
              <a:t>        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999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年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12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月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20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日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, </a:t>
            </a:r>
            <a:r>
              <a:rPr b="1" lang="zh-CN" sz="3600" spc="-1" strike="noStrike">
                <a:solidFill>
                  <a:srgbClr val="ff0000"/>
                </a:solidFill>
                <a:latin typeface="Times New Roman"/>
              </a:rPr>
              <a:t>中国政府对澳门恢复行使主权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87" name="" descr="欢庆回归"/>
          <p:cNvPicPr/>
          <p:nvPr/>
        </p:nvPicPr>
        <p:blipFill>
          <a:blip r:embed="rId2"/>
          <a:stretch/>
        </p:blipFill>
        <p:spPr>
          <a:xfrm>
            <a:off x="0" y="2133720"/>
            <a:ext cx="4786200" cy="31431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395280" y="5334120"/>
            <a:ext cx="482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Times New Roman"/>
              </a:rPr>
              <a:t>澳门儿童手拿区旗与国旗，迎接回归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89" name="" descr="中国国旗扬起"/>
          <p:cNvPicPr/>
          <p:nvPr/>
        </p:nvPicPr>
        <p:blipFill>
          <a:blip r:embed="rId3"/>
          <a:stretch/>
        </p:blipFill>
        <p:spPr>
          <a:xfrm>
            <a:off x="5219640" y="1600200"/>
            <a:ext cx="3600360" cy="416880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003640" y="6019920"/>
            <a:ext cx="3911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c0c0"/>
                </a:solidFill>
                <a:latin typeface="Times New Roman"/>
              </a:rPr>
              <a:t>中国国旗在会场扬起来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91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152280"/>
            <a:ext cx="1144440" cy="1457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826920" y="476280"/>
            <a:ext cx="7775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精读课文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黑体"/>
              </a:rPr>
              <a:t>,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讨论交流第一部分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黑体"/>
              </a:rPr>
              <a:t>: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755640" y="1341360"/>
            <a:ext cx="7632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作者开篇树立的靶子是什么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4476240" y="2133720"/>
            <a:ext cx="4291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Arial"/>
              </a:rPr>
              <a:t>中国人失掉自信力了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58920" y="5680080"/>
            <a:ext cx="8893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</a:rPr>
              <a:t>、支持这个错误观点的论据是什么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210" name=""/>
          <p:cNvGrpSpPr/>
          <p:nvPr/>
        </p:nvGrpSpPr>
        <p:grpSpPr>
          <a:xfrm>
            <a:off x="395280" y="2852280"/>
            <a:ext cx="8280360" cy="2803680"/>
            <a:chOff x="395280" y="2852280"/>
            <a:chExt cx="8280360" cy="2803680"/>
          </a:xfrm>
        </p:grpSpPr>
        <p:sp>
          <p:nvSpPr>
            <p:cNvPr id="211" name=""/>
            <p:cNvSpPr/>
            <p:nvPr/>
          </p:nvSpPr>
          <p:spPr>
            <a:xfrm>
              <a:off x="395280" y="3500280"/>
              <a:ext cx="324000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两年前总自夸“地大物博”</a:t>
              </a: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867280" y="3429000"/>
              <a:ext cx="2808360" cy="119124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不久不自夸只希望国联</a:t>
              </a: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2124000" y="5013360"/>
              <a:ext cx="4969080" cy="64260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2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Times New Roman"/>
                  <a:ea typeface="黑体"/>
                </a:rPr>
                <a:t>现在求神拜佛怀古伤今</a:t>
              </a:r>
              <a:endParaRPr b="0" lang="en-US" sz="36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 flipV="1">
              <a:off x="1763640" y="2852640"/>
              <a:ext cx="2592360" cy="72072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 flipH="1" flipV="1">
              <a:off x="4643280" y="2852640"/>
              <a:ext cx="2881440" cy="72072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 flipH="1" flipV="1">
              <a:off x="4572000" y="4941360"/>
              <a:ext cx="71280" cy="71640"/>
            </a:xfrm>
            <a:prstGeom prst="line">
              <a:avLst/>
            </a:prstGeom>
            <a:ln w="9360">
              <a:solidFill>
                <a:srgbClr val="007a77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 flipV="1">
              <a:off x="4500720" y="2852280"/>
              <a:ext cx="0" cy="2089080"/>
            </a:xfrm>
            <a:prstGeom prst="line">
              <a:avLst/>
            </a:prstGeom>
            <a:ln w="57240">
              <a:solidFill>
                <a:srgbClr val="66ff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</p:spTree>
  </p:cSld>
  <p:transition>
    <p:zoom dir="out"/>
  </p:transition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2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57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000"/>
                            </p:stCondLst>
                            <p:childTnLst>
                              <p:par>
                                <p:cTn id="259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1" dur="2000"/>
                                        <p:tgtEl>
                                          <p:spTgt spid="2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66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755640" y="765000"/>
            <a:ext cx="806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作者既然认为对方的观点是错误的，为什么文中反复承认“是事实”“也是事实”“却也是事实”，与后文的批判有什么关系？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7200" y="3124080"/>
            <a:ext cx="80773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_x000b__x000c_"/>
              </a:rPr>
              <a:t>先确认敌论据的真实性，但这真实的论据不能证明其论点，为后文的驳论证奠定基础。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67" dur="indefinite" restart="never" nodeType="tmRoot">
          <p:childTnLst>
            <p:seq>
              <p:cTn id="268" dur="indefinite" nodeType="mainSeq">
                <p:childTnLst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/>
          <p:nvPr/>
        </p:nvSpPr>
        <p:spPr>
          <a:xfrm>
            <a:off x="250920" y="404640"/>
            <a:ext cx="867888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7a77"/>
                </a:solidFill>
                <a:latin typeface="Arial"/>
              </a:rPr>
              <a:t>☆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揣摩第</a:t>
            </a:r>
            <a:r>
              <a:rPr b="1" lang="en-US" sz="3600" spc="-1" strike="noStrike">
                <a:solidFill>
                  <a:srgbClr val="007a77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段话，三个副词“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总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”、“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只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”、“</a:t>
            </a:r>
            <a:r>
              <a:rPr b="1" lang="zh-CN" sz="3600" spc="-1" strike="noStrike">
                <a:solidFill>
                  <a:srgbClr val="ff6600"/>
                </a:solidFill>
                <a:latin typeface="Times New Roman"/>
              </a:rPr>
              <a:t>一味</a:t>
            </a:r>
            <a:r>
              <a:rPr b="1" lang="zh-CN" sz="3600" spc="-1" strike="noStrike">
                <a:solidFill>
                  <a:srgbClr val="007a77"/>
                </a:solidFill>
                <a:latin typeface="Times New Roman"/>
              </a:rPr>
              <a:t>”能否互换位置？为什么？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30200" y="1916280"/>
            <a:ext cx="81741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</a:rPr>
              <a:t>   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不能。“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总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”让人看到国民党政府夸耀“地大物博”时的洋洋自得、自我炫耀的样子；“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只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”是抓救命稻草时的形象，仰人鼻息之状跃然纸上；“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一味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”则是深陷而不能自拔，沉迷于其中顽固不化的样子。</a:t>
            </a:r>
            <a:r>
              <a:rPr b="1" lang="zh-CN" sz="3600" spc="-1" strike="noStrike">
                <a:solidFill>
                  <a:srgbClr val="008000"/>
                </a:solidFill>
                <a:latin typeface="Times New Roman"/>
              </a:rPr>
              <a:t>这三个副词准确地写出了国民党政府在自欺的道路上越走越远的“事实”，极富讽刺意味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95280" y="2708280"/>
            <a:ext cx="5221440" cy="581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</a:rPr>
              <a:t>信“地”、信“物”、信“国联”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859280" y="3068640"/>
            <a:ext cx="1584360" cy="72072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95280" y="404640"/>
            <a:ext cx="84438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</a:rPr>
              <a:t>、敌方的三个论据能证明“中国人失掉自信力”这个论点吗？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16600" y="1628640"/>
            <a:ext cx="33325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两年前总自夸“地大物博”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319400" y="3651120"/>
            <a:ext cx="2923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不久不自夸只希望国联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392120" y="4365720"/>
            <a:ext cx="29239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</a:rPr>
              <a:t>现在求神拜佛怀古伤今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042920" y="2637000"/>
            <a:ext cx="3673440" cy="642600"/>
          </a:xfrm>
          <a:prstGeom prst="rect">
            <a:avLst/>
          </a:prstGeom>
          <a:solidFill>
            <a:srgbClr val="ffff00"/>
          </a:solidFill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失掉了“他信力”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 rot="21307200">
            <a:off x="107640" y="1922400"/>
            <a:ext cx="558720" cy="1938240"/>
          </a:xfrm>
          <a:custGeom>
            <a:avLst/>
            <a:gdLst>
              <a:gd name="textAreaLeft" fmla="*/ 74880 w 558720"/>
              <a:gd name="textAreaRight" fmla="*/ 483840 w 558720"/>
              <a:gd name="textAreaTop" fmla="*/ 376200 h 1938240"/>
              <a:gd name="textAreaBottom" fmla="*/ 1262160 h 1938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8385" stAng="-5400000" swAng="-5400000"/>
                <a:lnTo>
                  <a:pt x="0" y="9872"/>
                </a:lnTo>
                <a:arcTo wR="21600" hR="8385" stAng="10800000" swAng="-3105243"/>
                <a:lnTo>
                  <a:pt x="15280" y="21233"/>
                </a:lnTo>
                <a:lnTo>
                  <a:pt x="21600" y="17514"/>
                </a:lnTo>
                <a:lnTo>
                  <a:pt x="15280" y="13060"/>
                </a:lnTo>
                <a:lnTo>
                  <a:pt x="15280" y="16403"/>
                </a:lnTo>
                <a:arcTo wR="21600" hR="8385" stAng="7694757" swAng="2986491"/>
                <a:lnTo>
                  <a:pt x="85" y="9129"/>
                </a:lnTo>
                <a:arcTo wR="21600" hR="8385" stAng="-10681248" swAng="5281248"/>
                <a:close/>
              </a:path>
              <a:path fill="darkenLess" w="21600" h="21600">
                <a:moveTo>
                  <a:pt x="21600" y="0"/>
                </a:moveTo>
                <a:arcTo wR="21600" hR="8385" stAng="-5400000" swAng="-5400000"/>
                <a:lnTo>
                  <a:pt x="0" y="8385"/>
                </a:lnTo>
                <a:arcTo wR="21600" hR="8385" stAng="10800000" swAng="-118752"/>
                <a:lnTo>
                  <a:pt x="85" y="9129"/>
                </a:lnTo>
                <a:arcTo wR="21600" hR="8385" stAng="-10681248" swAng="5281248"/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rot="10165200">
            <a:off x="5148360" y="2204280"/>
            <a:ext cx="558720" cy="1800360"/>
          </a:xfrm>
          <a:custGeom>
            <a:avLst/>
            <a:gdLst>
              <a:gd name="textAreaLeft" fmla="*/ 74880 w 558720"/>
              <a:gd name="textAreaRight" fmla="*/ 483840 w 558720"/>
              <a:gd name="textAreaTop" fmla="*/ 325800 h 1800360"/>
              <a:gd name="textAreaBottom" fmla="*/ 1125000 h 180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820" stAng="-5400000" swAng="-5400000"/>
                <a:lnTo>
                  <a:pt x="0" y="9589"/>
                </a:lnTo>
                <a:arcTo wR="21600" hR="7820" stAng="10800000" swAng="-2199104"/>
                <a:lnTo>
                  <a:pt x="12150" y="20812"/>
                </a:lnTo>
                <a:lnTo>
                  <a:pt x="21600" y="16524"/>
                </a:lnTo>
                <a:lnTo>
                  <a:pt x="12150" y="10659"/>
                </a:lnTo>
                <a:lnTo>
                  <a:pt x="12150" y="14851"/>
                </a:lnTo>
                <a:arcTo wR="21600" hR="7820" stAng="8600896" swAng="2057503"/>
                <a:lnTo>
                  <a:pt x="139" y="8704"/>
                </a:lnTo>
                <a:arcTo wR="21600" hR="7820" stAng="-10658398" swAng="5258398"/>
                <a:close/>
              </a:path>
              <a:path fill="darkenLess" w="21600" h="21600">
                <a:moveTo>
                  <a:pt x="21600" y="0"/>
                </a:moveTo>
                <a:arcTo wR="21600" hR="7820" stAng="-5400000" swAng="-5400000"/>
                <a:lnTo>
                  <a:pt x="0" y="7820"/>
                </a:lnTo>
                <a:arcTo wR="21600" hR="7820" stAng="10800000" swAng="-141602"/>
                <a:lnTo>
                  <a:pt x="139" y="8704"/>
                </a:lnTo>
                <a:arcTo wR="21600" hR="7820" stAng="-10658398" swAng="5258398"/>
                <a:close/>
              </a:path>
            </a:pathLst>
          </a:cu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 rot="10800000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826920" y="5877000"/>
            <a:ext cx="3961080" cy="64260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Arial"/>
              </a:rPr>
              <a:t>发展着“自欺力”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70040" y="5013360"/>
            <a:ext cx="489240" cy="792000"/>
          </a:xfrm>
          <a:prstGeom prst="downArrow">
            <a:avLst>
              <a:gd name="adj1" fmla="val 50000"/>
              <a:gd name="adj2" fmla="val 40471"/>
            </a:avLst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932360" y="2997360"/>
            <a:ext cx="0" cy="0"/>
          </a:xfrm>
          <a:prstGeom prst="line">
            <a:avLst/>
          </a:prstGeom>
          <a:ln w="9360">
            <a:solidFill>
              <a:srgbClr val="007a7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6768360" y="1484280"/>
            <a:ext cx="485640" cy="4969800"/>
          </a:xfrm>
          <a:prstGeom prst="rect">
            <a:avLst/>
          </a:prstGeom>
          <a:solidFill>
            <a:srgbClr val="66ff33"/>
          </a:solidFill>
          <a:ln w="9360">
            <a:solidFill>
              <a:srgbClr val="ff00ff"/>
            </a:solidFill>
            <a:miter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中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国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人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失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自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信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3300"/>
                </a:solidFill>
                <a:latin typeface="Arial"/>
              </a:rPr>
              <a:t>力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 flipV="1">
            <a:off x="4859280" y="4869000"/>
            <a:ext cx="1657440" cy="122400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grpSp>
        <p:nvGrpSpPr>
          <p:cNvPr id="236" name=""/>
          <p:cNvGrpSpPr/>
          <p:nvPr/>
        </p:nvGrpSpPr>
        <p:grpSpPr>
          <a:xfrm>
            <a:off x="5508360" y="3141720"/>
            <a:ext cx="637920" cy="838080"/>
            <a:chOff x="5508360" y="3141720"/>
            <a:chExt cx="637920" cy="838080"/>
          </a:xfrm>
        </p:grpSpPr>
        <p:sp>
          <p:nvSpPr>
            <p:cNvPr id="237" name=""/>
            <p:cNvSpPr/>
            <p:nvPr/>
          </p:nvSpPr>
          <p:spPr>
            <a:xfrm flipH="1">
              <a:off x="5508360" y="3141720"/>
              <a:ext cx="609480" cy="838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5537160" y="3141720"/>
              <a:ext cx="609120" cy="838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grpSp>
        <p:nvGrpSpPr>
          <p:cNvPr id="239" name=""/>
          <p:cNvGrpSpPr/>
          <p:nvPr/>
        </p:nvGrpSpPr>
        <p:grpSpPr>
          <a:xfrm>
            <a:off x="5435280" y="5084640"/>
            <a:ext cx="609840" cy="838080"/>
            <a:chOff x="5435280" y="5084640"/>
            <a:chExt cx="609840" cy="838080"/>
          </a:xfrm>
        </p:grpSpPr>
        <p:sp>
          <p:nvSpPr>
            <p:cNvPr id="240" name=""/>
            <p:cNvSpPr/>
            <p:nvPr/>
          </p:nvSpPr>
          <p:spPr>
            <a:xfrm flipH="1">
              <a:off x="5435280" y="5084640"/>
              <a:ext cx="609480" cy="838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5435640" y="5084640"/>
              <a:ext cx="609480" cy="838080"/>
            </a:xfrm>
            <a:prstGeom prst="line">
              <a:avLst/>
            </a:prstGeom>
            <a:ln w="572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242" name=""/>
          <p:cNvSpPr/>
          <p:nvPr/>
        </p:nvSpPr>
        <p:spPr>
          <a:xfrm>
            <a:off x="6774840" y="1773360"/>
            <a:ext cx="1399320" cy="475128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0">
            <a:noFill/>
          </a:ln>
          <a:effectLst>
            <a:outerShdw dist="17819" dir="2700000" blurRad="0" rotWithShape="0">
              <a:srgbClr val="ffff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驳论证（直接反驳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63840" y="836640"/>
            <a:ext cx="911880" cy="602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批驳对方的论证过程不合逻辑，偷换概念</a:t>
            </a:r>
            <a:r>
              <a:rPr b="1" lang="zh-CN" sz="2400" spc="-1" strike="noStrike">
                <a:solidFill>
                  <a:srgbClr val="007a77"/>
                </a:solidFill>
                <a:latin typeface="Arial"/>
              </a:rPr>
              <a:t>：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281" dur="indefinite" restart="never" nodeType="tmRoot">
          <p:childTnLst>
            <p:seq>
              <p:cTn id="282" dur="indefinite" nodeType="mainSeq">
                <p:childTnLst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87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2" dur="2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30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05" dur="20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0" dur="20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5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0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25" dur="2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6" fill="hold">
                      <p:stCondLst>
                        <p:cond delay="indefinite"/>
                      </p:stCondLst>
                      <p:childTnLst>
                        <p:par>
                          <p:cTn id="327" fill="hold">
                            <p:stCondLst>
                              <p:cond delay="0"/>
                            </p:stCondLst>
                            <p:childTnLst>
                              <p:par>
                                <p:cTn id="32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0" dur="20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35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0" dur="20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49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50920" y="404640"/>
            <a:ext cx="8534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5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、提问：文中“他信力”“自欺力”加引号起什么作用 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3814920" y="1484280"/>
            <a:ext cx="532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起讽刺否定的作用。</a:t>
            </a:r>
            <a:r>
              <a:rPr b="0" lang="zh-CN" sz="4400" spc="-1" strike="noStrike">
                <a:solidFill>
                  <a:srgbClr val="007a77"/>
                </a:solidFill>
                <a:latin typeface="隶书"/>
                <a:ea typeface="隶书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04920" y="2362320"/>
            <a:ext cx="83818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隶书"/>
                <a:ea typeface="隶书"/>
              </a:rPr>
              <a:t>6</a:t>
            </a:r>
            <a:r>
              <a:rPr b="1" lang="zh-CN" sz="4000" spc="-1" strike="noStrike">
                <a:solidFill>
                  <a:srgbClr val="ff0000"/>
                </a:solidFill>
                <a:latin typeface="隶书"/>
                <a:ea typeface="隶书"/>
              </a:rPr>
              <a:t>、提问：“失掉了他信力，就会疑，一个转身，也许能够只相信了自己，倒是一条新生路。”这里的“新生路”指什么？ 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04920" y="5105520"/>
            <a:ext cx="81532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隶书"/>
                <a:ea typeface="隶书"/>
              </a:rPr>
              <a:t>新生路指相信自己的力量，号召全国民众团结起来抗日救亡。</a:t>
            </a:r>
            <a:r>
              <a:rPr b="0" lang="zh-CN" sz="4400" spc="-1" strike="noStrike">
                <a:solidFill>
                  <a:srgbClr val="007a77"/>
                </a:solidFill>
                <a:latin typeface="隶书"/>
                <a:ea typeface="隶书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68360" y="1700280"/>
            <a:ext cx="35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仿拟的修辞手法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56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1" dur="20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66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395280" y="2708280"/>
            <a:ext cx="813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因为这部分文字道出了“求神拜佛”的实质，展示了作者无私无畏的精神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24000" y="549360"/>
            <a:ext cx="842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宋体"/>
              </a:rPr>
              <a:t>7</a:t>
            </a:r>
            <a:r>
              <a:rPr b="1" lang="zh-CN" sz="4000" spc="-1" strike="noStrike">
                <a:solidFill>
                  <a:srgbClr val="000000"/>
                </a:solidFill>
                <a:latin typeface="宋体"/>
              </a:rPr>
              <a:t>、第四段有一部分加点的文字，国民党检查管曾删掉这段文字，想想为什么被删去？这段文字有何作用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826920" y="333360"/>
            <a:ext cx="77756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00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精读课文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,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讨论交流第二部分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黑体"/>
              </a:rPr>
              <a:t>: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55640" y="1197000"/>
            <a:ext cx="619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一、品读</a:t>
            </a:r>
            <a:r>
              <a:rPr b="1" lang="en-US" sz="4000" spc="-1" strike="noStrike">
                <a:solidFill>
                  <a:srgbClr val="3333ff"/>
                </a:solidFill>
                <a:latin typeface="Arial"/>
                <a:ea typeface="黑体"/>
              </a:rPr>
              <a:t>6——8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黑体"/>
              </a:rPr>
              <a:t>段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作者自己的论点是什么？提出哪些论据来加以论证的？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采用怎样的论证方法？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方正舒体"/>
              </a:rPr>
              <a:t>论点：“有并不失掉自信力的中国人在”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幼圆"/>
              </a:rPr>
              <a:t>论据：</a:t>
            </a:r>
            <a:r>
              <a:rPr b="1" lang="zh-CN" sz="3200" spc="-1" strike="noStrike">
                <a:solidFill>
                  <a:srgbClr val="cc0066"/>
                </a:solidFill>
                <a:latin typeface="Arial"/>
              </a:rPr>
              <a:t>有过去和现在的事实为证 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幼圆"/>
              </a:rPr>
              <a:t>（从古至今都有满怀自信的“中国的脊梁”）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    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针锋相对地提出自己的观点，并列举事实证明 ，热情歌颂从古到今有自信力的“中国的脊梁”，从而彻底驳倒对方</a:t>
            </a: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黑体"/>
              </a:rPr>
              <a:t>。（这是间接反驳）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2" dur="500"/>
                                        <p:tgtEl>
                                          <p:spTgt spid="2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2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2" dur="500"/>
                                        <p:tgtEl>
                                          <p:spTgt spid="2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7" dur="500"/>
                                        <p:tgtEl>
                                          <p:spTgt spid="2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333360"/>
            <a:ext cx="431640" cy="576360"/>
          </a:xfrm>
          <a:prstGeom prst="star5">
            <a:avLst/>
          </a:prstGeom>
          <a:solidFill>
            <a:srgbClr val="ff0000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24000" y="1628640"/>
            <a:ext cx="85834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指默默无闻、努力工作的广大劳动人民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毕升、祖冲之、李时珍、詹天佑等人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09680" y="2997360"/>
            <a:ext cx="87343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指那些不怕牺牲、不计得失、忠于祖国的人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岳飞、文天祥、戚继光、林则徐等人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395280" y="4437000"/>
            <a:ext cx="8748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指同情人民，为人民鸣不平、伸张正义的人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屈原、关汉卿、海瑞等人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468360" y="5791320"/>
            <a:ext cx="86756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指历尽艰辛、英勇献身、追求真理的人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如商鞅、谭嗣同、玄奘、法显等人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944640" y="1197000"/>
            <a:ext cx="22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埋头苦干的人”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00280" y="2565360"/>
            <a:ext cx="22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拼命硬干的人”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324000" y="3933720"/>
            <a:ext cx="303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为民请命的人”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00280" y="5373720"/>
            <a:ext cx="2228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舍身求法的人”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468360" y="0"/>
            <a:ext cx="86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7a77"/>
                </a:solidFill>
                <a:latin typeface="Arial"/>
              </a:rPr>
              <a:t>3</a:t>
            </a:r>
            <a:r>
              <a:rPr b="1" lang="zh-CN" sz="3600" spc="-1" strike="noStrike">
                <a:solidFill>
                  <a:srgbClr val="007a77"/>
                </a:solidFill>
                <a:latin typeface="Arial"/>
              </a:rPr>
              <a:t>、列举的四种人分别指什么样的人？请举出具体的人物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7" dur="5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5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2" fill="hold">
                      <p:stCondLst>
                        <p:cond delay="indefinite"/>
                      </p:stCondLst>
                      <p:childTnLst>
                        <p:par>
                          <p:cTn id="423" fill="hold">
                            <p:stCondLst>
                              <p:cond delay="0"/>
                            </p:stCondLst>
                            <p:childTnLst>
                              <p:par>
                                <p:cTn id="424" nodeType="clickEffect" fill="hold" presetClass="entr" presetID="2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500" fill="hold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1125360"/>
            <a:ext cx="882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4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、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作者为什么赞扬他们“这就是中国的脊梁”？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79280" y="2421000"/>
            <a:ext cx="8496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是</a:t>
            </a:r>
            <a:r>
              <a:rPr b="1" lang="zh-CN" sz="3600" spc="-1" strike="noStrike">
                <a:solidFill>
                  <a:srgbClr val="009900"/>
                </a:solidFill>
                <a:latin typeface="宋体"/>
              </a:rPr>
              <a:t>比喻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的说法。指</a:t>
            </a:r>
            <a:r>
              <a:rPr b="1" lang="zh-CN" sz="3600" spc="-1" strike="noStrike">
                <a:solidFill>
                  <a:srgbClr val="ff6600"/>
                </a:solidFill>
                <a:latin typeface="宋体"/>
              </a:rPr>
              <a:t>脚踏实地为民族的进步而奋斗的人们，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他们来自下层，代表着广大人民的利益。他们是使中国挺立起来的</a:t>
            </a:r>
            <a:r>
              <a:rPr b="1" lang="zh-CN" sz="3600" spc="-1" strike="noStrike">
                <a:solidFill>
                  <a:srgbClr val="ff6600"/>
                </a:solidFill>
                <a:latin typeface="宋体"/>
              </a:rPr>
              <a:t>“脊梁”。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这些没有失掉自信力的中国人是中国的</a:t>
            </a:r>
            <a:r>
              <a:rPr b="1" lang="zh-CN" sz="3600" spc="-1" strike="noStrike">
                <a:solidFill>
                  <a:srgbClr val="dc5900"/>
                </a:solidFill>
                <a:latin typeface="宋体"/>
              </a:rPr>
              <a:t>主流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，是中国的</a:t>
            </a:r>
            <a:r>
              <a:rPr b="1" lang="zh-CN" sz="3600" spc="-1" strike="noStrike">
                <a:solidFill>
                  <a:srgbClr val="dc5900"/>
                </a:solidFill>
                <a:latin typeface="宋体"/>
              </a:rPr>
              <a:t>希望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。</a:t>
            </a:r>
            <a:r>
              <a:rPr b="1" lang="zh-CN" sz="3600" spc="-1" strike="noStrike">
                <a:solidFill>
                  <a:srgbClr val="007a77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whoosh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4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0" y="314172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9900"/>
                </a:solidFill>
                <a:latin typeface="Arial"/>
              </a:rPr>
              <a:t>☆</a:t>
            </a:r>
            <a:r>
              <a:rPr b="1" lang="zh-CN" sz="2800" spc="-1" strike="noStrike">
                <a:solidFill>
                  <a:srgbClr val="ff0000"/>
                </a:solidFill>
                <a:latin typeface="Arial"/>
              </a:rPr>
              <a:t>联系背景，说说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文中“这一类的人们”指的是谁？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900000" y="3789360"/>
            <a:ext cx="6923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7a77"/>
                </a:solidFill>
                <a:latin typeface="_x000b__x000c_"/>
              </a:rPr>
              <a:t>指坚持抗战和民族解放的人们。</a:t>
            </a:r>
            <a:r>
              <a:rPr b="1" lang="zh-CN" sz="44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268" name="" descr=""/>
          <p:cNvPicPr/>
          <p:nvPr/>
        </p:nvPicPr>
        <p:blipFill>
          <a:blip r:embed="rId2"/>
          <a:stretch/>
        </p:blipFill>
        <p:spPr>
          <a:xfrm>
            <a:off x="6934320" y="5200560"/>
            <a:ext cx="2209680" cy="1657440"/>
          </a:xfrm>
          <a:prstGeom prst="rect">
            <a:avLst/>
          </a:prstGeom>
          <a:ln w="0">
            <a:noFill/>
          </a:ln>
        </p:spPr>
      </p:pic>
      <p:sp>
        <p:nvSpPr>
          <p:cNvPr id="269" name=""/>
          <p:cNvSpPr/>
          <p:nvPr/>
        </p:nvSpPr>
        <p:spPr>
          <a:xfrm>
            <a:off x="0" y="189000"/>
            <a:ext cx="889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9900"/>
                </a:solidFill>
                <a:latin typeface="Arial"/>
              </a:rPr>
              <a:t>5</a:t>
            </a:r>
            <a:r>
              <a:rPr b="1" lang="zh-CN" sz="4400" spc="-1" strike="noStrike">
                <a:solidFill>
                  <a:srgbClr val="009900"/>
                </a:solidFill>
                <a:latin typeface="Arial"/>
              </a:rPr>
              <a:t>、</a:t>
            </a:r>
            <a:r>
              <a:rPr b="1" lang="zh-CN" sz="3600" spc="-1" strike="noStrike">
                <a:solidFill>
                  <a:srgbClr val="ff0000"/>
                </a:solidFill>
                <a:latin typeface="Arial"/>
              </a:rPr>
              <a:t>这一类没有失掉自信心的人现状如何？ 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68360" y="836640"/>
            <a:ext cx="8675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从人数上看：何尝少呢？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从特征上看：有确信，不自欺，前仆后继地战斗。 </a:t>
            </a: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）从处境上看：总在被摧残，被抹杀，消灭于黑暗中，不能为大家所知道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179280" y="4365720"/>
            <a:ext cx="81122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9900"/>
                </a:solidFill>
                <a:latin typeface="Arial"/>
              </a:rPr>
              <a:t>☆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说中国人失掉了自信力，用以指一部分人则可，倘若加于全体，那简直是诬蔑。”这句话批驳敌论证的什么毛病？ 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50920" y="5950080"/>
            <a:ext cx="799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7a77"/>
                </a:solidFill>
                <a:latin typeface="_x000b__x000c_"/>
              </a:rPr>
              <a:t>批驳敌论证</a:t>
            </a:r>
            <a:r>
              <a:rPr b="1" lang="zh-CN" sz="4000" spc="-1" strike="noStrike" u="sng">
                <a:solidFill>
                  <a:srgbClr val="007a77"/>
                </a:solidFill>
                <a:uFillTx/>
                <a:latin typeface="_x000b__x000c_"/>
              </a:rPr>
              <a:t>以偏概全</a:t>
            </a:r>
            <a:r>
              <a:rPr b="1" lang="zh-CN" sz="4000" spc="-1" strike="noStrike">
                <a:solidFill>
                  <a:srgbClr val="007a77"/>
                </a:solidFill>
                <a:latin typeface="_x000b__x000c_"/>
              </a:rPr>
              <a:t>的毛病。</a:t>
            </a:r>
            <a:r>
              <a:rPr b="1" lang="zh-CN" sz="4000" spc="-1" strike="noStrike">
                <a:solidFill>
                  <a:srgbClr val="007a77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436" dur="indefinite" restart="never" nodeType="tmRoot">
          <p:childTnLst>
            <p:seq>
              <p:cTn id="437" dur="indefinite" nodeType="mainSeq">
                <p:childTnLst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42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amera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1" dur="500"/>
                                        <p:tgtEl>
                                          <p:spTgt spid="2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1" dur="5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-360" y="764640"/>
            <a:ext cx="4716360" cy="24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华文中宋"/>
                <a:ea typeface="华文中宋"/>
              </a:rPr>
              <a:t>         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2001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年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7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月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13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日，萨马兰奇在莫斯科宣布北京获得</a:t>
            </a:r>
            <a:r>
              <a:rPr b="1" lang="en-US" sz="3600" spc="-1" strike="noStrike">
                <a:solidFill>
                  <a:srgbClr val="ff0000"/>
                </a:solidFill>
                <a:latin typeface="宋体"/>
              </a:rPr>
              <a:t>2008</a:t>
            </a:r>
            <a:r>
              <a:rPr b="1" lang="zh-CN" sz="3600" spc="-1" strike="noStrike">
                <a:solidFill>
                  <a:srgbClr val="ff0000"/>
                </a:solidFill>
                <a:latin typeface="宋体"/>
              </a:rPr>
              <a:t>年奥运会主办权。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2"/>
          <a:stretch/>
        </p:blipFill>
        <p:spPr>
          <a:xfrm>
            <a:off x="4859280" y="476280"/>
            <a:ext cx="4033800" cy="604836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3"/>
          <a:stretch/>
        </p:blipFill>
        <p:spPr>
          <a:xfrm>
            <a:off x="324000" y="3138480"/>
            <a:ext cx="4464000" cy="3549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58920" cy="944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99"/>
                </a:solidFill>
                <a:latin typeface="Arial"/>
              </a:rPr>
              <a:t>结      论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阅读最后一段，思考：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本文的结论是什么？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7a77"/>
                </a:solidFill>
                <a:latin typeface="Arial"/>
              </a:rPr>
              <a:t>、本段在全文中的作用？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结论：自信力的有无，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  <a:ea typeface="隶书"/>
              </a:rPr>
              <a:t>状元宰相</a:t>
            </a:r>
            <a:r>
              <a:rPr b="0" lang="zh-CN" sz="3200" spc="-1" strike="noStrike">
                <a:solidFill>
                  <a:srgbClr val="ff0000"/>
                </a:solidFill>
                <a:latin typeface="Arial"/>
                <a:ea typeface="隶书"/>
              </a:rPr>
              <a:t>的文章不足为据，要看</a:t>
            </a:r>
            <a:r>
              <a:rPr b="0" lang="zh-CN" sz="3200" spc="-1" strike="noStrike" u="sng">
                <a:solidFill>
                  <a:srgbClr val="ff0000"/>
                </a:solidFill>
                <a:uFillTx/>
                <a:latin typeface="Arial"/>
                <a:ea typeface="隶书"/>
              </a:rPr>
              <a:t>地底下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Arial"/>
                <a:ea typeface="方正舒体"/>
              </a:rPr>
              <a:t>作用：照应题目，作出回答</a:t>
            </a:r>
            <a:endParaRPr b="0" lang="en-US" sz="3600" spc="-1" strike="noStrike">
              <a:solidFill>
                <a:srgbClr val="007a77"/>
              </a:solidFill>
              <a:latin typeface="Arial"/>
            </a:endParaRPr>
          </a:p>
        </p:txBody>
      </p:sp>
    </p:spTree>
  </p:cSld>
  <p:transition>
    <p:zoom dir="out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68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fill="hold">
                      <p:stCondLst>
                        <p:cond delay="indefinite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3" dur="500"/>
                                        <p:tgtEl>
                                          <p:spTgt spid="2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8" dur="500"/>
                                        <p:tgtEl>
                                          <p:spTgt spid="2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3" dur="500"/>
                                        <p:tgtEl>
                                          <p:spTgt spid="27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/>
          <p:nvPr/>
        </p:nvSpPr>
        <p:spPr>
          <a:xfrm>
            <a:off x="1476360" y="404640"/>
            <a:ext cx="662472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“状元宰相”指什么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1476360" y="981000"/>
            <a:ext cx="7416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国民党反动政客及其御用文人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1549440" y="1557360"/>
            <a:ext cx="7345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2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“地底下”指什么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1908000" y="4581360"/>
            <a:ext cx="612000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美化伪装，欺骗宣传。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547640" y="4076640"/>
            <a:ext cx="7272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3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“脂粉”的意思是什么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1476360" y="5661000"/>
            <a:ext cx="720108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ff"/>
                </a:solidFill>
                <a:latin typeface="Arial"/>
                <a:ea typeface="黑体"/>
              </a:rPr>
              <a:t>古往今来的志士仁人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1620720" y="5157720"/>
            <a:ext cx="75232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4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、“筋骨和脊梁”比喻什么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619280" y="2133720"/>
            <a:ext cx="7129440" cy="10688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指</a:t>
            </a:r>
            <a:r>
              <a:rPr b="1" lang="zh-CN" sz="3200" spc="-1" strike="noStrike" u="sng">
                <a:solidFill>
                  <a:srgbClr val="3333ff"/>
                </a:solidFill>
                <a:uFillTx/>
                <a:latin typeface="Arial"/>
                <a:ea typeface="黑体"/>
              </a:rPr>
              <a:t>变革社会的积极力量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 </a:t>
            </a:r>
            <a:r>
              <a:rPr b="1" lang="en-US" sz="3200" spc="-1" strike="noStrike">
                <a:solidFill>
                  <a:srgbClr val="3333ff"/>
                </a:solidFill>
                <a:latin typeface="Arial"/>
                <a:ea typeface="黑体"/>
              </a:rPr>
              <a:t>. </a:t>
            </a:r>
            <a:r>
              <a:rPr b="1" lang="zh-CN" sz="3200" spc="-1" strike="noStrike">
                <a:solidFill>
                  <a:srgbClr val="3333ff"/>
                </a:solidFill>
                <a:latin typeface="Arial"/>
                <a:ea typeface="黑体"/>
              </a:rPr>
              <a:t>因为它来自民众，故称“地底下”，在当时，这股力量指</a:t>
            </a: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黑体"/>
              </a:rPr>
              <a:t>还处于地下斗争状态的中国共产党、及其领导的革命力量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 rot="5400000">
            <a:off x="-1189440" y="2132280"/>
            <a:ext cx="3816360" cy="936360"/>
          </a:xfrm>
          <a:prstGeom prst="rect">
            <a:avLst/>
          </a:prstGeom>
        </p:spPr>
        <p:txBody>
          <a:bodyPr wrap="none" lIns="90000" rIns="90000" tIns="46800" bIns="46800" anchor="t" anchorCtr="1" vert="eaVert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zh-CN" sz="2400" spc="1" strike="noStrike">
                <a:ln w="9360">
                  <a:solidFill>
                    <a:srgbClr val="800000"/>
                  </a:solidFill>
                  <a:miter/>
                </a:ln>
                <a:solidFill>
                  <a:srgbClr val="800000"/>
                </a:solidFill>
                <a:effectLst>
                  <a:outerShdw dist="17819" dir="2700000" blurRad="0" rotWithShape="0">
                    <a:srgbClr val="b2b2b2">
                      <a:alpha val="80000"/>
                    </a:srgbClr>
                  </a:outerShdw>
                </a:effectLst>
                <a:latin typeface="宋体"/>
              </a:rPr>
              <a:t>体会比喻义</a:t>
            </a:r>
            <a:endParaRPr b="0" i="1" lang="en-US" sz="2400" spc="1" strike="noStrike">
              <a:ln w="9360">
                <a:solidFill>
                  <a:srgbClr val="800000"/>
                </a:solidFill>
                <a:miter/>
              </a:ln>
              <a:solidFill>
                <a:srgbClr val="800000"/>
              </a:solidFill>
              <a:effectLst>
                <a:outerShdw dist="17819" dir="2700000" blurRad="0" rotWithShape="0">
                  <a:srgbClr val="b2b2b2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out"/>
  </p:transition>
  <p:timing>
    <p:tnLst>
      <p:par>
        <p:cTn id="484" dur="indefinite" restart="never" nodeType="tmRoot">
          <p:childTnLst>
            <p:seq>
              <p:cTn id="485" dur="indefinite" nodeType="mainSeq">
                <p:childTnLst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0" dur="2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95" dur="2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fill="hold">
                      <p:stCondLst>
                        <p:cond delay="indefinite"/>
                      </p:stCondLst>
                      <p:childTnLst>
                        <p:par>
                          <p:cTn id="497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0" dur="20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1" fill="hold">
                            <p:stCondLst>
                              <p:cond delay="2000"/>
                            </p:stCondLst>
                            <p:childTnLst>
                              <p:par>
                                <p:cTn id="502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4" dur="2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fill="hold">
                      <p:stCondLst>
                        <p:cond delay="indefinite"/>
                      </p:stCondLst>
                      <p:childTnLst>
                        <p:par>
                          <p:cTn id="506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09" dur="2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4" dur="2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"/>
          <p:cNvSpPr/>
          <p:nvPr/>
        </p:nvSpPr>
        <p:spPr>
          <a:xfrm>
            <a:off x="0" y="333360"/>
            <a:ext cx="4495680" cy="91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作者写作思路</a:t>
            </a:r>
            <a:endParaRPr b="0" lang="en-US" sz="5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0" y="2209680"/>
            <a:ext cx="1905120" cy="642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cap="sq"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树靶子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484360" y="2133720"/>
            <a:ext cx="1752840" cy="64260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cap="sq"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打靶子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4859280" y="2133720"/>
            <a:ext cx="2057400" cy="64260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立观点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3809880"/>
            <a:ext cx="2133720" cy="147708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摆出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敌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论点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2556000" y="3716280"/>
            <a:ext cx="1896840" cy="2025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驳斥敌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论证            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4859280" y="3645000"/>
            <a:ext cx="2376720" cy="147708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  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证明自己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     </a:t>
            </a:r>
            <a:r>
              <a:rPr b="1" lang="zh-CN" sz="3600" spc="-1" strike="noStrike">
                <a:solidFill>
                  <a:srgbClr val="ff3300"/>
                </a:solidFill>
                <a:latin typeface="华文新魏"/>
                <a:ea typeface="华文新魏"/>
              </a:rPr>
              <a:t>观点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1143000" y="2895480"/>
            <a:ext cx="0" cy="685800"/>
          </a:xfrm>
          <a:prstGeom prst="line">
            <a:avLst/>
          </a:prstGeom>
          <a:ln cap="sq" w="38160">
            <a:solidFill>
              <a:srgbClr val="007a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505320" y="2819520"/>
            <a:ext cx="0" cy="685800"/>
          </a:xfrm>
          <a:prstGeom prst="line">
            <a:avLst/>
          </a:prstGeom>
          <a:ln cap="sq" w="38160">
            <a:solidFill>
              <a:srgbClr val="007a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5796000" y="2781360"/>
            <a:ext cx="0" cy="685800"/>
          </a:xfrm>
          <a:prstGeom prst="line">
            <a:avLst/>
          </a:prstGeom>
          <a:ln cap="sq" w="38160">
            <a:solidFill>
              <a:srgbClr val="007a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 flipH="1">
            <a:off x="2057400" y="2514600"/>
            <a:ext cx="457200" cy="0"/>
          </a:xfrm>
          <a:prstGeom prst="line">
            <a:avLst/>
          </a:prstGeom>
          <a:ln cap="sq" w="38160">
            <a:solidFill>
              <a:srgbClr val="007a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427640" y="2421000"/>
            <a:ext cx="533160" cy="0"/>
          </a:xfrm>
          <a:prstGeom prst="line">
            <a:avLst/>
          </a:prstGeom>
          <a:ln cap="sq" w="38160">
            <a:solidFill>
              <a:srgbClr val="007a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296" name="" descr=""/>
          <p:cNvPicPr/>
          <p:nvPr/>
        </p:nvPicPr>
        <p:blipFill>
          <a:blip r:embed="rId8"/>
          <a:stretch/>
        </p:blipFill>
        <p:spPr>
          <a:xfrm>
            <a:off x="576360" y="5410080"/>
            <a:ext cx="7467480" cy="1447920"/>
          </a:xfrm>
          <a:prstGeom prst="rect">
            <a:avLst/>
          </a:prstGeom>
          <a:ln w="0">
            <a:noFill/>
          </a:ln>
        </p:spPr>
      </p:pic>
      <p:sp>
        <p:nvSpPr>
          <p:cNvPr id="297" name=""/>
          <p:cNvSpPr/>
          <p:nvPr/>
        </p:nvSpPr>
        <p:spPr>
          <a:xfrm>
            <a:off x="7524720" y="1989000"/>
            <a:ext cx="1871640" cy="64260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cap="sq" w="2844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归结论</a:t>
            </a:r>
            <a:endParaRPr b="0" lang="en-US" sz="36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7020000" y="2349360"/>
            <a:ext cx="533160" cy="0"/>
          </a:xfrm>
          <a:prstGeom prst="line">
            <a:avLst/>
          </a:prstGeom>
          <a:ln cap="sq" w="38160">
            <a:solidFill>
              <a:srgbClr val="007a77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1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500"/>
                            </p:stCondLst>
                            <p:childTnLst>
                              <p:par>
                                <p:cTn id="5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7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4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fill="hold">
                      <p:stCondLst>
                        <p:cond delay="indefinite"/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9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4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5" fill="hold">
                            <p:stCondLst>
                              <p:cond delay="500"/>
                            </p:stCondLst>
                            <p:childTnLst>
                              <p:par>
                                <p:cTn id="55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2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8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9" fill="hold">
                      <p:stCondLst>
                        <p:cond delay="indefinite"/>
                      </p:stCondLst>
                      <p:childTnLst>
                        <p:par>
                          <p:cTn id="570" fill="hold">
                            <p:stCondLst>
                              <p:cond delay="0"/>
                            </p:stCondLst>
                            <p:childTnLst>
                              <p:par>
                                <p:cTn id="57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"/>
          <p:cNvSpPr/>
          <p:nvPr/>
        </p:nvSpPr>
        <p:spPr>
          <a:xfrm>
            <a:off x="0" y="1157400"/>
            <a:ext cx="3429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一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摆敌论点论据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—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124080" y="1066680"/>
            <a:ext cx="152640" cy="1067040"/>
          </a:xfrm>
          <a:custGeom>
            <a:avLst/>
            <a:gdLst>
              <a:gd name="textAreaLeft" fmla="*/ 97560 w 152640"/>
              <a:gd name="textAreaRight" fmla="*/ 153000 w 15264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6204"/>
                </a:lnTo>
                <a:cubicBezTo>
                  <a:pt x="10800" y="7104"/>
                  <a:pt x="5400" y="8004"/>
                  <a:pt x="0" y="8004"/>
                </a:cubicBezTo>
                <a:cubicBezTo>
                  <a:pt x="5400" y="8004"/>
                  <a:pt x="10800" y="8904"/>
                  <a:pt x="10800" y="9804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200400" y="7621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论据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200400" y="182880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论点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114800" y="623880"/>
            <a:ext cx="18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两年前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4114800" y="1081080"/>
            <a:ext cx="152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不    久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: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4114800" y="1538280"/>
            <a:ext cx="1371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现    在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: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410080" y="623880"/>
            <a:ext cx="34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自夸“地大物博”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5410080" y="108108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希望国联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410080" y="152388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Times New Roman"/>
              </a:rPr>
              <a:t>求神拜佛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962520" y="1905120"/>
            <a:ext cx="4114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c43728"/>
                </a:solidFill>
                <a:latin typeface="Times New Roman"/>
              </a:rPr>
              <a:t>中国人失掉自信力了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-152280" y="3276720"/>
            <a:ext cx="1676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二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反驳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1219320" y="2743200"/>
            <a:ext cx="228600" cy="1676520"/>
          </a:xfrm>
          <a:custGeom>
            <a:avLst/>
            <a:gdLst>
              <a:gd name="textAreaLeft" fmla="*/ 146160 w 228600"/>
              <a:gd name="textAreaRight" fmla="*/ 228960 w 228600"/>
              <a:gd name="textAreaTop" fmla="*/ 43560 h 1676520"/>
              <a:gd name="textAreaBottom" fmla="*/ 1632960 h 1676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447920" y="2514600"/>
            <a:ext cx="1904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直接反驳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3—5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124080" y="2376360"/>
            <a:ext cx="35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失掉的是“他信力”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28195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00"/>
                </a:solidFill>
                <a:latin typeface="Times New Roman"/>
              </a:rPr>
              <a:t>发展着“自欺力”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1295280" y="4205160"/>
            <a:ext cx="1905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间接反驳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—8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2743200" y="32004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论点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809880" y="3200400"/>
            <a:ext cx="4953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</a:rPr>
              <a:t>有并不失掉自信力的中国人在   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2971800" y="472428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论据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886200" y="4343400"/>
            <a:ext cx="228600" cy="1371600"/>
          </a:xfrm>
          <a:custGeom>
            <a:avLst/>
            <a:gdLst>
              <a:gd name="textAreaLeft" fmla="*/ 146160 w 228600"/>
              <a:gd name="textAreaRight" fmla="*/ 228960 w 228600"/>
              <a:gd name="textAreaTop" fmla="*/ 35640 h 1371600"/>
              <a:gd name="textAreaBottom" fmla="*/ 1335960 h 1371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7600"/>
                </a:lnTo>
                <a:cubicBezTo>
                  <a:pt x="10800" y="8500"/>
                  <a:pt x="5400" y="9400"/>
                  <a:pt x="0" y="9400"/>
                </a:cubicBezTo>
                <a:cubicBezTo>
                  <a:pt x="5400" y="9400"/>
                  <a:pt x="10800" y="10300"/>
                  <a:pt x="10800" y="112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4038480" y="411480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古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038480" y="541008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今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0" y="3733920"/>
            <a:ext cx="228600" cy="1523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876920" y="35812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埋头苦干的人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48320" y="53341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有确信</a:t>
            </a:r>
            <a:r>
              <a:rPr b="1" lang="en-US" sz="2800" spc="-1" strike="noStrike">
                <a:solidFill>
                  <a:srgbClr val="006666"/>
                </a:solidFill>
                <a:latin typeface="Times New Roman"/>
              </a:rPr>
              <a:t>, </a:t>
            </a: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不自欺  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4876920" y="403848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拼命硬干的人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4876920" y="4525920"/>
            <a:ext cx="2819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为民请命的人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648320" y="5715000"/>
            <a:ext cx="335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66"/>
                </a:solidFill>
                <a:latin typeface="Times New Roman"/>
              </a:rPr>
              <a:t>前仆后继的战斗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4876920" y="4952880"/>
            <a:ext cx="266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舍身求法的人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4495680" y="5410080"/>
            <a:ext cx="152640" cy="762120"/>
          </a:xfrm>
          <a:custGeom>
            <a:avLst/>
            <a:gdLst>
              <a:gd name="textAreaLeft" fmla="*/ 97560 w 152640"/>
              <a:gd name="textAreaRight" fmla="*/ 153000 w 152640"/>
              <a:gd name="textAreaTop" fmla="*/ 19800 h 762120"/>
              <a:gd name="textAreaBottom" fmla="*/ 742320 h 7621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0" y="0"/>
            <a:ext cx="662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ff"/>
                </a:solidFill>
                <a:latin typeface="Times New Roman"/>
                <a:ea typeface="华文新魏"/>
              </a:rPr>
              <a:t>文章结构内容</a:t>
            </a:r>
            <a:endParaRPr b="0" lang="en-US" sz="4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0" y="5911920"/>
            <a:ext cx="1692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(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三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)</a:t>
            </a: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结论</a:t>
            </a:r>
            <a:r>
              <a:rPr b="1" lang="en-US" sz="2800" spc="-1" strike="noStrike">
                <a:solidFill>
                  <a:srgbClr val="007a77"/>
                </a:solidFill>
                <a:latin typeface="Times New Roman"/>
              </a:rPr>
              <a:t>: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）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1258920" y="6165720"/>
            <a:ext cx="7391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自信力的有无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状元宰相的文章不足为据</a:t>
            </a: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ff0000"/>
                </a:solidFill>
                <a:latin typeface="Times New Roman"/>
              </a:rPr>
              <a:t>看地底下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7119720" y="4267080"/>
            <a:ext cx="103356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a77"/>
                </a:solidFill>
                <a:latin typeface="Times New Roman"/>
              </a:rPr>
              <a:t>脊  梁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V="1" rot="5373600">
            <a:off x="6628320" y="1748160"/>
            <a:ext cx="768240" cy="229104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28"/>
                </a:moveTo>
                <a:lnTo>
                  <a:pt x="18528" y="21628"/>
                </a:lnTo>
                <a:lnTo>
                  <a:pt x="18528" y="7181"/>
                </a:lnTo>
                <a:lnTo>
                  <a:pt x="15428" y="7181"/>
                </a:lnTo>
                <a:lnTo>
                  <a:pt x="18514" y="0"/>
                </a:lnTo>
                <a:lnTo>
                  <a:pt x="21600" y="7181"/>
                </a:lnTo>
                <a:lnTo>
                  <a:pt x="18500" y="7181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 rot="16226400">
            <a:off x="7746840" y="1799640"/>
            <a:ext cx="909720" cy="14241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28"/>
                </a:moveTo>
                <a:lnTo>
                  <a:pt x="18528" y="21628"/>
                </a:lnTo>
                <a:lnTo>
                  <a:pt x="18528" y="7181"/>
                </a:lnTo>
                <a:lnTo>
                  <a:pt x="15428" y="7181"/>
                </a:lnTo>
                <a:lnTo>
                  <a:pt x="18514" y="0"/>
                </a:lnTo>
                <a:lnTo>
                  <a:pt x="21600" y="7181"/>
                </a:lnTo>
                <a:lnTo>
                  <a:pt x="18500" y="7181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 rot="5373600">
            <a:off x="8150040" y="5717520"/>
            <a:ext cx="615960" cy="9144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28"/>
                </a:moveTo>
                <a:lnTo>
                  <a:pt x="18528" y="21628"/>
                </a:lnTo>
                <a:lnTo>
                  <a:pt x="18528" y="7181"/>
                </a:lnTo>
                <a:lnTo>
                  <a:pt x="15428" y="7181"/>
                </a:lnTo>
                <a:lnTo>
                  <a:pt x="18514" y="0"/>
                </a:lnTo>
                <a:lnTo>
                  <a:pt x="21600" y="7181"/>
                </a:lnTo>
                <a:lnTo>
                  <a:pt x="18500" y="7181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V="1" rot="5373600">
            <a:off x="7202520" y="1176840"/>
            <a:ext cx="610920" cy="236700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0" y="21628"/>
                </a:moveTo>
                <a:lnTo>
                  <a:pt x="18528" y="21628"/>
                </a:lnTo>
                <a:lnTo>
                  <a:pt x="18528" y="7181"/>
                </a:lnTo>
                <a:lnTo>
                  <a:pt x="15428" y="7181"/>
                </a:lnTo>
                <a:lnTo>
                  <a:pt x="18514" y="0"/>
                </a:lnTo>
                <a:lnTo>
                  <a:pt x="21600" y="7181"/>
                </a:lnTo>
                <a:lnTo>
                  <a:pt x="18500" y="7181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ebf7ff"/>
          </a:solidFill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8229600" y="1143000"/>
            <a:ext cx="45720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8686800" y="1143000"/>
            <a:ext cx="0" cy="99072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001000" y="4724280"/>
            <a:ext cx="91440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V="1">
            <a:off x="8915400" y="5867280"/>
            <a:ext cx="0" cy="7632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8915400" y="4724280"/>
            <a:ext cx="0" cy="114300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7086600" y="1828800"/>
            <a:ext cx="106668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8153280" y="1828800"/>
            <a:ext cx="0" cy="68580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8458200" y="3505320"/>
            <a:ext cx="457200" cy="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8915400" y="2971800"/>
            <a:ext cx="0" cy="533520"/>
          </a:xfrm>
          <a:prstGeom prst="line">
            <a:avLst/>
          </a:prstGeom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7315200" y="3809880"/>
            <a:ext cx="304920" cy="2210040"/>
          </a:xfrm>
          <a:custGeom>
            <a:avLst/>
            <a:gdLst>
              <a:gd name="textAreaLeft" fmla="*/ 0 w 304920"/>
              <a:gd name="textAreaRight" fmla="*/ 110160 w 304920"/>
              <a:gd name="textAreaTop" fmla="*/ 57600 h 2210040"/>
              <a:gd name="textAreaBottom" fmla="*/ 2152440 h 2210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7231"/>
                </a:lnTo>
                <a:cubicBezTo>
                  <a:pt x="10800" y="8131"/>
                  <a:pt x="16200" y="9031"/>
                  <a:pt x="21600" y="9031"/>
                </a:cubicBezTo>
                <a:cubicBezTo>
                  <a:pt x="16200" y="9031"/>
                  <a:pt x="10800" y="9931"/>
                  <a:pt x="10800" y="10831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2819520" y="3505320"/>
            <a:ext cx="228600" cy="1600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10671"/>
                </a:lnTo>
                <a:cubicBezTo>
                  <a:pt x="10800" y="11571"/>
                  <a:pt x="5400" y="12471"/>
                  <a:pt x="0" y="12471"/>
                </a:cubicBezTo>
                <a:cubicBezTo>
                  <a:pt x="5400" y="12471"/>
                  <a:pt x="10800" y="13371"/>
                  <a:pt x="10800" y="14271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971800" y="2590920"/>
            <a:ext cx="228600" cy="533160"/>
          </a:xfrm>
          <a:custGeom>
            <a:avLst/>
            <a:gdLst>
              <a:gd name="textAreaLeft" fmla="*/ 146160 w 228600"/>
              <a:gd name="textAreaRight" fmla="*/ 228960 w 228600"/>
              <a:gd name="textAreaTop" fmla="*/ 13680 h 533160"/>
              <a:gd name="textAreaBottom" fmla="*/ 519480 h 5331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962520" y="838080"/>
            <a:ext cx="228600" cy="990720"/>
          </a:xfrm>
          <a:custGeom>
            <a:avLst/>
            <a:gdLst>
              <a:gd name="textAreaLeft" fmla="*/ 146160 w 228600"/>
              <a:gd name="textAreaRight" fmla="*/ 228960 w 22860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4362"/>
                </a:lnTo>
                <a:cubicBezTo>
                  <a:pt x="10800" y="5262"/>
                  <a:pt x="5400" y="6162"/>
                  <a:pt x="0" y="6162"/>
                </a:cubicBezTo>
                <a:cubicBezTo>
                  <a:pt x="5400" y="6162"/>
                  <a:pt x="10800" y="7062"/>
                  <a:pt x="10800" y="7962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8001000" y="838080"/>
            <a:ext cx="152280" cy="609840"/>
          </a:xfrm>
          <a:custGeom>
            <a:avLst/>
            <a:gdLst>
              <a:gd name="textAreaLeft" fmla="*/ 0 w 152280"/>
              <a:gd name="textAreaRight" fmla="*/ 55080 w 152280"/>
              <a:gd name="textAreaTop" fmla="*/ 15840 h 609840"/>
              <a:gd name="textAreaBottom" fmla="*/ 5940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7a7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578" dur="indefinite" restart="never" nodeType="tmRoot">
          <p:childTnLst>
            <p:seq>
              <p:cTn id="579" dur="indefinite" nodeType="mainSeq">
                <p:childTnLst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5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9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0" fill="hold">
                            <p:stCondLst>
                              <p:cond delay="500"/>
                            </p:stCondLst>
                            <p:childTnLst>
                              <p:par>
                                <p:cTn id="5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3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9" fill="hold">
                            <p:stCondLst>
                              <p:cond delay="500"/>
                            </p:stCondLst>
                            <p:childTnLst>
                              <p:par>
                                <p:cTn id="60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2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fill="hold">
                      <p:stCondLst>
                        <p:cond delay="indefinite"/>
                      </p:stCondLst>
                      <p:childTnLst>
                        <p:par>
                          <p:cTn id="604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7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2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5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2" dur="3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fill="hold">
                      <p:stCondLst>
                        <p:cond delay="indefinite"/>
                      </p:stCondLst>
                      <p:childTnLst>
                        <p:par>
                          <p:cTn id="624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7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2" dur="5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8" fill="hold">
                      <p:stCondLst>
                        <p:cond delay="indefinite"/>
                      </p:stCondLst>
                      <p:childTnLst>
                        <p:par>
                          <p:cTn id="639" fill="hold">
                            <p:stCondLst>
                              <p:cond delay="0"/>
                            </p:stCondLst>
                            <p:childTnLst>
                              <p:par>
                                <p:cTn id="6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2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3" fill="hold">
                      <p:stCondLst>
                        <p:cond delay="indefinite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7" dur="5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500"/>
                            </p:stCondLst>
                            <p:childTnLst>
                              <p:par>
                                <p:cTn id="6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1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4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9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3" dur="5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1000"/>
                            </p:stCondLst>
                            <p:childTnLst>
                              <p:par>
                                <p:cTn id="66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7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1500"/>
                            </p:stCondLst>
                            <p:childTnLst>
                              <p:par>
                                <p:cTn id="66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1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6" dur="500"/>
                                        <p:tgtEl>
                                          <p:spTgt spid="3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fill="hold">
                      <p:stCondLst>
                        <p:cond delay="indefinite"/>
                      </p:stCondLst>
                      <p:childTnLst>
                        <p:par>
                          <p:cTn id="678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1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500"/>
                            </p:stCondLst>
                            <p:childTnLst>
                              <p:par>
                                <p:cTn id="6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5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1000"/>
                            </p:stCondLst>
                            <p:childTnLst>
                              <p:par>
                                <p:cTn id="68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8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0" fill="hold">
                      <p:stCondLst>
                        <p:cond delay="indefinite"/>
                      </p:stCondLst>
                      <p:childTnLst>
                        <p:par>
                          <p:cTn id="691" fill="hold">
                            <p:stCondLst>
                              <p:cond delay="0"/>
                            </p:stCondLst>
                            <p:childTnLst>
                              <p:par>
                                <p:cTn id="69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4" dur="500"/>
                                        <p:tgtEl>
                                          <p:spTgt spid="3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9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fill="hold">
                      <p:stCondLst>
                        <p:cond delay="indefinite"/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4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8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3" dur="3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fill="hold">
                      <p:stCondLst>
                        <p:cond delay="indefinite"/>
                      </p:stCondLst>
                      <p:childTnLst>
                        <p:par>
                          <p:cTn id="715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8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500"/>
                            </p:stCondLst>
                            <p:childTnLst>
                              <p:par>
                                <p:cTn id="720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2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00"/>
                            </p:stCondLst>
                            <p:childTnLst>
                              <p:par>
                                <p:cTn id="72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26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1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2" fill="hold">
                      <p:stCondLst>
                        <p:cond delay="indefinite"/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6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7" fill="hold">
                            <p:stCondLst>
                              <p:cond delay="500"/>
                            </p:stCondLst>
                            <p:childTnLst>
                              <p:par>
                                <p:cTn id="738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0" dur="3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1" fill="hold">
                      <p:stCondLst>
                        <p:cond delay="indefinite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6" fill="hold">
                            <p:stCondLst>
                              <p:cond delay="500"/>
                            </p:stCondLst>
                            <p:childTnLst>
                              <p:par>
                                <p:cTn id="74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9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fill="hold">
                      <p:stCondLst>
                        <p:cond delay="indefinite"/>
                      </p:stCondLst>
                      <p:childTnLst>
                        <p:par>
                          <p:cTn id="751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4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9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fill="hold">
                      <p:stCondLst>
                        <p:cond delay="indefinite"/>
                      </p:stCondLst>
                      <p:childTnLst>
                        <p:par>
                          <p:cTn id="761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4" dur="5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fill="hold">
                      <p:stCondLst>
                        <p:cond delay="indefinite"/>
                      </p:stCondLst>
                      <p:childTnLst>
                        <p:par>
                          <p:cTn id="766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69" dur="3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fill="hold">
                      <p:stCondLst>
                        <p:cond delay="indefinite"/>
                      </p:stCondLst>
                      <p:childTnLst>
                        <p:par>
                          <p:cTn id="771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4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5" fill="hold">
                            <p:stCondLst>
                              <p:cond delay="500"/>
                            </p:stCondLst>
                            <p:childTnLst>
                              <p:par>
                                <p:cTn id="7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78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3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788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500"/>
                            </p:stCondLst>
                            <p:childTnLst>
                              <p:par>
                                <p:cTn id="790" nodeType="afterEffect" fill="hold" presetClass="entr" presetID="9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92" dur="3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3" fill="hold">
                      <p:stCondLst>
                        <p:cond delay="indefinite"/>
                      </p:stCondLst>
                      <p:childTnLst>
                        <p:par>
                          <p:cTn id="794" fill="hold">
                            <p:stCondLst>
                              <p:cond delay="0"/>
                            </p:stCondLst>
                            <p:childTnLst>
                              <p:par>
                                <p:cTn id="79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97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8" fill="hold">
                            <p:stCondLst>
                              <p:cond delay="500"/>
                            </p:stCondLst>
                            <p:childTnLst>
                              <p:par>
                                <p:cTn id="7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01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1000"/>
                            </p:stCondLst>
                            <p:childTnLst>
                              <p:par>
                                <p:cTn id="8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05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6" fill="hold">
                            <p:stCondLst>
                              <p:cond delay="1500"/>
                            </p:stCondLst>
                            <p:childTnLst>
                              <p:par>
                                <p:cTn id="8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9" dur="3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14" dur="3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9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971640" y="3189960"/>
            <a:ext cx="763272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3399"/>
                </a:solidFill>
                <a:latin typeface="华文新魏"/>
                <a:ea typeface="华文新魏"/>
              </a:rPr>
              <a:t>        </a:t>
            </a:r>
            <a:r>
              <a:rPr b="1" lang="zh-CN" sz="4000" spc="-1" strike="noStrike">
                <a:solidFill>
                  <a:srgbClr val="003399"/>
                </a:solidFill>
                <a:latin typeface="宋体"/>
              </a:rPr>
              <a:t>本文义正辞严地批判了当时对抗日前途悲观的亡国论调，驳斥了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国民党反动政客及其走狗文人诬蔑中国人民失掉自信力</a:t>
            </a:r>
            <a:r>
              <a:rPr b="1" lang="zh-CN" sz="4000" spc="-1" strike="noStrike">
                <a:solidFill>
                  <a:srgbClr val="003399"/>
                </a:solidFill>
                <a:latin typeface="宋体"/>
              </a:rPr>
              <a:t>的无耻谰言，表达了</a:t>
            </a:r>
            <a:r>
              <a:rPr b="1" lang="zh-CN" sz="4000" spc="-1" strike="noStrike">
                <a:solidFill>
                  <a:srgbClr val="ff0000"/>
                </a:solidFill>
                <a:latin typeface="宋体"/>
              </a:rPr>
              <a:t>作者对中国革命前途的信心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3" name=""/>
          <p:cNvSpPr txBox="1"/>
          <p:nvPr/>
        </p:nvSpPr>
        <p:spPr>
          <a:xfrm>
            <a:off x="755640" y="549360"/>
            <a:ext cx="3021120" cy="1203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宋体"/>
              </a:rPr>
              <a:t>文章主题</a:t>
            </a:r>
            <a:endParaRPr b="1" lang="en-US" sz="24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宋体"/>
              <a:ea typeface="宋体"/>
            </a:endParaRPr>
          </a:p>
        </p:txBody>
      </p:sp>
    </p:spTree>
  </p:cSld>
  <p:transition>
    <p:zoom dir="out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395280" y="1557360"/>
            <a:ext cx="792000" cy="316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7a77"/>
            </a:solidFill>
            <a:miter/>
          </a:ln>
          <a:effectLst>
            <a:outerShdw dist="17819" dir="2700000" blurRad="0" rotWithShape="0">
              <a:srgbClr val="66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拓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展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延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Arial"/>
                <a:ea typeface="黑体"/>
              </a:rPr>
              <a:t>伸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1403280" y="836640"/>
            <a:ext cx="7451640" cy="1312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       </a:t>
            </a: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从自身做起，我们应该怎样树立民族自信力呢？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403280" y="2852640"/>
            <a:ext cx="7416720" cy="1922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我们作为中学生，应当扩大知识面，深入了解从古到今具有民族气节的英雄人物事迹，在伟大精神熏陶下塑造心灵，并且不断丰富知识，增长才干等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20" dur="indefinite" restart="never" nodeType="tmRoot">
          <p:childTnLst>
            <p:seq>
              <p:cTn id="821" dur="indefinite" nodeType="mainSeq">
                <p:childTnLst>
                  <p:par>
                    <p:cTn id="822" fill="hold">
                      <p:stCondLst>
                        <p:cond delay="indefinite"/>
                      </p:stCondLst>
                      <p:childTnLst>
                        <p:par>
                          <p:cTn id="823" fill="hold">
                            <p:stCondLst>
                              <p:cond delay="0"/>
                            </p:stCondLst>
                            <p:childTnLst>
                              <p:par>
                                <p:cTn id="82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26" dur="2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7" fill="hold">
                      <p:stCondLst>
                        <p:cond delay="indefinite"/>
                      </p:stCondLst>
                      <p:childTnLst>
                        <p:par>
                          <p:cTn id="828" fill="hold">
                            <p:stCondLst>
                              <p:cond delay="0"/>
                            </p:stCondLst>
                            <p:childTnLst>
                              <p:par>
                                <p:cTn id="82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1" dur="2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fill="hold">
                      <p:stCondLst>
                        <p:cond delay="indefinite"/>
                      </p:stCondLst>
                      <p:childTnLst>
                        <p:par>
                          <p:cTn id="833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6" dur="2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"/>
          <p:cNvSpPr/>
          <p:nvPr/>
        </p:nvSpPr>
        <p:spPr>
          <a:xfrm>
            <a:off x="395280" y="1557360"/>
            <a:ext cx="792000" cy="316872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7a77"/>
            </a:solidFill>
            <a:miter/>
          </a:ln>
          <a:effectLst>
            <a:outerShdw dist="17819" dir="2700000" blurRad="0" rotWithShape="0">
              <a:srgbClr val="66ff33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黑体"/>
              </a:rPr>
              <a:t>处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黑体"/>
              </a:rPr>
              <a:t>理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黑体"/>
              </a:rPr>
              <a:t>习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33cc"/>
                </a:solidFill>
                <a:latin typeface="Arial"/>
                <a:ea typeface="黑体"/>
              </a:rPr>
              <a:t>题</a:t>
            </a:r>
            <a:endParaRPr b="0" lang="en-US" sz="48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332000" y="333360"/>
            <a:ext cx="781200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  <a:ea typeface="楷体_GB2312"/>
              </a:rPr>
              <a:t>辨析“中国人”的含义。（题略）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1589400" y="1267920"/>
            <a:ext cx="610560" cy="43603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①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②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③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④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3333ff"/>
                </a:solidFill>
                <a:latin typeface="Arial"/>
              </a:rPr>
              <a:t>⑤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2340000" y="1254240"/>
            <a:ext cx="62625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指极少数顽固分子以外的中国人民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340000" y="2421000"/>
            <a:ext cx="532908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指广大人民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2340000" y="3213000"/>
            <a:ext cx="604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指国民党反动统治者及其御用文人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2340000" y="4292640"/>
            <a:ext cx="568944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指所有的中国人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2411280" y="5084640"/>
            <a:ext cx="6048360" cy="7034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c0c0c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黑体"/>
              </a:rPr>
              <a:t>指国民党反动统治者及其御用文人。</a:t>
            </a:r>
            <a:endParaRPr b="0" lang="en-US" sz="4000" spc="-1" strike="noStrike">
              <a:solidFill>
                <a:srgbClr val="007a77"/>
              </a:solidFill>
              <a:latin typeface="Times New Roman"/>
            </a:endParaRPr>
          </a:p>
        </p:txBody>
      </p:sp>
    </p:spTree>
  </p:cSld>
  <p:transition>
    <p:zoom dir="out"/>
  </p:transition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indefinite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3" dur="20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8" dur="2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3" dur="2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4" fill="hold">
                      <p:stCondLst>
                        <p:cond delay="indefinite"/>
                      </p:stCondLst>
                      <p:childTnLst>
                        <p:par>
                          <p:cTn id="855" fill="hold">
                            <p:stCondLst>
                              <p:cond delay="0"/>
                            </p:stCondLst>
                            <p:childTnLst>
                              <p:par>
                                <p:cTn id="85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58" dur="2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3" dur="2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4" fill="hold">
                      <p:stCondLst>
                        <p:cond delay="indefinite"/>
                      </p:stCondLst>
                      <p:childTnLst>
                        <p:par>
                          <p:cTn id="865" fill="hold">
                            <p:stCondLst>
                              <p:cond delay="0"/>
                            </p:stCondLst>
                            <p:childTnLst>
                              <p:par>
                                <p:cTn id="8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8" dur="20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3" dur="2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fill="hold">
                      <p:stCondLst>
                        <p:cond delay="indefinite"/>
                      </p:stCondLst>
                      <p:childTnLst>
                        <p:par>
                          <p:cTn id="875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8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250920" y="2421000"/>
            <a:ext cx="38894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200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年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1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月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0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日，世界贸易组织（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WTO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）作出决定，接纳中国加入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WTO,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历经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15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年的奋争与期待，中国终昂首跨入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WTO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大门！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102200" y="0"/>
            <a:ext cx="5041800" cy="659772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228600" y="152280"/>
            <a:ext cx="1303200" cy="2264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71600" y="380880"/>
            <a:ext cx="7543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2002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年，中国上海市获得了２０１０年世界博览会举办权。这将是世博会第一次在发展中国家举行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-4572000" y="835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/>
          <a:stretch/>
        </p:blipFill>
        <p:spPr>
          <a:xfrm>
            <a:off x="5724360" y="1557360"/>
            <a:ext cx="2911680" cy="438156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539640" y="59500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上海市民在南京东路步行街欢庆申博成功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3"/>
          <a:stretch/>
        </p:blipFill>
        <p:spPr>
          <a:xfrm>
            <a:off x="684360" y="2492280"/>
            <a:ext cx="4572000" cy="339588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4"/>
          <a:stretch/>
        </p:blipFill>
        <p:spPr>
          <a:xfrm>
            <a:off x="0" y="333360"/>
            <a:ext cx="1143000" cy="1523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3524400" y="2023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06" name="04" descr=""/>
          <p:cNvPicPr/>
          <p:nvPr/>
        </p:nvPicPr>
        <p:blipFill>
          <a:blip r:embed="rId2"/>
          <a:stretch/>
        </p:blipFill>
        <p:spPr>
          <a:xfrm>
            <a:off x="4788000" y="2286000"/>
            <a:ext cx="3862440" cy="4038480"/>
          </a:xfrm>
          <a:prstGeom prst="rect">
            <a:avLst/>
          </a:prstGeom>
          <a:ln w="0">
            <a:noFill/>
          </a:ln>
        </p:spPr>
      </p:pic>
      <p:sp>
        <p:nvSpPr>
          <p:cNvPr id="107" name=""/>
          <p:cNvSpPr/>
          <p:nvPr/>
        </p:nvSpPr>
        <p:spPr>
          <a:xfrm>
            <a:off x="1219320" y="304920"/>
            <a:ext cx="7696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_x000b__x000c_"/>
              </a:rPr>
              <a:t>         </a:t>
            </a: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2003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年１０月１５日，“神舟”五号载人飞船成功发射，并于１６日安全返回地面。我国成为世界上第三个独立掌握载人航天技术的国家。航天员杨利伟成为中国首位航天英雄。</a:t>
            </a:r>
            <a:endParaRPr b="0" lang="en-US" sz="28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39640" y="2209680"/>
            <a:ext cx="3781440" cy="41911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4"/>
          <a:stretch/>
        </p:blipFill>
        <p:spPr>
          <a:xfrm>
            <a:off x="0" y="0"/>
            <a:ext cx="1257480" cy="12574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2627280" y="304920"/>
            <a:ext cx="5977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         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在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2004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年雅典奥运上，中国代表团以</a:t>
            </a:r>
            <a:r>
              <a:rPr b="1" lang="en-US" sz="3200" spc="-1" strike="noStrike">
                <a:solidFill>
                  <a:srgbClr val="cc0066"/>
                </a:solidFill>
                <a:latin typeface="Times New Roman"/>
              </a:rPr>
              <a:t>32</a:t>
            </a:r>
            <a:r>
              <a:rPr b="1" lang="zh-CN" sz="3200" spc="-1" strike="noStrike">
                <a:solidFill>
                  <a:srgbClr val="cc0066"/>
                </a:solidFill>
                <a:latin typeface="Times New Roman"/>
              </a:rPr>
              <a:t>金的骄人成绩，跻身亚军，直逼美国霸主地位。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2"/>
          <a:stretch/>
        </p:blipFill>
        <p:spPr>
          <a:xfrm>
            <a:off x="0" y="1916280"/>
            <a:ext cx="5029200" cy="3319200"/>
          </a:xfrm>
          <a:prstGeom prst="rect">
            <a:avLst/>
          </a:prstGeom>
          <a:ln w="0">
            <a:noFill/>
          </a:ln>
        </p:spPr>
      </p:pic>
      <p:grpSp>
        <p:nvGrpSpPr>
          <p:cNvPr id="112" name=""/>
          <p:cNvGrpSpPr/>
          <p:nvPr/>
        </p:nvGrpSpPr>
        <p:grpSpPr>
          <a:xfrm>
            <a:off x="2666880" y="2133720"/>
            <a:ext cx="5297760" cy="360"/>
            <a:chOff x="2666880" y="2133720"/>
            <a:chExt cx="5297760" cy="360"/>
          </a:xfrm>
        </p:grpSpPr>
        <p:sp>
          <p:nvSpPr>
            <p:cNvPr id="113" name=""/>
            <p:cNvSpPr/>
            <p:nvPr/>
          </p:nvSpPr>
          <p:spPr>
            <a:xfrm>
              <a:off x="2666880" y="2133720"/>
              <a:ext cx="5297760" cy="360"/>
            </a:xfrm>
            <a:prstGeom prst="rect">
              <a:avLst/>
            </a:prstGeom>
            <a:solidFill>
              <a:srgbClr val="f1f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666880" y="2133720"/>
              <a:ext cx="5297760" cy="360"/>
            </a:xfrm>
            <a:prstGeom prst="rect">
              <a:avLst/>
            </a:prstGeom>
            <a:solidFill>
              <a:srgbClr val="f1f3f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7a77"/>
                </a:solidFill>
                <a:latin typeface="Times New Roman"/>
              </a:endParaRPr>
            </a:p>
          </p:txBody>
        </p:sp>
      </p:grpSp>
      <p:sp>
        <p:nvSpPr>
          <p:cNvPr id="115" name=""/>
          <p:cNvSpPr/>
          <p:nvPr/>
        </p:nvSpPr>
        <p:spPr>
          <a:xfrm>
            <a:off x="0" y="5516640"/>
            <a:ext cx="518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7a77"/>
                </a:solidFill>
                <a:latin typeface="Times New Roman"/>
              </a:rPr>
              <a:t>中国女排获得雅典奥运金牌再创辉煌</a:t>
            </a:r>
            <a:endParaRPr b="0" lang="en-US" sz="32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80000" y="5157720"/>
            <a:ext cx="3200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       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刘翔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获得的男子</a:t>
            </a:r>
            <a:r>
              <a:rPr b="1" lang="en-US" sz="2400" spc="-1" strike="noStrike">
                <a:solidFill>
                  <a:srgbClr val="007a77"/>
                </a:solidFill>
                <a:latin typeface="Times New Roman"/>
              </a:rPr>
              <a:t>110</a:t>
            </a:r>
            <a:r>
              <a:rPr b="1" lang="zh-CN" sz="2400" spc="-1" strike="noStrike">
                <a:solidFill>
                  <a:srgbClr val="007a77"/>
                </a:solidFill>
                <a:latin typeface="Times New Roman"/>
              </a:rPr>
              <a:t>米栏金牌是中国男选手在奥运会上夺得的第一枚田径金牌。</a:t>
            </a:r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867280" y="3430080"/>
            <a:ext cx="675972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7a77"/>
              </a:solidFill>
              <a:latin typeface="Times New Roman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3"/>
          <a:stretch/>
        </p:blipFill>
        <p:spPr>
          <a:xfrm>
            <a:off x="5651640" y="1916280"/>
            <a:ext cx="2971800" cy="304776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0" y="333360"/>
            <a:ext cx="1800360" cy="1351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155520" y="46080"/>
            <a:ext cx="4286160" cy="37814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3"/>
          <a:stretch/>
        </p:blipFill>
        <p:spPr>
          <a:xfrm>
            <a:off x="4500720" y="0"/>
            <a:ext cx="4286160" cy="285768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4"/>
          <a:stretch/>
        </p:blipFill>
        <p:spPr>
          <a:xfrm>
            <a:off x="0" y="4000680"/>
            <a:ext cx="4286160" cy="2857320"/>
          </a:xfrm>
          <a:prstGeom prst="rect">
            <a:avLst/>
          </a:prstGeom>
          <a:ln w="0">
            <a:noFill/>
          </a:ln>
        </p:spPr>
      </p:pic>
      <p:pic>
        <p:nvPicPr>
          <p:cNvPr id="123" name="" descr=""/>
          <p:cNvPicPr/>
          <p:nvPr/>
        </p:nvPicPr>
        <p:blipFill>
          <a:blip r:embed="rId5"/>
          <a:stretch/>
        </p:blipFill>
        <p:spPr>
          <a:xfrm>
            <a:off x="4716360" y="3048120"/>
            <a:ext cx="3888000" cy="38098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" descr=""/>
          <p:cNvPicPr/>
          <p:nvPr/>
        </p:nvPicPr>
        <p:blipFill>
          <a:blip r:embed="rId2"/>
          <a:stretch/>
        </p:blipFill>
        <p:spPr>
          <a:xfrm>
            <a:off x="0" y="260280"/>
            <a:ext cx="4038480" cy="3527640"/>
          </a:xfrm>
          <a:prstGeom prst="rect">
            <a:avLst/>
          </a:prstGeom>
          <a:ln w="0">
            <a:noFill/>
          </a:ln>
        </p:spPr>
      </p:pic>
      <p:pic>
        <p:nvPicPr>
          <p:cNvPr id="125" name="" descr=""/>
          <p:cNvPicPr/>
          <p:nvPr/>
        </p:nvPicPr>
        <p:blipFill>
          <a:blip r:embed="rId3"/>
          <a:stretch/>
        </p:blipFill>
        <p:spPr>
          <a:xfrm>
            <a:off x="4572000" y="3257640"/>
            <a:ext cx="4572000" cy="3600360"/>
          </a:xfrm>
          <a:prstGeom prst="rect">
            <a:avLst/>
          </a:prstGeom>
          <a:ln w="0">
            <a:noFill/>
          </a:ln>
        </p:spPr>
      </p:pic>
      <p:pic>
        <p:nvPicPr>
          <p:cNvPr id="126" name="" descr=""/>
          <p:cNvPicPr/>
          <p:nvPr/>
        </p:nvPicPr>
        <p:blipFill>
          <a:blip r:embed="rId4"/>
          <a:stretch/>
        </p:blipFill>
        <p:spPr>
          <a:xfrm>
            <a:off x="0" y="3933720"/>
            <a:ext cx="4067280" cy="292428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tretch/>
        </p:blipFill>
        <p:spPr>
          <a:xfrm>
            <a:off x="4427640" y="0"/>
            <a:ext cx="4716360" cy="2924280"/>
          </a:xfrm>
          <a:prstGeom prst="rect">
            <a:avLst/>
          </a:prstGeom>
          <a:ln w="0">
            <a:noFill/>
          </a:ln>
        </p:spPr>
      </p:pic>
    </p:spTree>
  </p:cSld>
  <p:transition advTm="2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0-25T02:51:42Z</dcterms:created>
  <dc:creator>龙渊生</dc:creator>
  <dc:description/>
  <dc:language>en-US</dc:language>
  <cp:lastModifiedBy>user</cp:lastModifiedBy>
  <dcterms:modified xsi:type="dcterms:W3CDTF">2006-01-13T04:15:30Z</dcterms:modified>
  <cp:revision>47</cp:revision>
  <dc:subject/>
  <dc:title>中国人失掉自信力了吗</dc:title>
</cp:coreProperties>
</file>