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BB6B-92DB-4618-BC77-1BFB77BE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5554-EC04-47B2-AEAE-F38C520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21F6-D7D2-49AC-9A21-8D6F4664D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36D8-8D89-4620-A135-9AEDC715E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50332-0590-404B-BB22-E4C4A94B2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7F591-F06D-4593-9495-979261265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C472-7B98-4AA6-892F-5EBB7955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9B7F-5652-440C-8438-31B362CA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ED48-2962-493E-A300-72F62723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5D3D7-8799-46DC-BDB9-BB9CDB90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EB12-A966-4367-AADE-19288965D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CF07-12F6-4A3F-9430-550B9C0E8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47F-8D7C-4C9C-B0D9-D3D02F626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36F1E-0295-4D05-B034-C3F86008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14A36-D112-41FA-B80D-99ADC10A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FE101-3D13-4089-934A-1AEBA91C0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CCFB-5488-4279-A8C8-8B5DE9685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62FB-C30D-4363-9E4E-B1B3AD18C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E4B5-A5F1-4209-8430-DAA0A4595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CA9E-5FCC-4994-8888-F7DF9006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0253-5C68-459B-BE89-33F74179E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DEB-2B12-4216-A837-4767CD45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F84E4-9D94-4304-AB61-7C192806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C68F-3690-411E-A835-CB8F82C1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14FD0-A3E1-4149-B5FB-486311CD850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28782-1451-4695-B38B-55C0B6615408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2000"/>
                            </p:stCondLst>
                            <p:childTnLst>
                              <p:par>
                                <p:cTn id="27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1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1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6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8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0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5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7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2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6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1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500"/>
                            </p:stCondLst>
                            <p:childTnLst>
                              <p:par>
                                <p:cTn id="5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500"/>
                            </p:stCondLst>
                            <p:childTnLst>
                              <p:par>
                                <p:cTn id="5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500"/>
                            </p:stCondLst>
                            <p:childTnLst>
                              <p:par>
                                <p:cTn id="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50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500"/>
                            </p:stCondLst>
                            <p:childTnLst>
                              <p:par>
                                <p:cTn id="6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0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000"/>
                            </p:stCondLst>
                            <p:childTnLst>
                              <p:par>
                                <p:cTn id="6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4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500"/>
                            </p:stCondLst>
                            <p:childTnLst>
                              <p:par>
                                <p:cTn id="6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500"/>
                            </p:stCondLst>
                            <p:childTnLst>
                              <p:par>
                                <p:cTn id="7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1000"/>
                            </p:stCondLst>
                            <p:childTnLst>
                              <p:par>
                                <p:cTn id="7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6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500"/>
                            </p:stCondLst>
                            <p:childTnLst>
                              <p:par>
                                <p:cTn id="7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5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0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500"/>
                            </p:stCondLst>
                            <p:childTnLst>
                              <p:par>
                                <p:cTn id="7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00"/>
                            </p:stCondLst>
                            <p:childTnLst>
                              <p:par>
                                <p:cTn id="7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500"/>
                            </p:stCondLst>
                            <p:childTnLst>
                              <p:par>
                                <p:cTn id="755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7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2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500"/>
                            </p:stCondLst>
                            <p:childTnLst>
                              <p:par>
                                <p:cTn id="7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500"/>
                            </p:stCondLst>
                            <p:childTnLst>
                              <p:par>
                                <p:cTn id="7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9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5" fill="hold">
                            <p:stCondLst>
                              <p:cond delay="500"/>
                            </p:stCondLst>
                            <p:childTnLst>
                              <p:par>
                                <p:cTn id="8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"/>
                            </p:stCondLst>
                            <p:childTnLst>
                              <p:par>
                                <p:cTn id="82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500"/>
                            </p:stCondLst>
                            <p:childTnLst>
                              <p:par>
                                <p:cTn id="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5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5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0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5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5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