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whoosh.wav" ContentType="audio/x-wav"/>
  <Override PartName="/ppt/media/image12.jpeg" ContentType="image/jpeg"/>
  <Override PartName="/ppt/media/image7.jpeg" ContentType="image/jpeg"/>
  <Override PartName="/ppt/media/camera.wav" ContentType="audio/x-wav"/>
  <Override PartName="/ppt/media/image21.jpeg" ContentType="image/jpeg"/>
  <Override PartName="/ppt/media/image6.jpeg" ContentType="image/jpeg"/>
  <Override PartName="/ppt/media/image5.jpeg" ContentType="image/jpeg"/>
  <Override PartName="/ppt/media/image20.jpeg" ContentType="image/jpeg"/>
  <Override PartName="/ppt/media/image15.jpeg" ContentType="image/jpeg"/>
  <Override PartName="/ppt/media/type.wav" ContentType="audio/x-wav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3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F3D4E-E03E-4D2A-B6A8-19694EC4E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47B69-A8C4-47DB-B38A-C7BE076A0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52F47-A28F-44DB-BCC0-3479DF8E1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9C70D-E4A7-4299-8E6C-DEAE418C8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02A17-0AB2-425C-AB29-C58D1C833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28B9B-4858-4507-B149-1871ABBC7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02F0F-FF5F-4D85-97AC-6F7584AD7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DF8D3-0F03-4780-B00E-BD6536542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40B96-F9DD-46D8-9BB6-ADA26B9F3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B3180-11FA-4ABB-9522-5B985B1CD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06884-00AE-4CA2-98A1-4BB2992B3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DB389-D179-4A32-B05E-7D854650A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EB0E8-3582-400C-9CD4-D5A530554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EEE34-D41F-43CA-B7D1-3BB1CE164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D917F-4F9B-41BA-A7E4-685E1EA93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5DFB4-CBCF-4312-B43D-F3709AC91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8BD3D-98A9-4094-8825-511643273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DE718-3A46-4803-A6A5-59FF8CFC6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8B08C-F578-463F-9F6E-154434926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0930F-082F-4AFF-98BC-7C6D95044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FB72D-5B80-4B21-993B-7B1FD79BC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73F92-AE30-4C1A-966C-CA87C4A05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89E19-20CD-4106-B57B-BD1F4054D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0A75A-68F3-4F4B-9BB8-EF7A24D1E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6019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cc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1DA85-3850-4471-8249-6DBA48CCDDF1}" type="slidenum">
              <a:rPr b="0" lang="zh-CN" sz="1400" spc="-1" strike="noStrike">
                <a:solidFill>
                  <a:srgbClr val="ffcc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5943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r>
              <a:rPr b="0" lang="zh-CN" sz="1400" spc="-1" strike="noStrike">
                <a:solidFill>
                  <a:srgbClr val="ffcc00"/>
                </a:solidFill>
                <a:latin typeface="Tahoma"/>
              </a:rPr>
              <a:t>外国印象主义绘画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30208-37E5-4ED3-9015-E130274CE735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905120" y="2209680"/>
            <a:ext cx="5181480" cy="35244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05120" y="380880"/>
            <a:ext cx="62481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00"/>
                </a:solidFill>
                <a:latin typeface="华文新魏"/>
                <a:ea typeface="华文新魏"/>
              </a:rPr>
              <a:t>抒情与分析—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00"/>
                </a:solidFill>
                <a:latin typeface="华文新魏"/>
                <a:ea typeface="华文新魏"/>
              </a:rPr>
              <a:t>             </a:t>
            </a:r>
            <a:r>
              <a:rPr b="1" lang="zh-CN" sz="3600" spc="-1" strike="noStrike">
                <a:solidFill>
                  <a:srgbClr val="ffcc00"/>
                </a:solidFill>
                <a:latin typeface="华文新魏"/>
                <a:ea typeface="华文新魏"/>
              </a:rPr>
              <a:t>外国印象主义绘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8458200" y="1523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7929000" y="2743200"/>
            <a:ext cx="60696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Tahoma"/>
              </a:rPr>
              <a:t>《 日出  印象 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85800" y="586728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克劳德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.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莫奈  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48CM*63CM  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巴黎马蒙达博物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外国印象主义绘画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C011D-14FC-4695-8649-1750C43ECB2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219320" y="2124000"/>
            <a:ext cx="3112920" cy="435312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5029200" y="2438280"/>
            <a:ext cx="380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ddddd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dddddd"/>
                </a:solidFill>
                <a:latin typeface="宋体"/>
              </a:rPr>
              <a:t>画家以她的舞姿为媒介，刻意追寻光与色的表现。通过对舞者的造型的描绘，表现出强烈的灯光反射的效果。舞台上的布景与绿色的地毯，使舞者显得虚无缥缈，绚丽变幻，成为一个美的世界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181480" y="380880"/>
            <a:ext cx="3353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715000" y="484200"/>
            <a:ext cx="289548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爱德加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·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德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60CM*44C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巴黎 奥赛博物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218960" y="609120"/>
            <a:ext cx="43354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ddddd"/>
                </a:solidFill>
                <a:latin typeface="Tahoma"/>
              </a:rPr>
              <a:t>《舞台上的舞女》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外国印象主义绘画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B4D48-C939-4AE0-9005-4E3742EEF9F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447920" y="990720"/>
            <a:ext cx="5021280" cy="12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0c0c0"/>
                </a:solidFill>
                <a:latin typeface="Tahoma"/>
              </a:rPr>
              <a:t>奥古斯特</a:t>
            </a:r>
            <a:r>
              <a:rPr b="1" lang="zh-CN" sz="4400" spc="-1" strike="noStrike">
                <a:solidFill>
                  <a:srgbClr val="c0c0c0"/>
                </a:solidFill>
                <a:latin typeface="Tahoma"/>
              </a:rPr>
              <a:t>·</a:t>
            </a:r>
            <a:r>
              <a:rPr b="1" lang="zh-CN" sz="4400" spc="-1" strike="noStrike">
                <a:solidFill>
                  <a:srgbClr val="c0c0c0"/>
                </a:solidFill>
                <a:latin typeface="Tahoma"/>
              </a:rPr>
              <a:t>雷诺阿</a:t>
            </a: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6934320" y="304920"/>
            <a:ext cx="1855800" cy="236988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304920" y="3048120"/>
            <a:ext cx="883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雷诺阿是法国画家，最初与印象画派运动联系密切。他的早期作品是典型的记录真实生活的印象派作品，充满了夺目的光彩。然而到了（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18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世纪）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80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年代中期，他从印象派运动中分裂出来，转向在人像画及肖像画，特别是妇女肖像画中去发挥自己更加严谨和正规的绘画技法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外国印象主义绘画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0AFE9-06B5-4028-B5F6-5137AA64895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514600" y="533160"/>
            <a:ext cx="2743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00"/>
                </a:solidFill>
                <a:latin typeface="华文新魏"/>
                <a:ea typeface="华文新魏"/>
              </a:rPr>
              <a:t>《包厢》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"/>
          <p:cNvSpPr/>
          <p:nvPr/>
        </p:nvSpPr>
        <p:spPr>
          <a:xfrm>
            <a:off x="5943600" y="1143000"/>
            <a:ext cx="32004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80CM*63C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伦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科陶德学院美术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2057400" y="1905120"/>
            <a:ext cx="3521160" cy="4724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外国印象主义绘画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4AD8F-B44B-4D94-83BA-7A3A5B598A3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52280" y="71280"/>
            <a:ext cx="8991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《包厢》是雷诺阿正式参加印象派美展的第一次参展作品之一。这幅画根据他在剧院里所得的“印象”，回到画室里请人摆模特儿画成的。他成功地画出了剧院一角的气氛。尤其是画面上两个人物的神情，丝毫没有摆姿势的痕迹，他们似乎全神贯注地在观剧，陶醉在此时此刻的舞台演出中。这幅图版，只突出包厢里那个贵妇人的形象。由于雷诺阿渲染了色彩氛围，使观者从中能感受到剧场观众的气氛。贵妇人那张化了妆的脸容与后面那个男绅士，形成鲜明的对比度。《包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000000000000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厢》的色彩基调是暖色。它由玫瑰、黑、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000000000000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白三色组成。贵妇人身上的黑条纹衣服异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000000000000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常显目。运用黑色，在印印象派画家中本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000000000000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来是犯忌的，因为外光很难体现纯黑。可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000000000000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能雷诺阿是用小笔触，逐步地添上去的，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000000000000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所以丝毫无斧凿的生硬感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6705720" y="3657600"/>
            <a:ext cx="2212920" cy="2971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外国印象主义绘画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1A84B-BDE6-48F8-AED6-C3FB0372E70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676520" y="685800"/>
            <a:ext cx="44877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00"/>
                </a:solidFill>
                <a:latin typeface="Tahoma"/>
                <a:ea typeface="华文新魏"/>
              </a:rPr>
              <a:t>新印象派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"/>
          <p:cNvSpPr/>
          <p:nvPr/>
        </p:nvSpPr>
        <p:spPr>
          <a:xfrm>
            <a:off x="152280" y="2895480"/>
            <a:ext cx="8763120" cy="27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宋体"/>
              </a:rPr>
              <a:t>    “</a:t>
            </a:r>
            <a:r>
              <a:rPr b="1" lang="zh-CN" sz="3200" spc="-1" strike="noStrike">
                <a:solidFill>
                  <a:srgbClr val="ffcc00"/>
                </a:solidFill>
                <a:latin typeface="宋体"/>
              </a:rPr>
              <a:t>新印象派”的绘画</a:t>
            </a:r>
            <a:r>
              <a:rPr b="1" lang="zh-CN" sz="3200" spc="-1" strike="noStrike">
                <a:solidFill>
                  <a:srgbClr val="ffcc00"/>
                </a:solidFill>
                <a:latin typeface="宋体"/>
              </a:rPr>
              <a:t>,</a:t>
            </a:r>
            <a:r>
              <a:rPr b="1" lang="zh-CN" sz="3200" spc="-1" strike="noStrike">
                <a:solidFill>
                  <a:srgbClr val="ffcc00"/>
                </a:solidFill>
                <a:latin typeface="宋体"/>
              </a:rPr>
              <a:t>因为重色彩的理性分析与科学原则</a:t>
            </a:r>
            <a:r>
              <a:rPr b="1" lang="zh-CN" sz="3200" spc="-1" strike="noStrike">
                <a:solidFill>
                  <a:srgbClr val="ffcc00"/>
                </a:solidFill>
                <a:latin typeface="宋体"/>
              </a:rPr>
              <a:t>,</a:t>
            </a:r>
            <a:r>
              <a:rPr b="1" lang="zh-CN" sz="3200" spc="-1" strike="noStrike">
                <a:solidFill>
                  <a:srgbClr val="ffcc00"/>
                </a:solidFill>
                <a:latin typeface="宋体"/>
              </a:rPr>
              <a:t>因而往往给人以冷漠和静止的感觉</a:t>
            </a:r>
            <a:r>
              <a:rPr b="1" lang="zh-CN" sz="3200" spc="-1" strike="noStrike">
                <a:solidFill>
                  <a:srgbClr val="ffcc00"/>
                </a:solidFill>
                <a:latin typeface="宋体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ffcc00"/>
                </a:solidFill>
                <a:latin typeface="宋体"/>
              </a:rPr>
              <a:t>主要人物</a:t>
            </a:r>
            <a:r>
              <a:rPr b="1" lang="zh-CN" sz="3200" spc="-1" strike="noStrike">
                <a:solidFill>
                  <a:srgbClr val="3333ff"/>
                </a:solidFill>
                <a:latin typeface="宋体"/>
              </a:rPr>
              <a:t>乔治</a:t>
            </a:r>
            <a:r>
              <a:rPr b="1" lang="zh-CN" sz="3200" spc="-1" strike="noStrike">
                <a:solidFill>
                  <a:srgbClr val="3333ff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3333ff"/>
                </a:solidFill>
                <a:latin typeface="宋体"/>
              </a:rPr>
              <a:t>修拉</a:t>
            </a:r>
            <a:r>
              <a:rPr b="1" lang="zh-CN" sz="3200" spc="-1" strike="noStrike">
                <a:solidFill>
                  <a:srgbClr val="ffcc00"/>
                </a:solidFill>
                <a:latin typeface="宋体"/>
              </a:rPr>
              <a:t>修拉是新型艺术家兼科学家。对二十世纪几何抽象艺术有很大的影响</a:t>
            </a:r>
            <a:r>
              <a:rPr b="1" lang="zh-CN" sz="3200" spc="-1" strike="noStrike">
                <a:solidFill>
                  <a:srgbClr val="ffcc00"/>
                </a:solidFill>
                <a:latin typeface="宋体"/>
              </a:rPr>
              <a:t>,</a:t>
            </a:r>
            <a:r>
              <a:rPr b="1" lang="zh-CN" sz="3200" spc="-1" strike="noStrike">
                <a:solidFill>
                  <a:srgbClr val="ffcc00"/>
                </a:solidFill>
                <a:latin typeface="宋体"/>
              </a:rPr>
              <a:t>他对色彩的专门研究，使得他的作品层次分明，而他自己也成为新印象画派</a:t>
            </a:r>
            <a:r>
              <a:rPr b="1" lang="zh-CN" sz="3200" spc="-1" strike="noStrike">
                <a:solidFill>
                  <a:srgbClr val="ffcc00"/>
                </a:solidFill>
                <a:latin typeface="宋体"/>
              </a:rPr>
              <a:t>"</a:t>
            </a:r>
            <a:r>
              <a:rPr b="1" lang="zh-CN" sz="3200" spc="-1" strike="noStrike">
                <a:solidFill>
                  <a:srgbClr val="ffcc00"/>
                </a:solidFill>
                <a:latin typeface="宋体"/>
              </a:rPr>
              <a:t>点彩派</a:t>
            </a:r>
            <a:r>
              <a:rPr b="1" lang="zh-CN" sz="3200" spc="-1" strike="noStrike">
                <a:solidFill>
                  <a:srgbClr val="ffcc00"/>
                </a:solidFill>
                <a:latin typeface="宋体"/>
              </a:rPr>
              <a:t>"</a:t>
            </a:r>
            <a:r>
              <a:rPr b="1" lang="zh-CN" sz="3200" spc="-1" strike="noStrike">
                <a:solidFill>
                  <a:srgbClr val="ffcc00"/>
                </a:solidFill>
                <a:latin typeface="宋体"/>
              </a:rPr>
              <a:t>的代表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6875640" y="304920"/>
            <a:ext cx="1873080" cy="2438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外国印象主义绘画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AF550-7BC0-4AF7-88E3-D101D9A79FA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75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75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304920" y="2360520"/>
            <a:ext cx="6172200" cy="404028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752120" y="609120"/>
            <a:ext cx="4953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华文新魏"/>
                <a:ea typeface="华文新魏"/>
              </a:rPr>
              <a:t>《大碗岛星期日的下午》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6" name=""/>
          <p:cNvSpPr/>
          <p:nvPr/>
        </p:nvSpPr>
        <p:spPr>
          <a:xfrm>
            <a:off x="6172200" y="457200"/>
            <a:ext cx="29718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乔治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.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修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207CM*308C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芝加哥美术学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7010280" y="3657600"/>
            <a:ext cx="1791000" cy="1523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外国印象主义绘画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19915-0DB5-474F-B13B-BF85641C5D5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" dur="75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380880" y="304920"/>
            <a:ext cx="861084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    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修拉为了制作《大碗岛星期日的下午》整整花费了两年的时间。他每天早上到海边写生，下午回到画室里研究构图和色彩。为了摄取正确而且逼真的写实效果，他还对当时流行的服饰和发型等进行了深入的研究。比如为了真切表现画面前景一个妇人用鲸骨支撑而高高隆起的裙子，他曾经买来同样的实物拆开来观察，作了大量的黑白写生和笔记。据统计，为创作“大碗岛星期日的下午”一画，修拉共制作了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400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幅素描稿和颜色效果图。在画面中，共有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40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个人物，每一个形象都是画家经过千锤百炼概括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成。他们好象彼此毫无关系地被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摆放在一起，但画面上却洋溢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一种宁静而幽雅的秩序美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5715000" y="4572000"/>
            <a:ext cx="2984400" cy="1952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外国印象主义绘画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B3272-58B7-4269-A7CE-3C081969628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838080" y="2133720"/>
            <a:ext cx="7162920" cy="27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ff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3366ff"/>
                </a:solidFill>
                <a:latin typeface="宋体"/>
              </a:rPr>
              <a:t>法国美术史上继印象主义之后的美术现象，存在于</a:t>
            </a:r>
            <a:r>
              <a:rPr b="1" lang="zh-CN" sz="3200" spc="-1" strike="noStrike">
                <a:solidFill>
                  <a:srgbClr val="3366ff"/>
                </a:solidFill>
                <a:latin typeface="宋体"/>
              </a:rPr>
              <a:t>19</a:t>
            </a:r>
            <a:r>
              <a:rPr b="1" lang="zh-CN" sz="3200" spc="-1" strike="noStrike">
                <a:solidFill>
                  <a:srgbClr val="3366ff"/>
                </a:solidFill>
                <a:latin typeface="宋体"/>
              </a:rPr>
              <a:t>世纪</a:t>
            </a:r>
            <a:r>
              <a:rPr b="1" lang="zh-CN" sz="3200" spc="-1" strike="noStrike">
                <a:solidFill>
                  <a:srgbClr val="3366ff"/>
                </a:solidFill>
                <a:latin typeface="宋体"/>
              </a:rPr>
              <a:t>80</a:t>
            </a:r>
            <a:r>
              <a:rPr b="1" lang="zh-CN" sz="3200" spc="-1" strike="noStrike">
                <a:solidFill>
                  <a:srgbClr val="3366ff"/>
                </a:solidFill>
                <a:latin typeface="宋体"/>
              </a:rPr>
              <a:t>～</a:t>
            </a:r>
            <a:r>
              <a:rPr b="1" lang="zh-CN" sz="3200" spc="-1" strike="noStrike">
                <a:solidFill>
                  <a:srgbClr val="3366ff"/>
                </a:solidFill>
                <a:latin typeface="宋体"/>
              </a:rPr>
              <a:t>90</a:t>
            </a:r>
            <a:r>
              <a:rPr b="1" lang="zh-CN" sz="3200" spc="-1" strike="noStrike">
                <a:solidFill>
                  <a:srgbClr val="3366ff"/>
                </a:solidFill>
                <a:latin typeface="宋体"/>
              </a:rPr>
              <a:t>年代</a:t>
            </a:r>
            <a:r>
              <a:rPr b="1" lang="zh-CN" sz="3200" spc="-1" strike="noStrike">
                <a:solidFill>
                  <a:srgbClr val="3366ff"/>
                </a:solidFill>
                <a:latin typeface="宋体"/>
              </a:rPr>
              <a:t>,</a:t>
            </a:r>
            <a:r>
              <a:rPr b="1" lang="zh-CN" sz="3200" spc="-1" strike="noStrike">
                <a:solidFill>
                  <a:srgbClr val="3366ff"/>
                </a:solidFill>
                <a:latin typeface="宋体"/>
              </a:rPr>
              <a:t>当时受外来绘画的影响和科学艺术的发展</a:t>
            </a:r>
            <a:r>
              <a:rPr b="1" lang="zh-CN" sz="3200" spc="-1" strike="noStrike">
                <a:solidFill>
                  <a:srgbClr val="3366ff"/>
                </a:solidFill>
                <a:latin typeface="宋体"/>
              </a:rPr>
              <a:t>,</a:t>
            </a:r>
            <a:r>
              <a:rPr b="1" lang="zh-CN" sz="3200" spc="-1" strike="noStrike">
                <a:solidFill>
                  <a:srgbClr val="3366ff"/>
                </a:solidFill>
                <a:latin typeface="宋体"/>
              </a:rPr>
              <a:t>他们吸收了东方艺术中的含蓄深长的意味并且也变得相对复杂</a:t>
            </a:r>
            <a:r>
              <a:rPr b="1" lang="zh-CN" sz="3200" spc="-1" strike="noStrike">
                <a:solidFill>
                  <a:srgbClr val="3366ff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3366ff"/>
                </a:solidFill>
                <a:latin typeface="宋体"/>
              </a:rPr>
              <a:t>曾译成“后印象派”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ff"/>
                </a:solidFill>
                <a:latin typeface="宋体"/>
              </a:rPr>
              <a:t>   </a:t>
            </a:r>
            <a:r>
              <a:rPr b="1" lang="zh-CN" sz="3200" spc="-1" strike="noStrike">
                <a:solidFill>
                  <a:srgbClr val="3366ff"/>
                </a:solidFill>
                <a:latin typeface="宋体"/>
              </a:rPr>
              <a:t>一般被称作后印象主义的画家是</a:t>
            </a:r>
            <a:r>
              <a:rPr b="1" lang="zh-CN" sz="3200" spc="-1" strike="noStrike">
                <a:solidFill>
                  <a:srgbClr val="ffcc00"/>
                </a:solidFill>
                <a:latin typeface="宋体"/>
              </a:rPr>
              <a:t>塞尚</a:t>
            </a:r>
            <a:r>
              <a:rPr b="1" lang="zh-CN" sz="3200" spc="-1" strike="noStrike">
                <a:solidFill>
                  <a:srgbClr val="3366ff"/>
                </a:solidFill>
                <a:latin typeface="宋体"/>
              </a:rPr>
              <a:t>、</a:t>
            </a:r>
            <a:r>
              <a:rPr b="1" lang="zh-CN" sz="3200" spc="-1" strike="noStrike">
                <a:solidFill>
                  <a:srgbClr val="ffcc00"/>
                </a:solidFill>
                <a:latin typeface="宋体"/>
              </a:rPr>
              <a:t>凡高</a:t>
            </a:r>
            <a:r>
              <a:rPr b="1" lang="zh-CN" sz="3200" spc="-1" strike="noStrike">
                <a:solidFill>
                  <a:srgbClr val="3366ff"/>
                </a:solidFill>
                <a:latin typeface="宋体"/>
              </a:rPr>
              <a:t>和</a:t>
            </a:r>
            <a:r>
              <a:rPr b="1" lang="zh-CN" sz="3200" spc="-1" strike="noStrike">
                <a:solidFill>
                  <a:srgbClr val="3366ff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ffcc00"/>
                </a:solidFill>
                <a:latin typeface="宋体"/>
              </a:rPr>
              <a:t>高更</a:t>
            </a:r>
            <a:r>
              <a:rPr b="1" lang="zh-CN" sz="3200" spc="-1" strike="noStrike">
                <a:solidFill>
                  <a:srgbClr val="3366ff"/>
                </a:solidFill>
                <a:latin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676520" y="762120"/>
            <a:ext cx="5410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ff"/>
                </a:solidFill>
                <a:latin typeface="Tahoma"/>
              </a:rPr>
              <a:t>后印象派</a:t>
            </a:r>
            <a:r>
              <a:rPr b="0" lang="zh-CN" sz="4400" spc="-1" strike="noStrike">
                <a:solidFill>
                  <a:srgbClr val="3333ff"/>
                </a:solidFill>
                <a:latin typeface="Tahoma"/>
                <a:ea typeface="华文新魏"/>
              </a:rPr>
              <a:t>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外国印象主义绘画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843B4-0987-4972-8837-1EEC28B51A8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75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75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75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75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47560" y="685440"/>
            <a:ext cx="5257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华文新魏"/>
                <a:ea typeface="华文新魏"/>
              </a:rPr>
              <a:t>保罗</a:t>
            </a:r>
            <a:r>
              <a:rPr b="1" lang="zh-CN" sz="3600" spc="-1" strike="noStrike">
                <a:solidFill>
                  <a:srgbClr val="3333ff"/>
                </a:solidFill>
                <a:latin typeface="华文新魏"/>
                <a:ea typeface="华文新魏"/>
              </a:rPr>
              <a:t>·</a:t>
            </a:r>
            <a:r>
              <a:rPr b="1" lang="zh-CN" sz="3600" spc="-1" strike="noStrike">
                <a:solidFill>
                  <a:srgbClr val="3333ff"/>
                </a:solidFill>
                <a:latin typeface="华文新魏"/>
                <a:ea typeface="华文新魏"/>
              </a:rPr>
              <a:t>塞尚 </a:t>
            </a:r>
            <a:r>
              <a:rPr b="1" lang="zh-CN" sz="3600" spc="-1" strike="noStrike">
                <a:solidFill>
                  <a:srgbClr val="3333ff"/>
                </a:solidFill>
                <a:latin typeface="华文新魏"/>
                <a:ea typeface="华文新魏"/>
              </a:rPr>
              <a:t>(1839-1906)</a:t>
            </a:r>
            <a:r>
              <a:rPr b="0" lang="zh-CN" sz="3600" spc="-1" strike="noStrike">
                <a:solidFill>
                  <a:srgbClr val="3333ff"/>
                </a:solidFill>
                <a:latin typeface="华文新魏"/>
                <a:ea typeface="华文新魏"/>
              </a:rPr>
              <a:t> </a:t>
            </a:r>
            <a:r>
              <a:rPr b="0" lang="zh-CN" sz="3600" spc="-1" strike="noStrike">
                <a:solidFill>
                  <a:srgbClr val="3333ff"/>
                </a:solidFill>
                <a:latin typeface="华文新魏"/>
                <a:ea typeface="华文新魏"/>
              </a:rPr>
              <a:t>　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7257960" y="228600"/>
            <a:ext cx="1657440" cy="220968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228600" y="2479680"/>
            <a:ext cx="868680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毕生追求表现形式，对运用色彩、造型有新的创造，被称为“现代绘画之父”。</a:t>
            </a:r>
            <a:br>
              <a:rPr sz="2800"/>
            </a:b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　　在可以被当成二十世纪探索绘画先知的十九世纪画家中，从成就和影响来说，最有意义的乃是塞尚。被称为“现代绘画之父”。他是一个很少为人理解的孤独者。他终生奋斗不息，为用颜料来表现他的艺术本质的观念而斗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塞尚在他的作品中，所寻找的就是真实，即绘画的真实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外国印象主义绘画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8C346-55DC-4BFC-9ADB-732FE7FBAAF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1828800" y="2362320"/>
            <a:ext cx="5181480" cy="4043160"/>
          </a:xfrm>
          <a:prstGeom prst="rect">
            <a:avLst/>
          </a:prstGeom>
          <a:ln w="0">
            <a:noFill/>
          </a:ln>
        </p:spPr>
      </p:pic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47920" y="457200"/>
            <a:ext cx="540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华文新魏"/>
                <a:ea typeface="华文新魏"/>
              </a:rPr>
              <a:t>《</a:t>
            </a:r>
            <a:r>
              <a:rPr b="0" lang="zh-CN" sz="4400" spc="-1" strike="noStrike">
                <a:solidFill>
                  <a:srgbClr val="3333ff"/>
                </a:solidFill>
                <a:latin typeface="Tahoma"/>
              </a:rPr>
              <a:t>一蓝苹果</a:t>
            </a:r>
            <a:r>
              <a:rPr b="1" lang="zh-CN" sz="3200" spc="-1" strike="noStrike">
                <a:solidFill>
                  <a:srgbClr val="3333ff"/>
                </a:solidFill>
                <a:latin typeface="华文新魏"/>
                <a:ea typeface="华文新魏"/>
              </a:rPr>
              <a:t>》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6172200" y="457200"/>
            <a:ext cx="29718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保罗</a:t>
            </a: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.</a:t>
            </a: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塞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65CM*81C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芝加哥美术学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外国印象主义绘画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7DCF9-4D0E-4DD9-B938-DA16FF7B3E8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75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75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75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75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75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75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04920" y="2971800"/>
            <a:ext cx="883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这是莫奈描绘法国勒阿弗尔港口一个多雾早晨的景象：海水被晨曦染成淡紫色，天空被各种色块晕染成微红，水的波浪由厚薄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.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长短不一的笔触绘就，三只摇动的小船在色点中显得朦胧模糊，船上人影依稀可辩，远出工厂烟囱，大船上的吊车若隐若现，画家把这一印象收入在画布上，如此大胆的用凌乱的笔触来展示雾气交融的景象，是史无前例的，震撼了画坛。被作为</a:t>
            </a:r>
            <a:r>
              <a:rPr b="1" lang="zh-CN" sz="3200" spc="-1" strike="noStrike">
                <a:solidFill>
                  <a:srgbClr val="cc0099"/>
                </a:solidFill>
                <a:latin typeface="宋体"/>
              </a:rPr>
              <a:t>印象派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代表作载入史册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743200" y="152280"/>
            <a:ext cx="3886200" cy="2743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外国印象主义绘画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A3984-B5D7-42F2-B635-6ACB00ACA87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75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75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6950160" y="152280"/>
            <a:ext cx="1888920" cy="245124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380880" y="2174760"/>
            <a:ext cx="853452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他摒弃了一切后天习得的知识，漠视学院派珍视的教条，甚至忘记他自己的理性。</a:t>
            </a:r>
            <a:br>
              <a:rPr sz="2800"/>
            </a:b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在他的眼中，只有生机盎然的自然景观，他陶醉于其中，物我两忘。他视天地万物为不可分割的整体，他用全部身心，拥抱一切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凡高短暂的一生，坎坷多磨，极富悲剧意味，他一生追求真实，他用强烈的色彩，奔放粗狂的线条，扭曲夸张的形体，来表现对客观世界的感受，成就了他在艺术上辉煌的表现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057400" y="990360"/>
            <a:ext cx="3200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00"/>
                </a:solidFill>
                <a:latin typeface="华文新魏"/>
                <a:ea typeface="华文新魏"/>
              </a:rPr>
              <a:t>文森特</a:t>
            </a:r>
            <a:r>
              <a:rPr b="1" lang="zh-CN" sz="4400" spc="-1" strike="noStrike">
                <a:solidFill>
                  <a:srgbClr val="ffcc00"/>
                </a:solidFill>
                <a:latin typeface="华文新魏"/>
                <a:ea typeface="华文新魏"/>
              </a:rPr>
              <a:t>·</a:t>
            </a:r>
            <a:r>
              <a:rPr b="1" lang="zh-CN" sz="4400" spc="-1" strike="noStrike">
                <a:solidFill>
                  <a:srgbClr val="ffcc00"/>
                </a:solidFill>
                <a:latin typeface="华文新魏"/>
                <a:ea typeface="华文新魏"/>
              </a:rPr>
              <a:t>凡高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外国印象主义绘画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2C61F-57A1-4500-992A-AAA361A5EC5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75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75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75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75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533520" y="2362320"/>
            <a:ext cx="4495680" cy="365580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828800" y="762120"/>
            <a:ext cx="3726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00"/>
                </a:solidFill>
                <a:latin typeface="Tahoma"/>
                <a:ea typeface="华文新魏"/>
              </a:rPr>
              <a:t>星月之夜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"/>
          <p:cNvSpPr/>
          <p:nvPr/>
        </p:nvSpPr>
        <p:spPr>
          <a:xfrm>
            <a:off x="5410080" y="1854360"/>
            <a:ext cx="304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闪烁在碧蓝色夜空中的星星，格外夺目，是凡高深埋在，灵魂深处的世界感受。就连新月也也形成一个旋涡，星云宛如一条巨龙不停的蠕动着。山腰上教堂的尖顶不安的伸向天空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外国印象主义绘画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3F61F-5B74-46AA-958D-D0A5920DFEE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380880" y="304920"/>
            <a:ext cx="868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《星夜》是一幅既亲近又茫远的风景画，高大的白扬树战栗着悠然地浮现在我们面前；山谷里的小村庄，在尖顶教堂的保护之下安然栖息；宇宙里所有的恒星和行星在旋转着、爆发着。这不是对人，而是对太阳系的最后审判。这件作品是在圣雷米疗养院画的，时间是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1889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年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6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月。他的神经第二次崩溃之后，就住进了这座疗养院。在那儿，他的病情时好时坏，在神志清醒而充满了情感的时候，他就不停地作画。色彩主要是蓝和紫罗兰，同时有规律地跳动着星星发光的黄色。前景中深绿和棕色的白杨树，意味着包围了这个世界的茫茫之夜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5486400" y="3875040"/>
            <a:ext cx="3200400" cy="2602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外国印象主义绘画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7951F-2D37-4B6D-ADC8-8CC18D66497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236000" y="189000"/>
            <a:ext cx="1738080" cy="22860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828440" y="304920"/>
            <a:ext cx="3421080" cy="12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0c0c0"/>
                </a:solidFill>
                <a:latin typeface="Tahoma"/>
              </a:rPr>
              <a:t>保罗</a:t>
            </a:r>
            <a:r>
              <a:rPr b="1" lang="zh-CN" sz="4400" spc="-1" strike="noStrike">
                <a:solidFill>
                  <a:srgbClr val="c0c0c0"/>
                </a:solidFill>
                <a:latin typeface="Tahoma"/>
              </a:rPr>
              <a:t>.</a:t>
            </a:r>
            <a:r>
              <a:rPr b="1" lang="zh-CN" sz="4400" spc="-1" strike="noStrike">
                <a:solidFill>
                  <a:srgbClr val="c0c0c0"/>
                </a:solidFill>
                <a:latin typeface="Tahoma"/>
              </a:rPr>
              <a:t>高更</a:t>
            </a:r>
            <a:r>
              <a:rPr b="0" lang="zh-CN" sz="4400" spc="-1" strike="noStrike">
                <a:solidFill>
                  <a:srgbClr val="c0c0c0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"/>
          <p:cNvSpPr/>
          <p:nvPr/>
        </p:nvSpPr>
        <p:spPr>
          <a:xfrm>
            <a:off x="539640" y="1427040"/>
            <a:ext cx="822960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高更早期作品追求形式的简化和色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的装饰效果，但还没有摆脱印象派的手法。后来多次到法国的古老村庄进行创作，对当地的风土人情、民间版画及东方绘画的风格感到兴趣，逐渐放弃原来的写实画法。由于厌倦城市生活，向往仍处于原始部落生活的风习和艺术，高更不顾一切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远涉重洋到南太平洋上的一个岛上去生活和画画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直到去世。</a:t>
            </a:r>
            <a:br>
              <a:rPr sz="2800"/>
            </a:b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    高更以极大的热情真诚地描绘了土著民族及其生活。作品用线条和强烈的色块组成，具有浓厚的主观色彩和装饰效果。高更的艺术对现代绘画影响极大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他被称为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"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象征派的创始人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"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。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外国印象主义绘画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FAA53-6D77-4570-ADF4-A2CCB0BE556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38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75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75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75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75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1600200" y="436680"/>
            <a:ext cx="75438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《塔希提少女》描绘的是这个岛上劳动妇女生活的一个场景。画面中心两个坐在海边沙滩上的塔希提女人形象，给人以一种平衡、庄严感。为了突出这种特定的风土人情，高更采用           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11111111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的是近于古埃及壁画的平涂手法，故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11111111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意显露单线平涂的稚拙结构形式。画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11111111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上的两个人物极富东方色彩的趣味。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11111111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大面积平涂色块的装饰画法，使土著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11111111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人民在强烈的阳光下晒成的棕赭色皮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11111111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肤，与鲜艳的裙子构成了鲜明的色彩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11111111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对比。高更把这里的热带原始园林简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11111111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化，然而强化了气氛。这幅画上的异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11111111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国情调，浓郁的自然景物，没有透视感，没有色彩的层次，充满着主观的装饰味道。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50920" y="2276640"/>
            <a:ext cx="2940120" cy="3733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外国印象主义绘画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D4D8D-FD04-4375-BAA9-7C7972A37A2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228600" y="2819520"/>
            <a:ext cx="8763120" cy="327636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447560" y="685800"/>
            <a:ext cx="7543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0c0c0"/>
                </a:solidFill>
                <a:latin typeface="Tahoma"/>
              </a:rPr>
              <a:t>《我们从哪里来？我们是谁？我们往哪里去？》</a:t>
            </a: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外国印象主义绘画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E6161-A8EE-4FEF-BC4C-4F92D20D599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75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75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152280" y="0"/>
            <a:ext cx="8991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是一幅大型油画。据他自己说，这是他以最大热情完成的哲理性作品。因为在此以前，他在贫病交迫中心情十分沮丧。他无法摆脱贫困，不得不求助于罪恶的巴黎对他的艺术的肯定，他为此而愤世嫉俗，决定自杀。他曾跑到深山里吃下毒药，企图死后以自己的尸体饲兽，以求彻底的解脱，但被人发现救起。尔后，他又突然产生强烈的创作欲。他说：“我打算在我死前画一幅宏伟的作品，我空前狂热，日以继夜地工作了一个月。”他想把自己梦幻中的一切画成一幅画。当他梦醒时，他觉得面对画幅“看到”了他所要画的整个构思：“我们从哪里来？我们是谁？ 我们往哪里去？”这句话就成了这幅画                                 的标题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1835280" y="4829040"/>
            <a:ext cx="5562360" cy="2028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外国印象主义绘画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664AB-B420-4B77-A21E-37AA05625DDF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6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380880" y="2057400"/>
            <a:ext cx="8534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ff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3366ff"/>
                </a:solidFill>
                <a:latin typeface="宋体"/>
              </a:rPr>
              <a:t>后印象主义不是一个社团</a:t>
            </a:r>
            <a:r>
              <a:rPr b="1" lang="zh-CN" sz="2800" spc="-1" strike="noStrike">
                <a:solidFill>
                  <a:srgbClr val="3366ff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3366ff"/>
                </a:solidFill>
                <a:latin typeface="宋体"/>
              </a:rPr>
              <a:t>也不是一个派别</a:t>
            </a:r>
            <a:r>
              <a:rPr b="1" lang="zh-CN" sz="2800" spc="-1" strike="noStrike">
                <a:solidFill>
                  <a:srgbClr val="3366ff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3366ff"/>
                </a:solidFill>
                <a:latin typeface="宋体"/>
              </a:rPr>
              <a:t>他们没有定期举行展览，也没有共同的美学纲领和宣言。仅仅是后人为了把他们和印象主义区别开来所使用的一个名称。如果一定要从结社的角度去考察“后印象主义”这 个概念的话，那么这群艺术家曾在艺术商人古皮尔的画廊一起展出过作品，这个画廊由凡高的弟弟泰奥协助经营。参加这个画廊展出的还有修拉、西涅克、贝尔纳。所以，在有些美术史著作中</a:t>
            </a:r>
            <a:r>
              <a:rPr b="1" lang="zh-CN" sz="2800" spc="-1" strike="noStrike">
                <a:solidFill>
                  <a:srgbClr val="3366ff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3366ff"/>
                </a:solidFill>
                <a:latin typeface="宋体"/>
              </a:rPr>
              <a:t>也有人把这</a:t>
            </a:r>
            <a:r>
              <a:rPr b="1" lang="zh-CN" sz="2800" spc="-1" strike="noStrike">
                <a:solidFill>
                  <a:srgbClr val="3366ff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3366ff"/>
                </a:solidFill>
                <a:latin typeface="宋体"/>
              </a:rPr>
              <a:t>位画家归入后印象主义行列，实际上修拉和西涅克是新印象主义的代表人物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676160" y="533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ff"/>
                </a:solidFill>
                <a:latin typeface="Tahoma"/>
                <a:ea typeface="华文新魏"/>
              </a:rPr>
              <a:t>总结后印象主义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外国印象主义绘画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7E611-9501-441A-B439-555DC352A678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75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75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0" y="243828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ff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3366ff"/>
                </a:solidFill>
                <a:latin typeface="宋体"/>
              </a:rPr>
              <a:t>印象主义作为一种思潮波及欧洲各国。英国</a:t>
            </a:r>
            <a:r>
              <a:rPr b="1" lang="zh-CN" sz="2800" spc="-1" strike="noStrike">
                <a:solidFill>
                  <a:srgbClr val="3366ff"/>
                </a:solidFill>
                <a:latin typeface="宋体"/>
              </a:rPr>
              <a:t>.</a:t>
            </a:r>
            <a:r>
              <a:rPr b="1" lang="zh-CN" sz="2800" spc="-1" strike="noStrike">
                <a:solidFill>
                  <a:srgbClr val="3366ff"/>
                </a:solidFill>
                <a:latin typeface="宋体"/>
              </a:rPr>
              <a:t>德国以及西班牙、意大利的一群艺术家，俄国艺术世界和东欧一些画家都曾经受到法国印象主义的极大影响。美国的沙金和女画家卡萨特、日本的黑田清辉也是负有盛名的印象主义画家。印象主义运动虽然已经在</a:t>
            </a:r>
            <a:r>
              <a:rPr b="1" lang="zh-CN" sz="2800" spc="-1" strike="noStrike">
                <a:solidFill>
                  <a:srgbClr val="3366ff"/>
                </a:solidFill>
                <a:latin typeface="宋体"/>
              </a:rPr>
              <a:t>100</a:t>
            </a:r>
            <a:r>
              <a:rPr b="1" lang="zh-CN" sz="2800" spc="-1" strike="noStrike">
                <a:solidFill>
                  <a:srgbClr val="3366ff"/>
                </a:solidFill>
                <a:latin typeface="宋体"/>
              </a:rPr>
              <a:t>年以前即已消失，但至今世界上还有不少画家用印象主义的方法作画。中国现代画家刘海粟、林风眠等人在吸收印象主义技法方面，有独特的创造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912680" y="228600"/>
            <a:ext cx="5097240" cy="13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ff"/>
                </a:solidFill>
                <a:latin typeface="Tahoma"/>
                <a:ea typeface="华文新魏"/>
              </a:rPr>
              <a:t>印象主义的影响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外国印象主义绘画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E82B8-91BA-4DD1-AADB-D3476433AC63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1962000"/>
            <a:ext cx="8077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印象主义流派出现于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1874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年。这年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月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一群年轻的法国画家在巴黎借用摄影师那达尔的工作室举办画家、雕塑家和版画家等无名艺术家展览会，在展品中有 莫奈的一幅油画《日出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·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印象》。此画的标题被一位艺术观点保守的记者借用，嘲讽地称这次画展是 “印象主义画家的展览会”，故产生印象主义或印象派 之名。印象主义画展从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1874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～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1886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年共举行了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8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次。第 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、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次展览受到舆论界的猛烈批评。当举行第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、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次展览时，印象主义已成为社会上具有很大影响的艺术流派了。</a:t>
            </a: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印象派运动可以看作是现代艺术的起点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676160" y="685800"/>
            <a:ext cx="74674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c00"/>
                </a:solidFill>
                <a:latin typeface="Tahoma"/>
                <a:ea typeface="华文新魏"/>
              </a:rPr>
              <a:t>什么是印象主义流派……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外国印象主义绘画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DCD3F-98DC-446E-A2AC-E6F446E1F9C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" dur="75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673200" y="1066680"/>
            <a:ext cx="3670200" cy="538164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5562720" y="27000"/>
            <a:ext cx="259056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莫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106CM*74C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波士顿美术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48320" y="2114640"/>
            <a:ext cx="4343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这里展示的是壮观的哥特式教堂的景象，强烈的晨光冲淡了他巍峨的身影，高大的建筑结构似乎被浓浓的光色所包裹。笔触厚重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.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重叠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.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狂放不羁，光影与色彩成为造型的灵魂，强烈的明暗对比，使哥特教堂成了一种充满色彩旋律的光色结晶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320" y="152280"/>
            <a:ext cx="31244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宋体"/>
              </a:rPr>
              <a:t>《鲁昂大教堂》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外国印象主义绘画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049C3-978D-4A71-9F26-9C3A52F2908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655280" y="533520"/>
            <a:ext cx="70311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宋体"/>
              </a:rPr>
              <a:t>《</a:t>
            </a:r>
            <a:r>
              <a:rPr b="0" lang="zh-CN" sz="4400" spc="-1" strike="noStrike">
                <a:solidFill>
                  <a:srgbClr val="ffcc00"/>
                </a:solidFill>
                <a:latin typeface="Tahoma"/>
              </a:rPr>
              <a:t>睡莲</a:t>
            </a:r>
            <a:r>
              <a:rPr b="1" lang="zh-CN" sz="3200" spc="-1" strike="noStrike">
                <a:solidFill>
                  <a:srgbClr val="ffcc00"/>
                </a:solidFill>
                <a:latin typeface="宋体"/>
              </a:rPr>
              <a:t>》       橘园美术馆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"/>
          <p:cNvSpPr/>
          <p:nvPr/>
        </p:nvSpPr>
        <p:spPr>
          <a:xfrm>
            <a:off x="4648320" y="1752480"/>
            <a:ext cx="419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它是莫奈晚年重要的作品。在群青的湖面上，红花白蕊简洁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.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飘逸。几笔涡形的绿色勾画出闪动的效果。视觉影响非常强烈。这幅作品用超出写实的严谨，达到中国艺术的“写意”的形态，体现出精神的自由状态和梦幻感。他的构思奇特，笔触灵动，境界高远，美妙无比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838080" y="2057400"/>
            <a:ext cx="3313080" cy="4429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外国印象主义绘画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3132B-B151-4522-90C9-CA3A6FE96C5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457200" y="1752480"/>
            <a:ext cx="8839080" cy="12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莫奈的画描绘了从大自然中得到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稍纵即逝的瞬间印象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29401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在这里，色即是光，空气也具有动感，空间则靠光线和空气的相互作用来构成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39751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克劳德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·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莫奈的名字与印象派的历史密切相连，这一点是无庸置疑的，印象派的创始人虽说是</a:t>
            </a:r>
            <a:r>
              <a:rPr b="1" lang="zh-CN" sz="2800" spc="-1" strike="noStrike">
                <a:solidFill>
                  <a:srgbClr val="cc0099"/>
                </a:solidFill>
                <a:latin typeface="宋体"/>
              </a:rPr>
              <a:t>马奈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，但真正使其发扬光大的却是莫奈。他让世人重新体悟到光与自然的结构。这一视野的骤变，所散发出的光线、色彩、运动和充沛的活力，取代了以往绘画中僵死的构图和不敢有丝毫创新的传统主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133360" y="685440"/>
            <a:ext cx="4190760" cy="7621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1c1c1c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00"/>
                </a:solidFill>
                <a:latin typeface="Tahoma"/>
                <a:ea typeface="华文新魏"/>
              </a:rPr>
              <a:t>总结莫奈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6934320" y="228600"/>
            <a:ext cx="2033640" cy="2286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外国印象主义绘画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F65CD-3A25-474B-BF05-54C66D84BFD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457200" y="2435400"/>
            <a:ext cx="8686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Tahoma"/>
              </a:rPr>
              <a:t>       </a:t>
            </a:r>
            <a:r>
              <a:rPr b="1" lang="zh-CN" sz="2800" spc="-1" strike="noStrike">
                <a:solidFill>
                  <a:srgbClr val="ffcc00"/>
                </a:solidFill>
                <a:latin typeface="Tahoma"/>
              </a:rPr>
              <a:t>从创作理念上来说，印象派画家强调真实地表现艺术家对客观世界的感觉和印象，而不重视牵强附会的主题。绘画给予人们的是感觉，而非深奥的思想。在艺术形式上，他们强调的是对光与色的探索，他们尝试着把光和色彩直接与美学沟通。所以他们的作品往往是“为了色彩去画一个主题，而不是为了主题本身”，从而极大地丰富了绘画的表现手段。印象派中产生了众多的艺术大师，如</a:t>
            </a:r>
            <a:r>
              <a:rPr b="1" lang="zh-CN" sz="2800" spc="-1" strike="noStrike">
                <a:solidFill>
                  <a:srgbClr val="00e4a8"/>
                </a:solidFill>
                <a:latin typeface="Tahoma"/>
              </a:rPr>
              <a:t>马奈</a:t>
            </a:r>
            <a:r>
              <a:rPr b="1" lang="zh-CN" sz="2800" spc="-1" strike="noStrike">
                <a:solidFill>
                  <a:srgbClr val="ffcc00"/>
                </a:solidFill>
                <a:latin typeface="Tahoma"/>
              </a:rPr>
              <a:t>、</a:t>
            </a:r>
            <a:r>
              <a:rPr b="1" lang="zh-CN" sz="2800" spc="-1" strike="noStrike">
                <a:solidFill>
                  <a:srgbClr val="cc0099"/>
                </a:solidFill>
                <a:latin typeface="Tahoma"/>
              </a:rPr>
              <a:t>莫奈</a:t>
            </a:r>
            <a:r>
              <a:rPr b="1" lang="zh-CN" sz="2800" spc="-1" strike="noStrike">
                <a:solidFill>
                  <a:srgbClr val="ffcc00"/>
                </a:solidFill>
                <a:latin typeface="Tahoma"/>
              </a:rPr>
              <a:t>、</a:t>
            </a:r>
            <a:r>
              <a:rPr b="1" lang="zh-CN" sz="2800" spc="-1" strike="noStrike">
                <a:solidFill>
                  <a:srgbClr val="3333ff"/>
                </a:solidFill>
                <a:latin typeface="Tahoma"/>
              </a:rPr>
              <a:t>雷诺阿</a:t>
            </a:r>
            <a:r>
              <a:rPr b="1" lang="zh-CN" sz="2800" spc="-1" strike="noStrike">
                <a:solidFill>
                  <a:srgbClr val="ffcc00"/>
                </a:solidFill>
                <a:latin typeface="Tahoma"/>
              </a:rPr>
              <a:t>和德加等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684440" y="1752120"/>
            <a:ext cx="761184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c00"/>
                </a:solidFill>
                <a:latin typeface="Tahoma"/>
                <a:ea typeface="华文新魏"/>
              </a:rPr>
              <a:t>印象派的创作理念……</a:t>
            </a:r>
            <a:br>
              <a:rPr sz="4800"/>
            </a:b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外国印象主义绘画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2F43C-79E9-4B21-9658-49CE72B4815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0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" dur="75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762120" y="2631960"/>
            <a:ext cx="4724280" cy="388152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920" y="609480"/>
            <a:ext cx="4640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宋体"/>
              </a:rPr>
              <a:t>《</a:t>
            </a:r>
            <a:r>
              <a:rPr b="0" lang="zh-CN" sz="4400" spc="-1" strike="noStrike">
                <a:solidFill>
                  <a:srgbClr val="ffcc00"/>
                </a:solidFill>
                <a:latin typeface="Tahoma"/>
              </a:rPr>
              <a:t>草地上的午餐</a:t>
            </a:r>
            <a:r>
              <a:rPr b="1" lang="zh-CN" sz="3200" spc="-1" strike="noStrike">
                <a:solidFill>
                  <a:srgbClr val="ffcc00"/>
                </a:solidFill>
                <a:latin typeface="宋体"/>
              </a:rPr>
              <a:t>》     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"/>
          <p:cNvSpPr/>
          <p:nvPr/>
        </p:nvSpPr>
        <p:spPr>
          <a:xfrm>
            <a:off x="6248520" y="528480"/>
            <a:ext cx="289548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爱德华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.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马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208CM*264C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巴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奥赛博物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12408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这是一个经过精心安排的“午餐”，是画家寻求色彩对比的大胆实验。此画展出后，引起舆论大哗，作为挑战性作品，马奈被推入到印象派阵营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外国印象主义绘画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A0109-210D-40B7-B10C-FBD2A1FC052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75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75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52280" y="2617920"/>
            <a:ext cx="87631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在巴黎出生和去世的爱德加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·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德加是银行家之子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.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生来便是大资产阶级，在印象派画家笔下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形有溶解于气氛之中的倾向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而德加的画却始终保留着严格的形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.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他对人工舞台灯光热爱要甚于阳光的喜爱，他喜欢表现人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但从不勿忙去勾勒人物的身影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.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因此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他的艺术是新的贡献扩大和丰绘画形式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.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他从一开始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就参加了印象派的几次画展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.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德加的晚年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由于视力下降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他更喜欢作木炭画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简洁有力地增加层次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再以白粉画出亮光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.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德加同雷诺阿、莫奈、塞尚一样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与印象派的历史密不可分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5867280" y="228600"/>
            <a:ext cx="3048120" cy="227484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23520" y="990720"/>
            <a:ext cx="3954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ddddd"/>
                </a:solidFill>
                <a:latin typeface="Tahoma"/>
              </a:rPr>
              <a:t>  </a:t>
            </a:r>
            <a:r>
              <a:rPr b="0" lang="zh-CN" sz="4400" spc="-1" strike="noStrike">
                <a:solidFill>
                  <a:srgbClr val="dddddd"/>
                </a:solidFill>
                <a:latin typeface="Tahoma"/>
              </a:rPr>
              <a:t>爱德加</a:t>
            </a:r>
            <a:r>
              <a:rPr b="0" lang="zh-CN" sz="4400" spc="-1" strike="noStrike">
                <a:solidFill>
                  <a:srgbClr val="dddddd"/>
                </a:solidFill>
                <a:latin typeface="Tahoma"/>
              </a:rPr>
              <a:t>.</a:t>
            </a:r>
            <a:r>
              <a:rPr b="0" lang="zh-CN" sz="4400" spc="-1" strike="noStrike">
                <a:solidFill>
                  <a:srgbClr val="dddddd"/>
                </a:solidFill>
                <a:latin typeface="Tahoma"/>
              </a:rPr>
              <a:t>德加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外国印象主义绘画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35825-4903-411A-AD19-E61C7928BD7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75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75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26T06:24:05Z</dcterms:created>
  <dc:creator>Michael</dc:creator>
  <dc:description/>
  <dc:language>en-US</dc:language>
  <cp:lastModifiedBy>User</cp:lastModifiedBy>
  <dcterms:modified xsi:type="dcterms:W3CDTF">2009-02-22T15:13:58Z</dcterms:modified>
  <cp:revision>74</cp:revision>
  <dc:subject/>
  <dc:title>PowerPoint 演示文稿</dc:title>
</cp:coreProperties>
</file>