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whoosh.wav" ContentType="audio/x-wav"/>
  <Override PartName="/ppt/media/image12.jpeg" ContentType="image/jpeg"/>
  <Override PartName="/ppt/media/image7.jpeg" ContentType="image/jpeg"/>
  <Override PartName="/ppt/media/camera.wav" ContentType="audio/x-wav"/>
  <Override PartName="/ppt/media/image21.jpeg" ContentType="image/jpeg"/>
  <Override PartName="/ppt/media/image6.jpeg" ContentType="image/jpeg"/>
  <Override PartName="/ppt/media/image5.jpeg" ContentType="image/jpeg"/>
  <Override PartName="/ppt/media/image20.jpeg" ContentType="image/jpeg"/>
  <Override PartName="/ppt/media/image15.jpeg" ContentType="image/jpeg"/>
  <Override PartName="/ppt/media/type.wav" ContentType="audio/x-wav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D21C-56EF-4C64-BF3C-813E403E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E39A-B56F-4390-BBBE-5E213539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5270-ABB3-40BE-9713-6B713278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563C-0833-4E52-910D-57314471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BD4A-5BD6-439D-823B-A806F0A9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2128-F325-491F-B3A3-4A3191C5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09E8-13B0-4EA2-84E1-69BE4D34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3D68-CB89-42D6-A2B8-F719782A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7D54-C11A-4AB2-836B-1569C660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36D6-3D43-47C4-86CA-55EA8875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4D12-BCCF-4DB3-91FC-D0B3AD0E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1735-CE64-4BCD-AB9F-ED56E046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4884-7A5F-4147-97B6-3B879A8B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DF96-79F4-45F0-8166-20DC3DF5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33A7-14E9-4B27-9537-37D4D1AC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1FC1-AB92-4F8A-801A-C2CC3BD5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E236-AC4E-4DFA-8195-9A8BFCB5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76DB-C1E0-4374-9895-15F2EBCA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A2B-EA5F-44EB-B52B-A4499874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AB40-F5D1-453A-9F53-A69D1AA8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E733-3EA8-4A40-B499-A5907F11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EEFA-5CCF-424B-97E4-EED2E11C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2FB0-1EEF-4E5F-A14E-E07E11AD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5EBC-F4DE-42D4-8E2D-EFB577BC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019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4539-6CA9-4F42-8CF8-1C9D06C1AE53}" type="slidenum">
              <a:rPr b="0" lang="zh-CN" sz="1400" spc="-1" strike="noStrike">
                <a:solidFill>
                  <a:srgbClr val="ffcc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5943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r>
              <a:rPr b="0" lang="zh-CN" sz="1400" spc="-1" strike="noStrike">
                <a:solidFill>
                  <a:srgbClr val="ffcc00"/>
                </a:solidFill>
                <a:latin typeface="Tahoma"/>
              </a:rPr>
              <a:t>外国印象主义绘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1F11-296D-464D-82AA-B92B1720B29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181480" cy="3524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05120" y="380880"/>
            <a:ext cx="624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华文新魏"/>
                <a:ea typeface="华文新魏"/>
              </a:rPr>
              <a:t>抒情与分析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华文新魏"/>
                <a:ea typeface="华文新魏"/>
              </a:rPr>
              <a:t>             </a:t>
            </a:r>
            <a:r>
              <a:rPr b="1" lang="zh-CN" sz="3600" spc="-1" strike="noStrike">
                <a:solidFill>
                  <a:srgbClr val="ffcc00"/>
                </a:solidFill>
                <a:latin typeface="华文新魏"/>
                <a:ea typeface="华文新魏"/>
              </a:rPr>
              <a:t>外国印象主义绘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458200" y="1523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929000" y="2743200"/>
            <a:ext cx="6069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《 日出  印象 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5867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克劳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8CM*63CM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巴黎马蒙达博物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6F31-B89D-4B35-BAA6-849B9D72A3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19320" y="2124000"/>
            <a:ext cx="3112920" cy="4353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29200" y="2438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dddd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dddddd"/>
                </a:solidFill>
                <a:latin typeface="宋体"/>
              </a:rPr>
              <a:t>画家以她的舞姿为媒介，刻意追寻光与色的表现。通过对舞者的造型的描绘，表现出强烈的灯光反射的效果。舞台上的布景与绿色的地毯，使舞者显得虚无缥缈，绚丽变幻，成为一个美的世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380880"/>
            <a:ext cx="335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484200"/>
            <a:ext cx="2895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爱德加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60CM*44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巴黎 奥赛博物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433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《舞台上的舞女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E25B-8549-4B7D-A6D0-655F1ABBA7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990720"/>
            <a:ext cx="5021280" cy="12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奥古斯特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·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雷诺阿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855800" cy="2369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30481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雷诺阿是法国画家，最初与印象画派运动联系密切。他的早期作品是典型的记录真实生活的印象派作品，充满了夺目的光彩。然而到了（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世纪）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年代中期，他从印象派运动中分裂出来，转向在人像画及肖像画，特别是妇女肖像画中去发挥自己更加严谨和正规的绘画技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ABE8-BC36-4747-80FB-0E4B9DC70A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600" y="533160"/>
            <a:ext cx="2743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华文新魏"/>
                <a:ea typeface="华文新魏"/>
              </a:rPr>
              <a:t>《包厢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1143000"/>
            <a:ext cx="3200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80CM*63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伦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科陶德学院美术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352116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EC7-4471-47D5-8847-84CF0D4C6F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71280"/>
            <a:ext cx="899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《包厢》是雷诺阿正式参加印象派美展的第一次参展作品之一。这幅画根据他在剧院里所得的“印象”，回到画室里请人摆模特儿画成的。他成功地画出了剧院一角的气氛。尤其是画面上两个人物的神情，丝毫没有摆姿势的痕迹，他们似乎全神贯注地在观剧，陶醉在此时此刻的舞台演出中。这幅图版，只突出包厢里那个贵妇人的形象。由于雷诺阿渲染了色彩氛围，使观者从中能感受到剧场观众的气氛。贵妇人那张化了妆的脸容与后面那个男绅士，形成鲜明的对比度。《包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厢》的色彩基调是暖色。它由玫瑰、黑、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白三色组成。贵妇人身上的黑条纹衣服异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常显目。运用黑色，在印印象派画家中本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来是犯忌的，因为外光很难体现纯黑。可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能雷诺阿是用小笔触，逐步地添上去的，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所以丝毫无斧凿的生硬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2212920" cy="29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D153-D361-4E4B-A282-C5A6EF8720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685800"/>
            <a:ext cx="4487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  <a:ea typeface="华文新魏"/>
              </a:rPr>
              <a:t>新印象派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2895480"/>
            <a:ext cx="87631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    “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新印象派”的绘画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因为重色彩的理性分析与科学原则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因而往往给人以冷漠和静止的感觉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主要人物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乔治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修拉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修拉是新型艺术家兼科学家。对二十世纪几何抽象艺术有很大的影响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他对色彩的专门研究，使得他的作品层次分明，而他自己也成为新印象画派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点彩派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的代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5640" y="304920"/>
            <a:ext cx="1873080" cy="243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5B98-A1B4-4D5F-B6D2-FC53F4D5EE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6172200" cy="40402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华文新魏"/>
                <a:ea typeface="华文新魏"/>
              </a:rPr>
              <a:t>《大碗岛星期日的下午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457200"/>
            <a:ext cx="2971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乔治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修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207CM*308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芝加哥美术学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010280" y="3657600"/>
            <a:ext cx="1791000" cy="15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EA75-5C6D-470A-B186-70D22C1B99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75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880" y="304920"/>
            <a:ext cx="86108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   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修拉为了制作《大碗岛星期日的下午》整整花费了两年的时间。他每天早上到海边写生，下午回到画室里研究构图和色彩。为了摄取正确而且逼真的写实效果，他还对当时流行的服饰和发型等进行了深入的研究。比如为了真切表现画面前景一个妇人用鲸骨支撑而高高隆起的裙子，他曾经买来同样的实物拆开来观察，作了大量的黑白写生和笔记。据统计，为创作“大碗岛星期日的下午”一画，修拉共制作了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00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幅素描稿和颜色效果图。在画面中，共有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个人物，每一个形象都是画家经过千锤百炼概括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成。他们好象彼此毫无关系地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摆放在一起，但画面上却洋溢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一种宁静而幽雅的秩序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715000" y="4572000"/>
            <a:ext cx="2984400" cy="19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C439-E937-4186-83CB-E2764AC9D2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080" y="2133720"/>
            <a:ext cx="71629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法国美术史上继印象主义之后的美术现象，存在于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19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世纪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90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年代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当时受外来绘画的影响和科学艺术的发展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他们吸收了东方艺术中的含蓄深长的意味并且也变得相对复杂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曾译成“后印象派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一般被称作后印象主义的画家是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塞尚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凡高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高更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520" y="762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ahoma"/>
              </a:rPr>
              <a:t>后印象派</a:t>
            </a:r>
            <a:r>
              <a:rPr b="0" lang="zh-CN" sz="4400" spc="-1" strike="noStrike">
                <a:solidFill>
                  <a:srgbClr val="3333ff"/>
                </a:solidFill>
                <a:latin typeface="Tahoma"/>
                <a:ea typeface="华文新魏"/>
              </a:rPr>
              <a:t>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B613-F95B-423F-BF25-27125C21E9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75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75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75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75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保罗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·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塞尚 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(1839-1906)</a:t>
            </a: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257960" y="228600"/>
            <a:ext cx="1657440" cy="2209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8600" y="2479680"/>
            <a:ext cx="8686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毕生追求表现形式，对运用色彩、造型有新的创造，被称为“现代绘画之父”。</a:t>
            </a:r>
            <a:br>
              <a:rPr sz="2800"/>
            </a:b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　　在可以被当成二十世纪探索绘画先知的十九世纪画家中，从成就和影响来说，最有意义的乃是塞尚。被称为“现代绘画之父”。他是一个很少为人理解的孤独者。他终生奋斗不息，为用颜料来表现他的艺术本质的观念而斗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塞尚在他的作品中，所寻找的就是真实，即绘画的真实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B1A5-5127-43EA-8E46-936AE45433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181480" cy="40431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540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《</a:t>
            </a:r>
            <a:r>
              <a:rPr b="0" lang="zh-CN" sz="4400" spc="-1" strike="noStrike">
                <a:solidFill>
                  <a:srgbClr val="3333ff"/>
                </a:solidFill>
                <a:latin typeface="Tahoma"/>
              </a:rPr>
              <a:t>一蓝苹果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457200"/>
            <a:ext cx="2971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保罗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塞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65CM*81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芝加哥美术学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7A92-024D-475D-A387-1B041083D2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75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75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75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75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29718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这是莫奈描绘法国勒阿弗尔港口一个多雾早晨的景象：海水被晨曦染成淡紫色，天空被各种色块晕染成微红，水的波浪由厚薄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长短不一的笔触绘就，三只摇动的小船在色点中显得朦胧模糊，船上人影依稀可辩，远出工厂烟囱，大船上的吊车若隐若现，画家把这一印象收入在画布上，如此大胆的用凌乱的笔触来展示雾气交融的景象，是史无前例的，震撼了画坛。被作为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印象派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代表作载入史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3886200" cy="274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22FC-6367-4F65-B905-812E24ECAB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950160" y="152280"/>
            <a:ext cx="1888920" cy="2451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80880" y="2174760"/>
            <a:ext cx="85345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摒弃了一切后天习得的知识，漠视学院派珍视的教条，甚至忘记他自己的理性。</a:t>
            </a:r>
            <a:br>
              <a:rPr sz="2800"/>
            </a:b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在他的眼中，只有生机盎然的自然景观，他陶醉于其中，物我两忘。他视天地万物为不可分割的整体，他用全部身心，拥抱一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凡高短暂的一生，坎坷多磨，极富悲剧意味，他一生追求真实，他用强烈的色彩，奔放粗狂的线条，扭曲夸张的形体，来表现对客观世界的感受，成就了他在艺术上辉煌的表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057400" y="99036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华文新魏"/>
                <a:ea typeface="华文新魏"/>
              </a:rPr>
              <a:t>文森特</a:t>
            </a:r>
            <a:r>
              <a:rPr b="1" lang="zh-CN" sz="4400" spc="-1" strike="noStrike">
                <a:solidFill>
                  <a:srgbClr val="ffcc00"/>
                </a:solidFill>
                <a:latin typeface="华文新魏"/>
                <a:ea typeface="华文新魏"/>
              </a:rPr>
              <a:t>·</a:t>
            </a:r>
            <a:r>
              <a:rPr b="1" lang="zh-CN" sz="4400" spc="-1" strike="noStrike">
                <a:solidFill>
                  <a:srgbClr val="ffcc00"/>
                </a:solidFill>
                <a:latin typeface="华文新魏"/>
                <a:ea typeface="华文新魏"/>
              </a:rPr>
              <a:t>凡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E5CA-A376-4350-9839-0E419587F6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75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75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4495680" cy="36558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28800" y="762120"/>
            <a:ext cx="3726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  <a:ea typeface="华文新魏"/>
              </a:rPr>
              <a:t>星月之夜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185436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闪烁在碧蓝色夜空中的星星，格外夺目，是凡高深埋在，灵魂深处的世界感受。就连新月也也形成一个旋涡，星云宛如一条巨龙不停的蠕动着。山腰上教堂的尖顶不安的伸向天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EC93-D6F8-4720-A5AC-5510753FC1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0880" y="3049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《星夜》是一幅既亲近又茫远的风景画，高大的白扬树战栗着悠然地浮现在我们面前；山谷里的小村庄，在尖顶教堂的保护之下安然栖息；宇宙里所有的恒星和行星在旋转着、爆发着。这不是对人，而是对太阳系的最后审判。这件作品是在圣雷米疗养院画的，时间是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889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月。他的神经第二次崩溃之后，就住进了这座疗养院。在那儿，他的病情时好时坏，在神志清醒而充满了情感的时候，他就不停地作画。色彩主要是蓝和紫罗兰，同时有规律地跳动着星星发光的黄色。前景中深绿和棕色的白杨树，意味着包围了这个世界的茫茫之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486400" y="3875040"/>
            <a:ext cx="3200400" cy="260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22E-7FE1-4D0E-91A9-697C931367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738080" cy="2286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3421080" cy="12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保罗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.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高更</a:t>
            </a:r>
            <a:r>
              <a:rPr b="0" lang="zh-CN" sz="4400" spc="-1" strike="noStrike">
                <a:solidFill>
                  <a:srgbClr val="c0c0c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1427040"/>
            <a:ext cx="82296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高更早期作品追求形式的简化和色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的装饰效果，但还没有摆脱印象派的手法。后来多次到法国的古老村庄进行创作，对当地的风土人情、民间版画及东方绘画的风格感到兴趣，逐渐放弃原来的写实画法。由于厌倦城市生活，向往仍处于原始部落生活的风习和艺术，高更不顾一切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远涉重洋到南太平洋上的一个岛上去生活和画画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直到去世。</a:t>
            </a:r>
            <a:br>
              <a:rPr sz="2800"/>
            </a:b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高更以极大的热情真诚地描绘了土著民族及其生活。作品用线条和强烈的色块组成，具有浓厚的主观色彩和装饰效果。高更的艺术对现代绘画影响极大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被称为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"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象征派的创始人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"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81F9-1079-43E5-9BEB-856693DE4B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75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75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00200" y="436680"/>
            <a:ext cx="7543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《塔希提少女》描绘的是这个岛上劳动妇女生活的一个场景。画面中心两个坐在海边沙滩上的塔希提女人形象，给人以一种平衡、庄严感。为了突出这种特定的风土人情，高更采用       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的是近于古埃及壁画的平涂手法，故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意显露单线平涂的稚拙结构形式。画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上的两个人物极富东方色彩的趣味。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大面积平涂色块的装饰画法，使土著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人民在强烈的阳光下晒成的棕赭色皮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肤，与鲜艳的裙子构成了鲜明的色彩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对比。高更把这里的热带原始园林简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化，然而强化了气氛。这幅画上的异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国情调，浓郁的自然景物，没有透视感，没有色彩的层次，充满着主观的装饰味道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2940120" cy="37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3BFC-4BDC-464F-9CB0-5611A014CE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8763120" cy="3276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560" y="6858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c0c0"/>
                </a:solidFill>
                <a:latin typeface="Tahoma"/>
              </a:rPr>
              <a:t>《我们从哪里来？我们是谁？我们往哪里去？》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5770-345F-4D0F-B6FE-3749D2F1ED1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2280" y="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是一幅大型油画。据他自己说，这是他以最大热情完成的哲理性作品。因为在此以前，他在贫病交迫中心情十分沮丧。他无法摆脱贫困，不得不求助于罪恶的巴黎对他的艺术的肯定，他为此而愤世嫉俗，决定自杀。他曾跑到深山里吃下毒药，企图死后以自己的尸体饲兽，以求彻底的解脱，但被人发现救起。尔后，他又突然产生强烈的创作欲。他说：“我打算在我死前画一幅宏伟的作品，我空前狂热，日以继夜地工作了一个月。”他想把自己梦幻中的一切画成一幅画。当他梦醒时，他觉得面对画幅“看到”了他所要画的整个构思：“我们从哪里来？我们是谁？ 我们往哪里去？”这句话就成了这幅画                                 的标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835280" y="4829040"/>
            <a:ext cx="5562360" cy="20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D7E3-5E13-4C96-8A79-8D970BA3A22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20574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后印象主义不是一个社团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也不是一个派别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他们没有定期举行展览，也没有共同的美学纲领和宣言。仅仅是后人为了把他们和印象主义区别开来所使用的一个名称。如果一定要从结社的角度去考察“后印象主义”这 个概念的话，那么这群艺术家曾在艺术商人古皮尔的画廊一起展出过作品，这个画廊由凡高的弟弟泰奥协助经营。参加这个画廊展出的还有修拉、西涅克、贝尔纳。所以，在有些美术史著作中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也有人把这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位画家归入后印象主义行列，实际上修拉和西涅克是新印象主义的代表人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ahoma"/>
                <a:ea typeface="华文新魏"/>
              </a:rPr>
              <a:t>总结后印象主义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3676-5AF3-4EB5-AAD6-58E9F4BF411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2438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印象主义作为一种思潮波及欧洲各国。英国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德国以及西班牙、意大利的一群艺术家，俄国艺术世界和东欧一些画家都曾经受到法国印象主义的极大影响。美国的沙金和女画家卡萨特、日本的黑田清辉也是负有盛名的印象主义画家。印象主义运动虽然已经在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年以前即已消失，但至今世界上还有不少画家用印象主义的方法作画。中国现代画家刘海粟、林风眠等人在吸收印象主义技法方面，有独特的创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12680" y="228600"/>
            <a:ext cx="509724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ahoma"/>
                <a:ea typeface="华文新魏"/>
              </a:rPr>
              <a:t>印象主义的影响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2345-CB92-4609-B4C9-F23793DF38A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96200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印象主义流派出现于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87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年。这年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月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一群年轻的法国画家在巴黎借用摄影师那达尔的工作室举办画家、雕塑家和版画家等无名艺术家展览会，在展品中有 莫奈的一幅油画《日出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印象》。此画的标题被一位艺术观点保守的记者借用，嘲讽地称这次画展是 “印象主义画家的展览会”，故产生印象主义或印象派 之名。印象主义画展从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87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～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886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年共举行了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次。第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次展览受到舆论界的猛烈批评。当举行第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次展览时，印象主义已成为社会上具有很大影响的艺术流派了。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印象派运动可以看作是现代艺术的起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Tahoma"/>
                <a:ea typeface="华文新魏"/>
              </a:rPr>
              <a:t>什么是印象主义流派……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33FB-4F0E-4CD1-AFC8-3DD71ACD13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75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73200" y="1066680"/>
            <a:ext cx="3670200" cy="5381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562720" y="27000"/>
            <a:ext cx="25905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06CM*74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波士顿美术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211464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这里展示的是壮观的哥特式教堂的景象，强烈的晨光冲淡了他巍峨的身影，高大的建筑结构似乎被浓浓的光色所包裹。笔触厚重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重叠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狂放不羁，光影与色彩成为造型的灵魂，强烈的明暗对比，使哥特教堂成了一种充满色彩旋律的光色结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3124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《鲁昂大教堂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144E-6147-4999-A22E-88EF4DBA71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5280" y="533520"/>
            <a:ext cx="703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《</a:t>
            </a: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睡莲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》       橘园美术馆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17524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它是莫奈晚年重要的作品。在群青的湖面上，红花白蕊简洁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飘逸。几笔涡形的绿色勾画出闪动的效果。视觉影响非常强烈。这幅作品用超出写实的严谨，达到中国艺术的“写意”的形态，体现出精神的自由状态和梦幻感。他的构思奇特，笔触灵动，境界高远，美妙无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31308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5045-FCDB-404A-A423-FB1C257BDF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1752480"/>
            <a:ext cx="88390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的画描绘了从大自然中得到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稍纵即逝的瞬间印象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940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在这里，色即是光，空气也具有动感，空间则靠光线和空气的相互作用来构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975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克劳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的名字与印象派的历史密切相连，这一点是无庸置疑的，印象派的创始人虽说是</a:t>
            </a:r>
            <a:r>
              <a:rPr b="1" lang="zh-CN" sz="2800" spc="-1" strike="noStrike">
                <a:solidFill>
                  <a:srgbClr val="cc0099"/>
                </a:solidFill>
                <a:latin typeface="宋体"/>
              </a:rPr>
              <a:t>马奈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，但真正使其发扬光大的却是莫奈。他让世人重新体悟到光与自然的结构。这一视野的骤变，所散发出的光线、色彩、运动和充沛的活力，取代了以往绘画中僵死的构图和不敢有丝毫创新的传统主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33360" y="685440"/>
            <a:ext cx="419076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  <a:ea typeface="华文新魏"/>
              </a:rPr>
              <a:t>总结莫奈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203364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A685-3E56-4C9A-9CAB-4D6C3045CE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4354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从创作理念上来说，印象派画家强调真实地表现艺术家对客观世界的感觉和印象，而不重视牵强附会的主题。绘画给予人们的是感觉，而非深奥的思想。在艺术形式上，他们强调的是对光与色的探索，他们尝试着把光和色彩直接与美学沟通。所以他们的作品往往是“为了色彩去画一个主题，而不是为了主题本身”，从而极大地丰富了绘画的表现手段。印象派中产生了众多的艺术大师，如</a:t>
            </a:r>
            <a:r>
              <a:rPr b="1" lang="zh-CN" sz="2800" spc="-1" strike="noStrike">
                <a:solidFill>
                  <a:srgbClr val="00e4a8"/>
                </a:solidFill>
                <a:latin typeface="Tahoma"/>
              </a:rPr>
              <a:t>马奈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99"/>
                </a:solidFill>
                <a:latin typeface="Tahoma"/>
              </a:rPr>
              <a:t>莫奈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雷诺阿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和德加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84440" y="1752120"/>
            <a:ext cx="76118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Tahoma"/>
                <a:ea typeface="华文新魏"/>
              </a:rPr>
              <a:t>印象派的创作理念……</a:t>
            </a:r>
            <a:br>
              <a:rPr sz="4800"/>
            </a:b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9887-E8A3-440C-B64C-5672397BFD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2631960"/>
            <a:ext cx="4724280" cy="3881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920" y="609480"/>
            <a:ext cx="4640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《</a:t>
            </a: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草地上的午餐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》   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528480"/>
            <a:ext cx="2895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爱德华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马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208CM*264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巴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奥赛博物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1240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这是一个经过精心安排的“午餐”，是画家寻求色彩对比的大胆实验。此画展出后，引起舆论大哗，作为挑战性作品，马奈被推入到印象派阵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9C12-28E9-4577-B487-D5B4062CAD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280" y="2617920"/>
            <a:ext cx="8763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在巴黎出生和去世的爱德加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是银行家之子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生来便是大资产阶级，在印象派画家笔下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形有溶解于气氛之中的倾向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而德加的画却始终保留着严格的形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对人工舞台灯光热爱要甚于阳光的喜爱，他喜欢表现人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但从不勿忙去勾勒人物的身影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因此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的艺术是新的贡献扩大和丰绘画形式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从一开始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就参加了印象派的几次画展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的晚年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由于视力下降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更喜欢作木炭画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简洁有力地增加层次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再以白粉画出亮光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同雷诺阿、莫奈、塞尚一样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与印象派的历史密不可分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3048120" cy="22748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520" y="990720"/>
            <a:ext cx="3954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  </a:t>
            </a: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爱德加</a:t>
            </a: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.</a:t>
            </a: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德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33D9-8FBD-41E4-A19A-6BDBA37394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7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7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06:24:05Z</dcterms:created>
  <dc:creator>Michael</dc:creator>
  <dc:description/>
  <dc:language>en-US</dc:language>
  <cp:lastModifiedBy>User</cp:lastModifiedBy>
  <dcterms:modified xsi:type="dcterms:W3CDTF">2009-02-22T15:13:58Z</dcterms:modified>
  <cp:revision>74</cp:revision>
  <dc:subject/>
  <dc:title>PowerPoint 演示文稿</dc:title>
</cp:coreProperties>
</file>