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7BA-1B60-43C7-B326-69148DCD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D18-6D97-42C6-B6B3-810454A0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E9443-6C34-4E0E-9621-5E132618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01CAE-DDB9-4123-BCC7-90EA66D1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03606-813A-4890-8787-DE032605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8848B-EB80-4206-9628-0AC3845D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F19E8-B329-451F-BA6E-916A0385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4E3DF-B03B-48A0-A523-986A6F77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549C0-C28F-49E6-B35F-1598FDBC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FCDDE-A13B-40C5-92F6-461532CA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5DD7A-82AF-46A4-AD8A-286BA189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8BD97-D9B1-4F93-98DB-4022DC4C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292-0FC1-4DBF-962D-50009CFC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25EFE-E29B-4D0E-94DE-DDB8CC74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1A885-99D3-4DF0-901E-575EA3FE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4428E-853B-4570-A697-6C9E5BDA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58E81-1C7F-46CD-908E-38AA8922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39315-F715-49EC-B4A8-C4D3E857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60B3B-E3B8-4AD5-BDEB-F42CCA87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4C769-8735-411E-AB09-00017F4E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5D96A-B795-44FD-89F1-53A68B4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DAABF-1075-4152-9050-9A902634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305C7-5869-4725-B6CD-5954171E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388-7D08-41EB-872C-D99455F7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5241D-5C78-4ED5-989A-4AA6CEC1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2619-C9EE-4624-9466-AC0FFBC1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FFAC1-FBEF-4D46-8C9D-77E1FB1F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8E2FA-35EB-4A28-A9C6-D0F4594D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84817-27D4-4C9A-8F8F-75DF787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164AF-6634-47E2-81AF-71660C8D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64197-E156-473E-BFB1-AF7E956A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3440A-C013-4C5E-9411-1611E32E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954B-EEA2-4FC6-BB0F-597DC4B2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57087-B1AA-401F-AFDB-62CE52DA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D7F0-FA0E-4159-9C4B-D8CB7FF0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DC645-A847-4225-91B4-CA4D778C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5503A-6A39-4AB2-ACCC-C6AAE7D5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582A2-7CD2-406F-B6E1-D6D03A68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CC3B-3C9A-4A1F-A3AB-E72B0B7A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DEFA-C80A-405F-8C23-79723039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1DE1-A402-4460-A22F-6F5265DE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FBE9-FF9F-4BDC-99BA-BE49A67B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3D1D-0101-46E8-B980-2184026C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22E4-5B75-43D8-A018-8BE53024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952-0DD0-4DCB-9A00-DA9DD97C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C8D9-F20C-4131-A1A9-0D684211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E1EB-05D4-4F59-AF7D-E2AAA7CF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1BF-933B-4774-B74D-0CDDE85C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A74D-343C-497B-A7BA-79DDC060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D835-27D6-498B-95D5-E95F74C6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A5D86-BE59-4347-A5E0-A4FDBC67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A46E-A955-4479-996B-9737CFDE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2517-F62B-4810-B458-6691616C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1FE1-0F06-40F1-91ED-929E4946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F3D3-F0E0-49BD-B9F5-3B709D53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3D6-F626-4848-A2AA-837781A2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7E7F-56E7-4C14-B9DC-2499C81A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E1E93-45EE-4914-95B5-D1A18DD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7B33-8953-4EDB-A107-C4BB6D9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C0E5-8493-470B-B447-BDF9AC4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E06B-B844-49FB-B155-339C76D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59B5-70DE-4BD0-9D91-CA229D2C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F4DF-D2C6-4643-9098-65603FFF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8EB9-445A-43D6-8B65-1E75EE72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994B-2D27-4D55-9624-6F96DC50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57680-4CAD-4A56-8112-9CF1556D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32D-818B-406E-9E49-5BB7712C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7253A-3A08-490D-AC63-F257F4EF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4335-C246-4EC6-840B-9374A68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D928A-6259-41B3-9BC6-29757D5D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F126-63C7-4535-9CE8-B115BEAC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7BDE-2DDF-4302-AA81-C0F1C4F2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84F6-6F8B-4971-9AEB-36D47FF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FA77-84D8-46AF-BE64-7E7C1B5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3306E-8FA0-4318-B686-4860D639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A030F-BC04-4D8F-9C18-3E4E2433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3BF21-3E0D-489E-962D-42304B7D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2EE-640E-46CF-9C53-819D567E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9AA96-8F68-4B8B-BE01-1032294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8084-09C2-44A3-85A1-D38862D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EDB33-EE80-4ACA-921E-B1838133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DD5E6-8157-4EF8-A176-C47400B8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00082-4B1C-4733-BA88-33E34618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7E443-B247-4E42-B640-20DA98C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F34F3-5315-4D0E-88EF-4168EC88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751B7-F2D2-452F-B582-5C631497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E495B-66E2-4780-BE27-10E7A4FC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290C-7517-46B6-B234-FC9613D3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E73-D183-432F-9B95-EB158F18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957A7-70DC-4BE9-9954-22C3B574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AA700-7A77-4FAA-BA58-49A84944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F6FF5-2B8A-47C8-A828-2D0647D7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81235-EDDA-44A5-8E60-ED35AB48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DFCF5-958C-4430-9B08-A5262944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52C9-1CCD-4ED2-89CC-0FE9F5B9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3AFDA-3AC6-4948-82BB-20E78EE3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3D8F6-E251-4290-B3BD-32E6FFF1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0CA2A-378E-4C43-910F-C51B9548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E99FE-D5A3-41E3-A276-3367F5F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76E-7987-4051-BE21-1085979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79D97-C9FA-4AE6-9FFC-68597119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F90C-AD9C-46DC-887B-FA714400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D9E8-1B53-466B-AEB0-28FE5E9E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0E5BE-DB50-4CB3-AFE8-EFD22789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065D3-07F6-4824-808E-4DABEADC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A19ED-5443-4A1E-80AD-C7443EB8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08922-3E1B-4C73-BA7B-B20729E1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C99C4-B1A2-4C95-B280-01BC40EA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52DA-0AFA-484B-BAE5-DD6A350A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E8463-741D-4037-BDF0-24A272FA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4D2-98AC-441D-9A19-BD4A5789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9CA65-1D34-4BA6-8531-611CAB1B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9045-FCB1-47C5-AE7A-AEBF5A91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0109B-D560-4B48-8FFC-B202DB72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E3F0B-9B74-49B2-B1AE-C9589522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27B15-93B7-4C8B-8AF4-119A6E5C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4E5A5-8A86-4FC9-BCDD-C4CD7392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0938-94B2-4516-9312-00A0A8A3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3C7E9-3A7E-4696-B6B1-E250259F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E52F2-E04D-457A-AABF-4C0229FC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EF1B7-F631-4E55-BCA4-126C58D9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E91-CE75-4BA7-8431-384D76A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FB9C5-86B3-4382-93EA-EB24D1EE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59F3B-11AB-4D9E-AB79-74492830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8FAC7-BAF9-44F1-BC6F-9C89DF8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3C263-38CD-4439-83BC-8F37833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33D8-C7EF-4481-8F52-B5FD119E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11812-3F1F-42B5-AB93-C825D1C7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CAF2F-379B-4834-A63F-5D32E2B5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1ABBF-FCF1-4516-869B-E7FFD8FA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8ADCC-4E31-41DE-8CA2-B43663B4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44911-26CD-4AC6-AF77-E2403E7B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076A-D218-4A00-82E6-E65AD024EDD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9DE5-83EE-4EAE-9B18-B3DECEBB51B1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65EA-F6DA-4F83-9012-2B16D413463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D02A-55D9-4C66-B2E2-0BF4C799D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CAB9-9189-4CAA-8AFE-D7BF7E63E6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F18-5892-43D3-B7DF-34C5116F7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9D39-6F88-47C2-9AFB-F24A06916A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4DEB-A983-4E75-8060-EF80C1C2E8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E824-FF81-422A-A29F-26378E123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8B59-FD32-4A18-90CE-07ECA087E5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3CB7-A02A-4604-99CD-0A45117FD8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2218;&#33828;&#26144;&#38634;.avi" TargetMode="External"/><Relationship Id="rId3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2"/>
          <p:cNvSpPr/>
          <p:nvPr/>
        </p:nvSpPr>
        <p:spPr>
          <a:xfrm>
            <a:off x="900000" y="148428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好书交朋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3323880" y="393372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468360" y="2565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556596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书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84360" y="2420640"/>
            <a:ext cx="45547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囊萤映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名人读书爱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五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班小读者读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朗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310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书是我们的朋友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336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推荐好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79280" y="263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最喜欢那一本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喜欢这本书的理由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通过阅读这本书，我的收获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1840" y="-4915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3508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87280" y="1484280"/>
            <a:ext cx="7201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饶舌《说书名》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五年级读书推荐书目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三国演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楼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水浒传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中外名人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名人名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岳飞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十万个为什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世界恐龙大百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动小学生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故事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爱的教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鲁滨逊漂流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雷锋的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上下五千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诗三百首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岩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故事大道理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童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人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我的大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262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书十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4194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泛读：广泛涉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精读：熟读精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读：鸟瞰全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跳读：思维跳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速读：一目十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55640" y="227628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略读：略观大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：温故知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读：动动笔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序读：阅读书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读：有所选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颁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8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阅读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捐书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摘抄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3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好书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一辈子的良师益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养成良好的阅读习惯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爱护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读书好 好读书 读好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做读书笔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摘抄本（读书手册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2:46:16Z</dcterms:created>
  <dc:creator>雨林木风</dc:creator>
  <dc:description/>
  <dc:language>en-US</dc:language>
  <cp:lastModifiedBy>微软用户</cp:lastModifiedBy>
  <dcterms:modified xsi:type="dcterms:W3CDTF">2008-10-31T11:59:16Z</dcterms:modified>
  <cp:revision>31</cp:revision>
  <dc:subject/>
  <dc:title>幻灯片 1</dc:title>
</cp:coreProperties>
</file>