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273-15EA-438C-BABD-D13AB61C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F5C-080B-4358-97C4-001D22F5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BB24F-3555-4672-876C-1340FA6F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1D423-BE9C-4FE7-9C46-CD7427BD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D3851-6445-4F15-BF5A-64D4D72C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A2FE6-3A36-44C9-9F76-7D16C4EF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80104-A69F-4107-ADC0-003E9D1C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9C11A-7FFE-4449-A6CA-C483ABFF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9D994-5A0E-4544-8434-DEB08688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28609-D85E-4B0C-AEFD-A2D3B174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7C9CA-3557-4377-8667-FA734355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ED3B8-B72E-4854-ABB5-EB2F5D9F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919-978F-4E81-81D1-1A33F4A4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3C45C-9B71-4BE4-B8F6-8E0BE8EF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2083C-BF25-41B1-BA10-FFA81239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2B09B-DCBE-4787-B9AF-FCE479B4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9AD07-4123-4226-A944-148D0636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446F1-F920-49F2-A2FE-D8A13921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D49D4-EE83-4783-B3E8-FD7BA73C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A2283-A8F1-46DD-AE1C-E878EF9F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5398E-3236-4239-A7B3-2E188941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E4DA4-4512-489F-B069-C3AA58AF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C3C6D-E806-4830-9A39-F33A3C5D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5F13-9E00-4677-9BA4-EEB6BA12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B60B2-179D-43F6-8E6E-FDC98DB5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31CDC-3446-4E8A-8548-06600FC0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1EC67-B2E3-46EC-BB6A-C2F99971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4E4A4-A772-4981-A921-7C1B059D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1B7AF-C583-4A95-B7AD-E2B3EDFD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D8905-BC41-43E6-AF9D-7511E730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D3292-8941-40B1-8FE1-1C2703A7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D55AA-9C1C-487A-BD75-86C49AB2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16327-6629-4880-BF64-3E8CAFFF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11E10-7B4E-4247-AE90-C6E91647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F8D9-863C-4795-A281-274604F8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F576A-84D7-43D9-8FD4-11F57BB2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5B96E-51C0-4418-A4C1-3104CDD5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0886C-DBBE-41F2-8D33-813CA5EC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37DF-9F7F-4458-BB50-2807AD5D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4274-EC71-48C3-850C-2726F69B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D498-4D5F-4960-8176-20E3ADFF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4F0C-1FD7-46B8-999E-6DC88EF0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FDDF-2DB8-4918-BC58-D0031304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7EDD-AE01-4C9A-9F9A-D41CC396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43E-204D-42AE-9B7A-6E70E640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F42A-FA0F-4DBE-B468-39D6DB9E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FBE6-EA3B-413E-99AE-0A1033CE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3C7F-403B-4ABB-85F9-977D41F6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F206-BE12-4F31-B949-7AA8074D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68C6-2E6C-4A33-ABAE-453C46DA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53C44-BBF1-4C42-BCAF-623A6E28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4E604-99CD-4612-916C-D6282F45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4089E-ABD3-4B0F-8C46-6E6524C7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B15CA-8D63-4408-8B7D-40134A4C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9B404-74A3-49A7-B19F-8561D825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856-D8ED-4E3A-A6AE-35C8A48A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71A6-C20B-407E-AF2A-C4C24C9D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8F3A4-51B4-459D-9393-D4C70E09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13AFC-1F2F-481F-A4EF-3F7B2729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CC18C-4B0D-45F7-BF70-A2632AB3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8106-8CE0-4A30-96D7-6B0A4F2A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4333-5111-4376-BFA9-B28AEC03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326C2-63E1-431D-983B-9112A845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593EE-9353-413B-90A3-43E130C1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8BE5-C6D5-4C08-B481-A93FE2A1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4A8DE-0563-4098-8656-B5B73E47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296-4AC9-44E8-BBF2-60C6C5B0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06CAE-7ED2-42B0-BC8B-1063B235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D2F89-61C3-42CE-BD0E-6E906A32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A7188-DD44-402A-B285-2C169F07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900D4-FEFD-4F4E-825A-E797CDC1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F1A68-2B72-4E60-ADFA-DF822C4F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62980-0EC8-4D25-AF1B-22A05DB0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94F27-0B18-4B99-8159-694E43A7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E5DCA-30C7-4134-B3E9-8773B471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04623-9C94-4F29-9D98-442981E8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D7251-6A1F-4208-A9DE-AF36EA4D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C22-32B8-4BFE-88A0-F842796A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B31A0-4967-41C2-936F-C471D848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32661-EE2C-485D-B216-7D275A3A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C8603-7D2F-498D-8AC1-6BE70D5F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48ABF-C019-400F-9B45-EBC7B0D4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2E586-3C01-4EF6-895C-F69B7494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F83C6-6C1F-43D6-B021-F5D4407B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838C1-4E1F-4BD0-B427-035E314E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55743-2B9D-409E-9AAD-095E29E2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92BB6-3A35-4F52-834D-DE9914E7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E7B16-D070-4BB8-A159-31CC2B3A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3D5-CF6C-4A7C-984E-1619FE3F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7FFB9-8DAE-4382-A1F1-FCC976FB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8B54E-633F-40B1-A8CC-B660838A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26BDD-EE13-4175-A1B3-201AF361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49BFF-1F5D-4525-BB2D-1D26D081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47961-FF4E-4FAF-BFFD-9F8A5BBB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8F8ED-022C-4D05-8902-FF1CCEC4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D7DAD-2E5F-4133-95C0-BAE5C3A0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F5264-91C0-4530-8360-60BD451E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F4B92-CC99-4C37-B43D-43EF405C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5B030-53A4-4682-9671-FF198B4E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118-CBD6-4E99-8FB7-778EA75A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082CD-2FE2-47F2-BC29-CBCCFEB4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CD98F-00BC-43E5-8A93-5991314E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2F107-D571-40A8-9BBF-35575433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FB8B8-D855-4A0F-B267-3F619AA5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4897B-FAF0-4806-848D-91F6385B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9CFFD-1905-4121-A88D-263A6919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DC126-95A4-4CB7-AA09-E0F1DB47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691CB-8B06-4803-932D-76865BAE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AEB2D-EBC4-42A1-9CD9-51437DF2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0B004-38E5-4896-9224-D42A1CFE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D53-5D21-45AB-9EBC-4D8F145A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60949-560D-46B9-BD49-0BBCB327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1C419-7840-4DF6-80C3-F18CFC6E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53940-8700-451C-A6F5-9C99685F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C3597-E596-4482-8394-BFC1F8E2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6335D-63BF-4394-94AE-76DA7EFB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F130A-7B0B-4C66-9F8D-DFC0A020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B567F-A9B2-49C4-927E-FA09FC73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C9A37-BA5B-40B5-9031-0E832FFE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D82F3-BF5F-4F07-9D2C-CFEEE201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B2FC1-E348-4B22-AC95-ACBF1D67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21D-DC72-4171-A2C2-49BA6A04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AD37C-863C-4E90-8740-76F6627A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F2124-C125-4E36-BD65-303826D1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ED202-D22D-4777-966E-B85567B6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FC21E-5661-4D51-AFAA-2A302616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02B28-559C-441F-93EE-BE0F8D76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C074B-A54D-4446-B246-8E435453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779CB-6A09-4DC6-8965-2AA8F841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F81F3-8096-4DA7-B213-CF96C884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614A1-8433-4677-971D-615040BB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5463E-0D7D-40B8-A773-3A8DD582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9A55-0BBF-4794-87BA-3AD7431E489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E2C9-E2CF-4154-BB37-2BC056601CFC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dt" idx="3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3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3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94A4-B95B-4725-80A5-70BF82A120FB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5BC2-BCBB-4D14-A2A0-270257A1A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7D8B-8B61-4166-ADB8-40A4DEC693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7A95-47F0-4277-A2AA-74831293C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903A-6645-43ED-AF41-C76AEE3C21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607A-C021-4250-8C0E-70C460CCB95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1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F824-D3A9-4416-93FE-1C3A45C94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4856-58F1-48C4-B251-E3F3BA93A3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3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7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548B-35EA-475B-88D4-AC7C5132D1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22218;&#33828;&#26144;&#38634;.avi" TargetMode="External"/><Relationship Id="rId3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12"/>
          <p:cNvSpPr/>
          <p:nvPr/>
        </p:nvSpPr>
        <p:spPr>
          <a:xfrm>
            <a:off x="900000" y="1484280"/>
            <a:ext cx="56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和好书交朋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3323880" y="3933720"/>
            <a:ext cx="28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7"/>
          <p:cNvSpPr/>
          <p:nvPr/>
        </p:nvSpPr>
        <p:spPr>
          <a:xfrm>
            <a:off x="468360" y="2565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556596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读书故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484360" y="2420640"/>
            <a:ext cx="45547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囊萤映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名人读书爱书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五（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班小读者读书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朗诵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1280" y="2923920"/>
            <a:ext cx="823104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书是我们的朋友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336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推荐好书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979280" y="2637000"/>
            <a:ext cx="583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最喜欢那一本书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喜欢这本书的理由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通过阅读这本书，我的收获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31840" y="-49150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35080" y="191124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187280" y="1484280"/>
            <a:ext cx="720108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饶舌《说书名》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五年级读书推荐书目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三国演义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楼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水浒传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西游记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中外名人故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名人名言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岳飞传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十万个为什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世界恐龙大百科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感动小学生的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个故事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爱的教育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鲁滨逊漂流记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钢铁是怎样炼成的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雷锋的故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上下五千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唐诗三百首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岩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海底两万里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小故事大道理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童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在人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我的大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3262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书十法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419436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泛读：广泛涉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精读：熟读精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通读：鸟瞰全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跳读：思维跳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速读：一目十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355640" y="227628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略读：略观大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再读：温故知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读：动动笔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序读：阅读书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选读：有所选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颁奖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58816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阅读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捐书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摘抄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30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好书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一辈子的良师益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养成良好的阅读习惯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爱护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读书好 好读书 读好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做读书笔记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摘抄本（读书手册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2:46:16Z</dcterms:created>
  <dc:creator>雨林木风</dc:creator>
  <dc:description/>
  <dc:language>en-US</dc:language>
  <cp:lastModifiedBy>微软用户</cp:lastModifiedBy>
  <dcterms:modified xsi:type="dcterms:W3CDTF">2008-10-31T11:59:16Z</dcterms:modified>
  <cp:revision>31</cp:revision>
  <dc:subject/>
  <dc:title>幻灯片 1</dc:title>
</cp:coreProperties>
</file>