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CF8-8216-4236-93C6-32A048BD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C6D-91A7-42B6-AED5-4EEB435E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C8567-F8D7-47B3-B6A2-89FCE83C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67949-FC04-4248-B60F-402180004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95A48-3007-4C74-A819-8A3D6139B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AB67D3-AB09-4056-9E34-DA9CE429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28CBE-13C9-420B-A0B1-FF596019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773039-A99D-4924-8CB7-A987518BE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8D914-E774-44FC-968D-90109D3D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69310F-C5D3-4354-A9C9-DC2E5B40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A8281-94FF-4F78-9555-BFE93574D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08843B-198A-48EB-9366-494B6A044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3FE5-E481-4C60-BCF7-E9542162F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0B29D-7556-4807-962A-101539C9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BCF088-5969-4793-887A-957A0D21F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9D38C-E5B0-4A59-936E-F1E486E74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67F20B-3EA7-48A1-9820-89E0BACB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88FA5-C257-47BD-88D9-78B37B90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DC0CC-C6C7-42AC-ABED-92D9942C8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92E71-FCAC-4DBE-9BE1-88F5840C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A968E-C4DF-49A9-9612-52A1CD563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795ADF-30DA-4771-9144-101D4AB1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181DE-AE20-41E1-8578-D7B0D55D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955-A739-41B2-B5EC-550325BBC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9DD61-DF0F-43D3-8D5B-7D14655C3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7EACB-284B-405A-A7D4-A7DDC6CF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4EB76-F4CC-4504-9A91-459A8282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6B998-F40F-4487-B1DE-8C3FEF55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B813C1-3CB2-4899-8958-DFD7E6A8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7A2627-6600-4B16-B5C8-2845F3CE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4B49A-EA26-4925-B42F-3DC6B096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C95F5-C300-4DDD-80AD-626E28C4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CCF0AF-A8F6-4889-981B-D8658FA9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C5265B-DB1D-48A0-8CA5-51E0E2CB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83E4-3C43-472E-9611-FBCCD64B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36160-47FD-4B47-9B84-671CEBD0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CE382-843D-4C5F-BD76-7BC627AA8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48199-86B9-4CF6-9C0B-804C7875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C1A42-58DD-4189-A198-FA24B97E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7AFD-B33E-48C2-898E-DD5A64318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97FD-25C4-402B-9096-AAD8ABE0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8F2A-9DEB-451C-A4F8-604D4A28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A829-E302-4DFB-AB6B-C62E4DBE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DC922-C364-4CE7-88D6-B5AA19F3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188F-34AB-425E-B11E-59025A321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72C3-B408-4DAA-8B4C-9D74DEE1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A0F3-FA52-4A91-A49C-5F7E7C4B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DFA87-1C8B-45C1-AE69-A6F855A3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958F-C0E2-45E0-9273-A6EB6793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0011-80FC-4844-B426-F29224A6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BB60A-D72D-403A-93EF-2D0AF5818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E7C1C-7D0B-4669-BD4F-74863E20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30621-1F97-4585-804A-71DF6EE9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9A5B-BCE9-44C5-9BCF-44A8140B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7EA3C-22D6-4A7B-BC9B-3704901A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8337-8F03-483E-BE21-5D947337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ED68A-10C2-4864-8367-328D654C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69751-20ED-4BDB-8C6F-F16612AD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74AA6-A3BE-4DDC-B407-5448AACB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EFEA0-2AA5-4482-9B9C-BAB304BD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203E-772A-4519-B364-6E2BD849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9226E-8818-47DA-882B-101BF8B93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DC051-C375-495B-BE31-38CA4F16F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B81E-8D6B-4825-AE25-5F42FE105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2D0CE-8EBD-441C-93C5-A4F1EA2A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89DCD-3F77-459C-B6B4-D4B751BF6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24DE-3E61-4B9A-BE4A-CE2385E3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9ABC2-5E16-46C7-BD9C-1F657F66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C1CC0-AA64-4A45-BC5D-3E4E8405F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73C9-960D-4E9F-B4FA-5B36C7A2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6A1EC-722F-4940-A78B-44F14A9C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0F910-2C37-47E6-8C56-3E0DF6A82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DBFC1-4523-46A2-970B-AE6D040C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9F85B-8F60-475B-818B-718E9CC6D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42BFA-08C8-4C50-B3F0-3E3C0B3E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3702D-2E46-4FE5-BE31-87356F57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D276E-3DF4-4C41-8BDA-CB059384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EF4C-2A88-4CAE-8BDD-D3350B1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859D0-8593-4010-B0C3-43947FBC2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C43167-AA38-4807-A16E-4D121E8F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00AC5-001E-4FEA-9F39-DFB185A1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60FDD-56AB-4B2A-9921-DB0E8FB3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A7414-76D0-4FEF-9016-553B1C5E5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AC883-A5FD-4D85-A163-21D295A4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F00002-4492-4216-82E4-839A44A0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3168C-4122-425A-90E8-A4E1EAFE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D3F48-0AF0-48F3-9B5D-8565CDEA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DC47-B179-4EFF-ACB5-E4EB2308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215C-1B88-4C71-8131-2615FE94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DBE4B-CA24-47FD-905E-5D1273A7C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3ACBB-5B6F-45D6-B3B7-96C56BEF8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50244-AD47-4F2A-8BFA-37FDB1F3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0EA4E-6F36-402E-84F1-50B3A93F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05016-E219-4E50-A5FE-422653C4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C7748-FF1C-4182-82E3-7F96A661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487AB-026A-4476-A91C-67AC2D19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0F804-C6C1-4CAF-9835-04C28CA0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43CBE-92B4-4F78-9CE9-D7B3AB3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7B336-77EC-40B8-B111-224F923B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A9F-364B-4A41-A5CC-2107DF28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9CAA0-B670-4D9A-85A5-EF3F2C33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2A5DD-4CE4-49A4-B0A1-487C1CA4D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ED647-689A-4914-B2E2-6827AA484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7252F-588F-49F0-9112-C79D1A13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41A87-8841-4A63-BAA5-4203B424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B0057-4434-4405-8AAE-8604D5F6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7F184-4117-42B2-92DE-1EFDA6CE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76A3E2-8C62-4BDC-80B0-1B22B821A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4EEA87-792F-4E8A-80B0-C8A1603A3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081F9A-F3CC-4BF7-9DAC-F1B961500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0A56-0A69-4E1D-9EDC-A00B3797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44F02-2BDE-44C5-A474-2F573DE8C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63919-A8F6-4095-B49D-57EB3E66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66563-930E-47D3-9A71-4820E63B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A49DF-FA44-497B-9127-D367CEA60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2D807-022D-4E8A-A2DF-3734F9E86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200C93-A0E7-4952-85AF-896D0FFAE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726661-BE2B-430B-9C05-3F0F176B5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90DE8-80D8-4BBC-B12E-90E2C5E2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EA241-1AD6-4CFE-ACE9-1428BF967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8EF19-1ACF-4431-92EE-3C5C175F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E66-706F-4406-9A9B-83460862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9038D-A9B2-4633-B1BA-A3D558393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BEC9B-83F8-413B-9423-E45ABD35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D685D-8D06-466B-9BF7-9C296E61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1C2B9-4B6C-47E6-B2AF-C31F82F80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C44D5-7078-4847-AFC5-BCA972D1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3F78C-621C-4C63-B31D-3EC47037F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E052A-2492-48B2-B5B8-EF53EC90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58E67-34EF-44B1-B501-AC888D6FA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1115C-AFD1-4727-A272-39A8C007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5AEE0-ED60-41F3-B1D2-AC8F6229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7D57-16FF-4DD6-9C28-DEF41474ABD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FA4B-4705-4DEB-A63B-22DA7D94E365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144B-724B-477D-9265-EF11922E2A57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4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C9CA-FC40-442C-B00A-BDD838704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04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B48B-FE65-4E67-A454-22E68DD5A63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ff66"/>
              </a:buClr>
              <a:buSzPct val="90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185F-E28B-464A-A18D-042D83DE2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89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71D9-B42D-483F-99EA-873249E856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0F47-F46B-46A7-B522-761D8BBDAD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10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29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BCB7-E9F5-4E95-A6B8-DCB96AA0C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38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92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49D6-0C7E-49C6-8D6E-DC7C0CB734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36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7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25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26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D21D-F2EB-4998-9338-F9CB777B34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file:///&#22218;&#33828;&#26144;&#38634;.avi" TargetMode="External"/><Relationship Id="rId3" Type="http://schemas.openxmlformats.org/officeDocument/2006/relationships/slideLayout" Target="../slideLayouts/slideLayout1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12"/>
          <p:cNvSpPr/>
          <p:nvPr/>
        </p:nvSpPr>
        <p:spPr>
          <a:xfrm>
            <a:off x="900000" y="1484280"/>
            <a:ext cx="56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和好书交朋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3323880" y="3933720"/>
            <a:ext cx="28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）班主题班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7"/>
          <p:cNvSpPr/>
          <p:nvPr/>
        </p:nvSpPr>
        <p:spPr>
          <a:xfrm>
            <a:off x="468360" y="256536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907640" y="765000"/>
            <a:ext cx="556596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读书故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484360" y="2420640"/>
            <a:ext cx="455472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囊萤映雪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名人读书爱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五（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班小读者读书故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2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2000"/>
                                        <p:tgtEl>
                                          <p:spTgt spid="6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24000" y="1052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诗朗诵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11280" y="2923920"/>
            <a:ext cx="8231040" cy="95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6000" spc="-1" strike="noStrike">
                <a:solidFill>
                  <a:srgbClr val="0033cc"/>
                </a:solidFill>
                <a:latin typeface="Arial"/>
              </a:rPr>
              <a:t>书是我们的朋友</a:t>
            </a:r>
            <a:r>
              <a:rPr b="0" lang="en-US" sz="6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3360" y="764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推荐好书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979280" y="2637000"/>
            <a:ext cx="58323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最喜欢那一本书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我喜欢这本书的理由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通过阅读这本书，我的收获是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31840" y="-491508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35080" y="1911240"/>
            <a:ext cx="6984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187280" y="1484280"/>
            <a:ext cx="720108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饶舌《说书名》</a:t>
            </a:r>
            <a:endParaRPr b="0" lang="en-US" sz="8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五年级读书推荐书目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三国演义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楼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水浒传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西游记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中外名人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名人名言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岳飞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十万个为什么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世界恐龙大百科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感动小学生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个故事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爱的教育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鲁滨逊漂流记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钢铁是怎样炼成的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雷锋的故事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上下五千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唐诗三百首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 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红岩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海底两万里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小故事大道理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童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在人间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《 </a:t>
            </a:r>
            <a:r>
              <a:rPr b="0" lang="zh-CN" sz="2800" spc="-1" strike="noStrike">
                <a:solidFill>
                  <a:srgbClr val="0033cc"/>
                </a:solidFill>
                <a:latin typeface="Arial"/>
              </a:rPr>
              <a:t>我的大学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3262320" cy="94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书十法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94920" y="2349000"/>
            <a:ext cx="419436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泛读：广泛涉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精读：熟读精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通读：鸟瞰全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跳读：思维跳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速读：一目十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355640" y="2276280"/>
            <a:ext cx="4194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略读：略观大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再读：温故知新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写读：动动笔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序读：阅读书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选读：有所选择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颁奖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58816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阅读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捐书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spcBef>
                <a:spcPts val="22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33cc"/>
                </a:solidFill>
                <a:latin typeface="Arial"/>
              </a:rPr>
              <a:t>摘抄之星</a:t>
            </a:r>
            <a:endParaRPr b="0" lang="en-US" sz="8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30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好书</a:t>
            </a: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——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一辈子的良师益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养成良好的阅读习惯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爱护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读书好 好读书 读好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做读书笔记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6600cc"/>
                </a:solidFill>
                <a:latin typeface="Arial"/>
              </a:rPr>
              <a:t>摘抄本（读书手册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2:46:16Z</dcterms:created>
  <dc:creator>雨林木风</dc:creator>
  <dc:description/>
  <dc:language>en-US</dc:language>
  <cp:lastModifiedBy>微软用户</cp:lastModifiedBy>
  <dcterms:modified xsi:type="dcterms:W3CDTF">2008-10-31T11:59:16Z</dcterms:modified>
  <cp:revision>31</cp:revision>
  <dc:subject/>
  <dc:title>幻灯片 1</dc:title>
</cp:coreProperties>
</file>