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DF9-2BC6-471F-BB59-F570C2BE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92BF-9CA3-4D20-8952-1836FF3F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453BD-A179-44B5-B3A9-9C52DE79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7F6B6-A536-4B76-9250-3DAC922D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B5903-7453-4E2B-8C5F-EB52D927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CB973-5B44-4F00-8842-1C6A433B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EC540-2384-453C-8D14-1361E429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62753-D795-4A84-99B8-9FD91AC1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288FF-D758-4753-96B1-C19A70CA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4F170-7A14-4D35-AC33-FC614325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B7865-E853-45A1-A43D-900E918A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92A6A-B703-4532-995F-3DB3162A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4EB-1240-4A1F-9014-6DCCBF2E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C374F-A960-4CB7-ACA5-74C88C02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CF2C0-D5A7-4E39-960B-CD2C2574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82B92-B80E-42BC-AB82-E425B3F7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7252E-F909-41C9-A22F-E61AB2AE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9EF5B-6E7A-4E7A-8995-DBAAF705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DB2D9-4485-43BC-A0D8-55AF2207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920E5-0A4A-4E01-B254-5B392B9E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55FE5-0557-4B22-9D47-D4C64B9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B5B24-873D-400A-BCC1-A4D40C05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BFB8C-9B6C-4BE1-A00D-A48D9036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882-2879-40DF-96BA-5DA6DD38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73D80-EFE1-4756-84C0-B5118679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667A1-401D-49DF-B82F-8E7A0889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ACB8E-DA13-4AF8-9760-3070A489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009B8-B432-4EC1-8D31-7E9176D8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05272-AB30-4EAE-BA6D-E3BCD5BF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64D8D-C38C-4134-8B8A-5B0A2271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29E7C-B70F-4149-B3A4-EA286951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D0A40-4FC0-4C9E-A1E4-E6157BB0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9793E-A8EE-4CEF-9BE9-FCA37FBB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A445E-E35B-4209-8118-926319AF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6232-20B2-43DC-9AD5-FB288D0B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B0026-4FC7-4DD7-9D27-45DE304D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DF8E1-2EBF-4714-B41A-AFD4AB70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54D4E-8388-4225-94E1-CF7318C4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0356-B4A9-4DE9-BD81-5E73D468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98E8-E124-4D90-BE2C-52DF0399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0B10-8520-4C5B-B3C1-2F7A3F63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4528-3B42-4FEB-9066-3B80E003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A8CD-AA6B-4E89-A6E1-A0931FCC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159C-D102-4D0B-96AD-DF6194DD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DD5-2170-49CF-A00C-CEDE9A24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E81A-6420-41C8-B2AF-A1CE9FF5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72EF-F668-42FE-BF49-443457C0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9752-8B68-41EA-A3B9-CC80BC19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F0F2-2150-4EC4-B805-280EABF7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2BE8-132B-47B3-9FA0-9820AF0F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A51D8-521E-4B46-BF72-314D47B8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5F91D-F297-4AF6-BD65-6743AED2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80058-F278-43F7-9DCA-D97DC755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65D70-7112-4026-BDD3-D0E880C3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E6FC5-FA9F-4B7B-B78D-4BFF425A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780-8269-4DC6-869D-7966D50A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0EF2-7E29-4975-9BD4-05362D6D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9ADDF-0AD8-4C61-A427-437C5204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A57EC-149F-4AB8-841D-7F33D5FF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E03D6-47BA-456F-A74D-BC106371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1EED-DE47-4B56-9C10-8407353A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1AFD-6430-4DFE-8775-9F71B3B8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1BF1-7017-42CF-8890-DA448052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005A1-2B43-4561-A7FE-9B2E3A84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A1B92-8EB4-4218-971C-06D1CC6B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1E8D7-9FA7-4446-9277-84F6739A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299-3AFD-496F-B30F-633886FD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94D21-C73C-4A04-8D6B-CFA3D457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6467F-5365-47BA-8535-A82AEC8C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52A03-2C86-4DB7-ADCE-95AE04C2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8D643-4917-4200-981A-04135BD0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D1DF1-889F-4AD1-9F93-331A5923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86E9D-265B-45F9-A054-6A19614B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C7654-3D81-4D11-9303-07261407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48223-935A-4051-B41D-291FA7A8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B675F-AB5E-4B3E-A732-63FC2053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47228-ED2C-487A-979A-A497AF3F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F44-3C73-45A0-A6B6-583637BA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DD9F4-6125-4FFA-B277-78BA6E7C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4A3FA-15DA-4DE3-B499-ADC6ACA4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7260A-51AB-4F53-8D29-DFE6A896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88DEC-3542-4E0A-B6D7-6B5B933C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BE675-646C-40EF-A0E5-2486BD38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F77FD-A501-4577-AAA5-C987EBCD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27803-54EF-4C51-BC1C-5E48EC2A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F14C5-C1C7-4B36-A614-BEE34D8E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F5919-AE42-4D3E-A11B-52675641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7374D-B0FB-4828-A14A-D431B6FD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EB06-E036-43B1-A25D-2694DB9B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CAD30-B2BE-4F38-B600-8586392A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317B0-DFD7-4436-8313-04F84555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7FF99-F88C-4D02-9544-D16EF61D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505F3-0FCD-4E06-8C4D-1D467E39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D90B4-973B-4622-A569-CF673A2D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06BD2-6948-4DDD-808B-19F4303E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D6DA1-EA88-49E6-AE44-31AE2C62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1BB03-1B11-4A03-AB0E-ED4BF299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598DA-D08B-4ABC-81AF-1973AD73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6E8B9-F7AD-4877-A86B-C8071210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469-DD3C-4C90-9140-6C68C15F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98B3F-BDD2-4E65-A2A6-0C7020DB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F0A40-4C16-458B-9878-A55DA198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B5188-C271-451D-9354-246453F5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DB2B3-4190-44AD-976A-3DB58094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AF42D-47C5-4638-B96D-54432818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5D0B7-F299-47B7-8BAB-5A7F1175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EF4A3-523D-4971-8B45-0259D6D5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47BF1-B8AD-4534-A9E6-B9CFA1C1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0F728-EB53-43B0-AEBA-3BB678A5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1F9F4-15D5-437D-B0BD-6827B416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38D-949A-4582-852C-F8A4E8D3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F61F9-E76D-4EA5-9717-E5CC1061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2B923-AA83-4C3B-BC18-9E6024E5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4E754-4A4C-426B-ACD5-3C30F9AE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87B98-04A3-4C79-BB77-91E9C0D8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14049-017F-4076-9412-0230718C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09FB7-20E5-4B26-A870-79F60295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1BAC8-8133-4E34-AFB7-3A446A47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BB594-CA85-4C3C-9459-905959CA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D9478-A53B-423C-B747-CCAC7623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DC1B3-515E-406F-A7F2-134E5718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635-2B8B-4AFA-BD7C-975293D5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253EF-3DF5-461F-B5B5-4204E275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530C9-9BD8-4AD8-BC30-EE5FF452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039F3-DA5A-477C-82C3-444AFE01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F7C96-0D0E-4AC2-BD85-D7EE4914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4D331-A7FA-43BE-A4CD-E4EC38C2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FEC0D-9A66-407E-BC4D-B1BB74D3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D07EB-20B5-4ACC-873E-7241CDCB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127A4-13A6-4FDD-931D-B41EB5D5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DC35B-F93E-4E52-BCEE-A2C42F71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47589-614E-4CB7-AFFC-E5C56B23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2FE6-95D7-4438-9C34-6371649890A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4CC4-A90D-460B-B673-4CE07929D13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dt" idx="31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32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3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4DAB-AD54-4894-B0E6-BC573334FE73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A9A4-C4B1-41A6-80C6-6797C138F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A330-9BC8-426A-B69D-2A80AFF946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6AB3-206A-4848-B697-DBFD5ADE7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391F-8688-48A3-98FF-85031D4247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E032-1FA0-45B5-99AC-E78BC84D6AD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1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DD05-0E75-46FB-96FD-00118B666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58FA-03D3-4E1C-841F-20CE86CF70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3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7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0E52-BFE8-4A3F-A0A0-C251B10852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22218;&#33828;&#26144;&#38634;.avi" TargetMode="External"/><Relationship Id="rId3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12"/>
          <p:cNvSpPr/>
          <p:nvPr/>
        </p:nvSpPr>
        <p:spPr>
          <a:xfrm>
            <a:off x="900000" y="1484280"/>
            <a:ext cx="56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和好书交朋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3323880" y="3933720"/>
            <a:ext cx="28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7"/>
          <p:cNvSpPr/>
          <p:nvPr/>
        </p:nvSpPr>
        <p:spPr>
          <a:xfrm>
            <a:off x="468360" y="2565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556596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读书故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484360" y="2420640"/>
            <a:ext cx="45547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囊萤映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名人读书爱书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五（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班小读者读书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诗朗诵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1280" y="2923920"/>
            <a:ext cx="823104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书是我们的朋友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336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推荐好书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979280" y="2637000"/>
            <a:ext cx="583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最喜欢那一本书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喜欢这本书的理由是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通过阅读这本书，我的收获是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31840" y="-49150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35080" y="191124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187280" y="1484280"/>
            <a:ext cx="720108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饶舌《说书名》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五年级读书推荐书目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三国演义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红楼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水浒传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西游记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中外名人故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名人名言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岳飞传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十万个为什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世界恐龙大百科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感动小学生的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个故事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爱的教育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鲁滨逊漂流记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钢铁是怎样炼成的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雷锋的故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上下五千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唐诗三百首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红岩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海底两万里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小故事大道理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童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在人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我的大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3262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书十法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419436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泛读：广泛涉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精读：熟读精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通读：鸟瞰全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跳读：思维跳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速读：一目十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355640" y="227628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略读：略观大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再读：温故知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读：动动笔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序读：阅读书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选读：有所选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颁奖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58816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阅读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捐书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摘抄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30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好书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一辈子的良师益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养成良好的阅读习惯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爱护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读书好 好读书 读好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做读书笔记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摘抄本（读书手册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2:46:16Z</dcterms:created>
  <dc:creator>雨林木风</dc:creator>
  <dc:description/>
  <dc:language>en-US</dc:language>
  <cp:lastModifiedBy>微软用户</cp:lastModifiedBy>
  <dcterms:modified xsi:type="dcterms:W3CDTF">2008-10-31T11:59:16Z</dcterms:modified>
  <cp:revision>31</cp:revision>
  <dc:subject/>
  <dc:title>幻灯片 1</dc:title>
</cp:coreProperties>
</file>