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69C-01D8-4083-8B5F-8840F4F7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E92-0709-40BC-B4B5-A7E7624E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2AB-7014-47CF-B4CF-55EA58D3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8C8-A15D-4A3C-A903-36AC5CDC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553-308D-480C-8D00-275E29E9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073-7DC2-4C1D-A38B-880AD853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8C2-4155-43D8-B34C-B2763689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623-8BC0-4981-99C2-1EE9AD0B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589-D4AB-4468-A607-B9821B3F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A14-26DC-49AA-8EFF-74219931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B70-CFA7-417C-8C33-A51C185F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4CC-8D12-4B9D-9877-FA80807B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C022-5B1F-4A53-92C3-FEB732BF6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4344;&#25196;&#20013;&#21326;&#20256;&#32479;&#32654;&#24503;&#65292;&#22521;&#20859;&#23401;&#23376;&#33391;&#22909;&#34892;&#20026;&#20064;&#24815;/&#38548;&#20195;&#25945;&#32946;&#30340;&#30410;&#22788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27360"/>
            <a:ext cx="9144000" cy="882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2133720"/>
            <a:ext cx="8497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光临指导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31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93236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02000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5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195640" y="2421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924360" y="278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32000" y="602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92436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248436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558000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82692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17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45164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7596360" y="333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7451640" y="3716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7440" y="3245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睡的习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369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睡前入厕解便，保证睡眠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脱衣服的顺序：鞋—裤子—衣服。衣物鞋袜要放在固定的地方，不要到处乱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姿势：右侧卧、仰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起床，不耐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自己穿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穿衣的顺序：衣服—裤子—袜子—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穿脱衣服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衣服、裤子、鞋子、袜子的反顺和倒顺；穿衣时要用手拉住里面的衣服，穿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要用袜子把里面的裤子扎起来，穿裤子  要一层一层的穿，里面的理清楚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里外面的，不要一起往上拉，裤子中缝对准肚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衣物的选择：孩子的衣物要选择舒适，有益孩子身心健康的，不要一味的追求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，太复杂的服饰孩子穿起来很麻烦，而且上厕所很不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常检查一下孩子衣物的情况，有的孩子衣物坏了都不知道，照样让孩子穿，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虽然可以培养孩子艰苦朴素的美德，但是如果不能保暖了，就会让孩子生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得不偿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孩子衣物的清洁卫生，不要很脏了还在穿，对孩子的身心健康很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525240" cy="813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6996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学习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   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902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首先要学会保持听的方向性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短时间内看着说话者；包括讲课的老师、发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伙伴。其次，要明白听到了什么；就是要带思考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。最后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出听不明白，或自己要补充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明听得很有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一开始得想清楚自己要说什么，甚至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里可以练一练；接着，要尽力把自己想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思，慢慢地、吐词清晰地说出来；最好，可以学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别人说的好的话，再说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看书讲故事、看图、看黑板；观察周围的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物、植物、天气等事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动手操作：画画、操作、运动、为自己和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服务等。有的孩子很懒惰，什么都不想动手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手能力就比其他小朋友差，家长一定要注意让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一些力所能及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436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尊敬长辈、爱同伴、互相谦让、待人接物、与人交往、社会公德、遵法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42920" y="3716280"/>
            <a:ext cx="764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禅解做孩子的基本要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《禅师眼里的儿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5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教育宝贝尊敬长辈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84360" y="1628640"/>
            <a:ext cx="75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坚定地拒绝宝贝对长辈的不适宜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把尊敬长辈的礼貌用语融入日常生活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跟宝贝议论其他人尊敬长辈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孩子体谅和关心长辈的状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日常生活照顾中减少包办代替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给孩子提供一些优秀的文艺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在宝贝面前说其他家长的坏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9577440" cy="813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劳动习惯：为自己为他人做力所能及的事情，爱惜劳动成果，尊重劳动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的劳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自我服务型劳动：比如穿鞋、穿衣服、洗手、洗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刷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所能及的一些家务活：擦桌子、拿碗筷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锻炼和提高技能型的劳动：帮父母买点简单的东西、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晒简单的小衣物、学习叠放衣物、整理图书、玩具、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、修补图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他人服务助人型的：帮父母端水、取拖鞋、捶背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惜劳动成果：内容很多，不浪费食物、节约用水，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惜所有的物品（包括桌椅板凳、装饰品、玩具、用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孩子知道这些东西都是来之不易的，是通过很多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才会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325080" cy="842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80080" y="58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三、孩子良好行为习惯形成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43200"/>
            <a:ext cx="57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留守儿童：父母不在身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爷爷奶奶外公外婆照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283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父母缺乏育儿的知识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000" y="37882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孩子教育认识有所偏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9640" y="4364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爱进行横向比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9640" y="4940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宝宝的方法简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70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三代人：意见不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692360" y="-1684440"/>
            <a:ext cx="11377800" cy="1008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、良好习惯养成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在环境： 《孟母三迁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文环境：成年人说话、待人接物、社会公德的遵守、亲人的关爱、家庭和睦等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该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父母要发挥好榜样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孩子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灌输正确的行为规范要从小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与孩子一起制定家庭行为规范（立规矩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坚持不懈，严格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者要求一致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隔代教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培养孩子在幼儿园独立处理事情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成人的帮助和放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允许孩子犯错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84360" y="-674640"/>
            <a:ext cx="10441080" cy="777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、我们老师的希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建议，少点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理解，少点埋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沟通，少点牢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配合，少点推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肯定，少点指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zh-CN" sz="9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谢 谢 大 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弘扬中华传统美德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443700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重庆滨江实验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中班家长培训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581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吕正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621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、弘扬中华传统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的重要意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3920"/>
            <a:ext cx="74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故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《一个连简历都保管不好的人是管理不好一个部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78792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故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《地毯上的纸团》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057320" cy="88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0835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科学奖获奖感言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69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良好行为习惯养成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的主要内容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120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主要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卫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907920"/>
            <a:ext cx="712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-343080"/>
            <a:ext cx="9252000" cy="720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912960"/>
            <a:ext cx="5143320" cy="594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237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幼儿一天膳食组成为例（以生食计算）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包括大米、面粉、小米、玉米面等）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—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半斤，也可用豆浆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与鸡蛋半个代替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鸡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瘦肉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包括禽类、鱼、肉、肝、动物血、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-7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豆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其制品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蔬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-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，其中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叶菜或橙黄色蔬菜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油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吃什么？吃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怎么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022480"/>
            <a:ext cx="633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挑食，是营养全面、身体健康起码的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时吃，形成规律，可以让胃肠规律性地完成消化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饭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鼓励孩子主动给老人让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8200" y="585000"/>
            <a:ext cx="7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、进餐不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151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暴食暴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边吃边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强迫孩子吃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教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桌之前就问孩子要吃什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孩子为中心，不顾及他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餐桌上吵吵嚷嚷，指责这个、埋怨那个，有时甚至将气出在孩子头上，使举桌不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吃不下饭，追着孩子一定要吃，其实是滥用父母的权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是孩子喜欢的，就一味满足他，而不知节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11088720" cy="864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268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98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579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不宜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汽水、果汁、乳酸菌饮料、太空水、矿泉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56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白开水、自制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4275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4:56:31Z</dcterms:created>
  <dc:creator>lcmzx</dc:creator>
  <dc:description/>
  <dc:language>en-US</dc:language>
  <cp:lastModifiedBy>lcmzx</cp:lastModifiedBy>
  <dcterms:modified xsi:type="dcterms:W3CDTF">2010-11-20T12:14:19Z</dcterms:modified>
  <cp:revision>10</cp:revision>
  <dc:subject/>
  <dc:title>幻灯片 1</dc:title>
</cp:coreProperties>
</file>