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3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2E5B-105A-4B80-BF1C-602AEFA2F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D55C-84AD-4B05-9768-522C2D57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F493-0219-4B7B-B1E4-8EC120A9C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E1BF-2593-4181-84D9-C9E3F5818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B414-7415-4076-9D06-4599B524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135F-F5D3-4300-8AF7-6157F6E9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259D-3B35-4EEF-A5E9-5C13E128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E571-01B9-43E2-AFD4-03A6B992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5A3F-5E22-4081-B6A6-B501D2F6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E6EC-4EC1-4FD3-A016-D052BFDE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89CB-20FE-4F75-A7E7-6E961E1F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21FB-4CB9-4672-918D-4C12641C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A458-606C-48D7-BA78-0C41665A02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file:///&#24344;&#25196;&#20013;&#21326;&#20256;&#32479;&#32654;&#24503;&#65292;&#22521;&#20859;&#23401;&#23376;&#33391;&#22909;&#34892;&#20026;&#20064;&#24815;/&#38548;&#20195;&#25945;&#32946;&#30340;&#30410;&#22788;.ppt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827360"/>
            <a:ext cx="9144000" cy="8829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08000" y="2133720"/>
            <a:ext cx="849780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欢迎各位家长光临指导</a:t>
            </a:r>
            <a:endParaRPr b="1" lang="en-US" sz="6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611280" y="5229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3203640" y="429264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5580000" y="31417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4932360" y="5013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7020000" y="57150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>
            <a:off x="1547640" y="3500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0"/>
          <a:stretch/>
        </p:blipFill>
        <p:spPr>
          <a:xfrm>
            <a:off x="2195640" y="2421000"/>
            <a:ext cx="95220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1"/>
          <a:stretch/>
        </p:blipFill>
        <p:spPr>
          <a:xfrm>
            <a:off x="3924360" y="2781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2"/>
          <a:stretch/>
        </p:blipFill>
        <p:spPr>
          <a:xfrm>
            <a:off x="3132000" y="6021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3"/>
          <a:stretch/>
        </p:blipFill>
        <p:spPr>
          <a:xfrm>
            <a:off x="3924360" y="260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4"/>
          <a:stretch/>
        </p:blipFill>
        <p:spPr>
          <a:xfrm>
            <a:off x="2484360" y="9079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5"/>
          <a:stretch/>
        </p:blipFill>
        <p:spPr>
          <a:xfrm>
            <a:off x="5580000" y="692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6"/>
          <a:stretch/>
        </p:blipFill>
        <p:spPr>
          <a:xfrm>
            <a:off x="826920" y="1159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7"/>
          <a:stretch/>
        </p:blipFill>
        <p:spPr>
          <a:xfrm>
            <a:off x="179280" y="1916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8"/>
          <a:stretch/>
        </p:blipFill>
        <p:spPr>
          <a:xfrm>
            <a:off x="7451640" y="2492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9"/>
          <a:stretch/>
        </p:blipFill>
        <p:spPr>
          <a:xfrm>
            <a:off x="7596360" y="333360"/>
            <a:ext cx="95220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0"/>
          <a:stretch/>
        </p:blipFill>
        <p:spPr>
          <a:xfrm>
            <a:off x="7451640" y="371628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-100080"/>
            <a:ext cx="9252000" cy="6958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116000" y="112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77440" y="32457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睡的习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54936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◆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睡的习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236960"/>
            <a:ext cx="8785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按时睡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睡前入厕解便，保证睡眠质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脱衣服的顺序：鞋—裤子—衣服。衣物鞋袜要放在固定的地方，不要到处乱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正确的姿势：右侧卧、仰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按时起床，不耐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学习自己穿衣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穿衣的顺序：衣服—裤子—袜子—鞋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正确的穿脱衣服的方法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识衣服、裤子、鞋子、袜子的反顺和倒顺；穿衣时要用手拉住里面的衣服，穿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裤子要用袜子把里面的裤子扎起来，穿裤子  要一层一层的穿，里面的理清楚，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然后在里外面的，不要一起往上拉，裤子中缝对准肚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衣物的选择：孩子的衣物要选择舒适，有益孩子身心健康的，不要一味的追求漂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亮，太复杂的服饰孩子穿起来很麻烦，而且上厕所很不方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常常检查一下孩子衣物的情况，有的孩子衣物坏了都不知道，照样让孩子穿，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样虽然可以培养孩子艰苦朴素的美德，但是如果不能保暖了，就会让孩子生病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得不偿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注意孩子衣物的清洁卫生，不要很脏了还在穿，对孩子的身心健康很不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181080" y="-1108080"/>
            <a:ext cx="9525240" cy="8137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68360" y="669960"/>
            <a:ext cx="8136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学习习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看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               </a:t>
            </a: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写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画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上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                   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26920" y="90252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听的习惯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孩子首先要学会保持听的方向性，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短时间内看着说话者；包括讲课的老师、发言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伙伴。其次，要明白听到了什么；就是要带思考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听。最后，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及时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提出听不明白，或自己要补充的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；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这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表明听得很有质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说的习惯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孩子一开始得想清楚自己要说什么，甚至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心里可以练一练；接着，要尽力把自己想表达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意思，慢慢地、吐词清晰地说出来；最好，可以学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运用别人说的好的话，再说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看的习惯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——看书讲故事、看图、看黑板；观察周围的人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动物、植物、天气等事物的变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动的习惯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——动手操作：画画、操作、运动、为自己和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服务等。有的孩子很懒惰，什么都不想动手，所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动手能力就比其他小朋友差，家长一定要注意让孩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做一些力所能及的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108000" y="0"/>
            <a:ext cx="9433080" cy="7029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4360" y="1268280"/>
            <a:ext cx="74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文明礼貌习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尊敬长辈、爱同伴、互相谦让、待人接物、与人交往、社会公德、遵法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042920" y="3716280"/>
            <a:ext cx="7640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禅解做孩子的基本要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《禅师眼里的儿子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75326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教育宝贝尊敬长辈的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684360" y="1628640"/>
            <a:ext cx="752472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坚定地拒绝宝贝对长辈的不适宜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把尊敬长辈的礼貌用语融入日常生活中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跟宝贝议论其他人尊敬长辈的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教育孩子体谅和关心长辈的状况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日常生活照顾中减少包办代替行为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给孩子提供一些优秀的文艺作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不在宝贝面前说其他家长的坏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181080" y="-603360"/>
            <a:ext cx="9577440" cy="8136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劳动习惯：为自己为他人做力所能及的事情，爱惜劳动成果，尊重劳动人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孩子的劳动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孩子自我服务型劳动：比如穿鞋、穿衣服、洗手、洗脸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刷牙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力所能及的一些家务活：擦桌子、拿碗筷等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锻炼和提高技能型的劳动：帮父母买点简单的东西、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晒简单的小衣物、学习叠放衣物、整理图书、玩具、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包、修补图书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为他人服务助人型的：帮父母端水、取拖鞋、捶背等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爱惜劳动成果：内容很多，不浪费食物、节约用水，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惜所有的物品（包括桌椅板凳、装饰品、玩具、用具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让孩子知道这些东西都是来之不易的，是通过很多人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努力才会有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-963720"/>
            <a:ext cx="9325080" cy="8425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780080" y="5824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三、孩子良好行为习惯形成存在的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76360" y="1843200"/>
            <a:ext cx="578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留守儿童：父母不在身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有爷爷奶奶外公外婆照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6360" y="32835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父母缺乏育儿的知识经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6000" y="3788280"/>
            <a:ext cx="7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对孩子教育认识有所偏差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69640" y="4364640"/>
            <a:ext cx="7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家长爱进行横向比较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69640" y="4940640"/>
            <a:ext cx="7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教育宝宝的方法简单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6360" y="270828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三代人：意见不统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1692360" y="-1684440"/>
            <a:ext cx="11377800" cy="100821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5688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四、良好习惯养成的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-252720" y="148428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外在环境： 《孟母三迁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文环境：成年人说话、待人接物、社会公德的遵守、亲人的关爱、家庭和睦等等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家长该做些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父母要发挥好榜样作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了解孩子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灌输正确的行为规范要从小开始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与孩子一起制定家庭行为规范（立规矩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坚持不懈，严格要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教者要求一致（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/>
              </a:rPr>
              <a:t>隔代教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7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培养孩子在幼儿园独立处理事情的能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8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成人的帮助和放手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请允许孩子犯错。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-684360" y="-674640"/>
            <a:ext cx="10441080" cy="77756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四、我们老师的希望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多点建议，少点意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多点理解，少点埋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多点沟通，少点牢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多点配合，少点推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多点肯定，少点指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2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4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6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8" dur="2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0" dur="2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-181080" y="-316080"/>
            <a:ext cx="9506160" cy="72741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zh-CN" sz="9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谢 谢 大 家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628640"/>
            <a:ext cx="82915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弘扬中华传统美德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培养孩子良好行为习惯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43280" y="4437000"/>
            <a:ext cx="295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重庆滨江实验幼儿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中班家长培训学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24360" y="458136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吕正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87280" y="62136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一、弘扬中华传统美德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培养孩子良好行为习惯的重要意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2563920"/>
            <a:ext cx="745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故事一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《一个连简历都保管不好的人是管理不好一个部门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26920" y="3787920"/>
            <a:ext cx="36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故事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《地毯上的纸团》</a:t>
            </a:r>
            <a:r>
              <a:rPr b="1" lang="zh-CN" sz="2000" spc="-1" strike="noStrike">
                <a:solidFill>
                  <a:srgbClr val="6600cc"/>
                </a:solidFill>
                <a:latin typeface="Arial"/>
                <a:ea typeface="楷体_GB2312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076720" y="4005360"/>
            <a:ext cx="1057320" cy="885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26920" y="5083560"/>
            <a:ext cx="36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科学奖获奖感言</a:t>
            </a:r>
            <a:r>
              <a:rPr b="1" lang="zh-CN" sz="2000" spc="-1" strike="noStrike">
                <a:solidFill>
                  <a:srgbClr val="6600cc"/>
                </a:solidFill>
                <a:latin typeface="Arial"/>
                <a:ea typeface="楷体_GB2312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9280" y="0"/>
            <a:ext cx="699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二、良好行为习惯养成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   的主要内容和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012040"/>
            <a:ext cx="8136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（一）主要内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生活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学习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文明礼貌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卫生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71640" y="907920"/>
            <a:ext cx="712944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◆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活习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108000" y="-343080"/>
            <a:ext cx="9252000" cy="7201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140360" y="912960"/>
            <a:ext cx="5143320" cy="59450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923760"/>
            <a:ext cx="417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99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以幼儿一天膳食组成为例（以生食计算）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主食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（包括大米、面粉、小米、玉米面等）约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50—20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克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——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）。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牛奶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50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克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半斤，也可用豆浆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5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克与鸡蛋半个代替）。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鸡蛋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个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瘦肉类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包括禽类、鱼、肉、肝、动物血、约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0-75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克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——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5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）。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豆类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及其制品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5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克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.5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）。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蔬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50-20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克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——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），其中有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/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应是绿叶菜或橙黄色蔬菜。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水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个。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糖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-15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克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油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-15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克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吃什么？吃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71640" y="69228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、怎么吃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2022480"/>
            <a:ext cx="63374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◆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不挑食，是营养全面、身体健康起码的保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◆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定时吃，形成规律，可以让胃肠规律性地完成消化运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◆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吃饭保持安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◆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鼓励孩子主动给老人让菜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66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618200" y="585000"/>
            <a:ext cx="76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、进餐不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1815120"/>
            <a:ext cx="748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暴食暴饮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边吃边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强迫孩子吃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教养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6600ff"/>
                </a:solidFill>
                <a:latin typeface="Arial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桌之前就问孩子要吃什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6600ff"/>
                </a:solidFill>
                <a:latin typeface="Arial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孩子为中心，不顾及他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6600ff"/>
                </a:solidFill>
                <a:latin typeface="Arial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餐桌上吵吵嚷嚷，指责这个、埋怨那个，有时甚至将气出在孩子头上，使举桌不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6600ff"/>
                </a:solidFill>
                <a:latin typeface="Arial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孩子吃不下饭，追着孩子一定要吃，其实是滥用父母的权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6600ff"/>
                </a:solidFill>
                <a:latin typeface="Arial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要是孩子喜欢的，就一味满足他，而不知节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1044720" y="-458640"/>
            <a:ext cx="11088720" cy="8640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11280" y="1268280"/>
            <a:ext cx="40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◆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喝的习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9879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喝什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57956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不宜喝什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汽水、果汁、乳酸菌饮料、太空水、矿泉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256428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白开水、自制果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34275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喝多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500ml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左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4:56:31Z</dcterms:created>
  <dc:creator>lcmzx</dc:creator>
  <dc:description/>
  <dc:language>en-US</dc:language>
  <cp:lastModifiedBy>lcmzx</cp:lastModifiedBy>
  <dcterms:modified xsi:type="dcterms:W3CDTF">2010-11-20T12:14:19Z</dcterms:modified>
  <cp:revision>10</cp:revision>
  <dc:subject/>
  <dc:title>幻灯片 1</dc:title>
</cp:coreProperties>
</file>