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23.jpeg" ContentType="image/jpeg"/>
  <Override PartName="/ppt/media/image18.jpeg" ContentType="image/jpeg"/>
  <Override PartName="/ppt/media/image3.gif" ContentType="image/gif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4.jpeg" ContentType="image/jpe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7C1BA-2993-438F-BCA0-249BCE7D5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6A4F0-33FA-4DEE-BA4B-1DAF963F1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5EC3E-501C-43E0-B070-43ECB3F93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BEE24-5621-456D-B338-7AF878945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4D2A4-EF9C-4F8C-8493-B6875B659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29452-472F-445F-B135-1622CDA83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FF033-8DB6-40E1-8F97-A39541782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E6757-0C2B-4066-A661-F96D9BC93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9DDDD-4FE4-462C-BDF3-1BA8F4521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1CFB6-DF4C-4874-83B3-3E1106BBE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ECBB2-41FE-4AA3-92DE-E21498E41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E3F79-045E-440F-9578-2C21AE9AA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46743-174F-40EC-BD42-79FF2A619BE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image" Target="../media/image3.gif"/><Relationship Id="rId7" Type="http://schemas.openxmlformats.org/officeDocument/2006/relationships/image" Target="../media/image3.gif"/><Relationship Id="rId8" Type="http://schemas.openxmlformats.org/officeDocument/2006/relationships/image" Target="../media/image3.gif"/><Relationship Id="rId9" Type="http://schemas.openxmlformats.org/officeDocument/2006/relationships/image" Target="../media/image3.gif"/><Relationship Id="rId10" Type="http://schemas.openxmlformats.org/officeDocument/2006/relationships/image" Target="../media/image3.gif"/><Relationship Id="rId11" Type="http://schemas.openxmlformats.org/officeDocument/2006/relationships/image" Target="../media/image3.gif"/><Relationship Id="rId12" Type="http://schemas.openxmlformats.org/officeDocument/2006/relationships/image" Target="../media/image3.gif"/><Relationship Id="rId13" Type="http://schemas.openxmlformats.org/officeDocument/2006/relationships/image" Target="../media/image3.gif"/><Relationship Id="rId14" Type="http://schemas.openxmlformats.org/officeDocument/2006/relationships/image" Target="../media/image3.gif"/><Relationship Id="rId15" Type="http://schemas.openxmlformats.org/officeDocument/2006/relationships/image" Target="../media/image3.gif"/><Relationship Id="rId16" Type="http://schemas.openxmlformats.org/officeDocument/2006/relationships/image" Target="../media/image3.gif"/><Relationship Id="rId17" Type="http://schemas.openxmlformats.org/officeDocument/2006/relationships/image" Target="../media/image3.gif"/><Relationship Id="rId18" Type="http://schemas.openxmlformats.org/officeDocument/2006/relationships/image" Target="../media/image3.gif"/><Relationship Id="rId19" Type="http://schemas.openxmlformats.org/officeDocument/2006/relationships/image" Target="../media/image3.gif"/><Relationship Id="rId20" Type="http://schemas.openxmlformats.org/officeDocument/2006/relationships/image" Target="../media/image3.gif"/><Relationship Id="rId2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hyperlink" Target="file:///&#24344;&#25196;&#20013;&#21326;&#20256;&#32479;&#32654;&#24503;&#65292;&#22521;&#20859;&#23401;&#23376;&#33391;&#22909;&#34892;&#20026;&#20064;&#24815;/&#38548;&#20195;&#25945;&#32946;&#30340;&#30410;&#22788;.ppt" TargetMode="External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1827360"/>
            <a:ext cx="9144000" cy="8829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108000" y="2133720"/>
            <a:ext cx="8497800" cy="21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楷体_GB2312"/>
              </a:rPr>
              <a:t>欢迎各位家长光临指导</a:t>
            </a:r>
            <a:endParaRPr b="1" lang="en-US" sz="60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pic>
        <p:nvPicPr>
          <p:cNvPr id="43" name="" descr=""/>
          <p:cNvPicPr/>
          <p:nvPr/>
        </p:nvPicPr>
        <p:blipFill>
          <a:blip r:embed="rId4"/>
          <a:stretch/>
        </p:blipFill>
        <p:spPr>
          <a:xfrm>
            <a:off x="611280" y="5229360"/>
            <a:ext cx="952560" cy="11430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5"/>
          <a:stretch/>
        </p:blipFill>
        <p:spPr>
          <a:xfrm>
            <a:off x="3203640" y="4292640"/>
            <a:ext cx="952560" cy="11430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6"/>
          <a:stretch/>
        </p:blipFill>
        <p:spPr>
          <a:xfrm>
            <a:off x="5580000" y="3141720"/>
            <a:ext cx="95256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7"/>
          <a:stretch/>
        </p:blipFill>
        <p:spPr>
          <a:xfrm>
            <a:off x="4932360" y="5013360"/>
            <a:ext cx="952560" cy="11430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8"/>
          <a:stretch/>
        </p:blipFill>
        <p:spPr>
          <a:xfrm>
            <a:off x="7020000" y="5715000"/>
            <a:ext cx="952560" cy="11430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9"/>
          <a:stretch/>
        </p:blipFill>
        <p:spPr>
          <a:xfrm>
            <a:off x="1547640" y="3500280"/>
            <a:ext cx="952560" cy="11430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10"/>
          <a:stretch/>
        </p:blipFill>
        <p:spPr>
          <a:xfrm>
            <a:off x="2195640" y="2421000"/>
            <a:ext cx="952200" cy="11430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11"/>
          <a:stretch/>
        </p:blipFill>
        <p:spPr>
          <a:xfrm>
            <a:off x="3924360" y="2781360"/>
            <a:ext cx="95256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12"/>
          <a:stretch/>
        </p:blipFill>
        <p:spPr>
          <a:xfrm>
            <a:off x="3132000" y="6021360"/>
            <a:ext cx="952560" cy="11430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13"/>
          <a:stretch/>
        </p:blipFill>
        <p:spPr>
          <a:xfrm>
            <a:off x="3924360" y="260280"/>
            <a:ext cx="952560" cy="11430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14"/>
          <a:stretch/>
        </p:blipFill>
        <p:spPr>
          <a:xfrm>
            <a:off x="2484360" y="907920"/>
            <a:ext cx="952560" cy="11430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15"/>
          <a:stretch/>
        </p:blipFill>
        <p:spPr>
          <a:xfrm>
            <a:off x="5580000" y="692280"/>
            <a:ext cx="952560" cy="11430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16"/>
          <a:stretch/>
        </p:blipFill>
        <p:spPr>
          <a:xfrm>
            <a:off x="826920" y="115920"/>
            <a:ext cx="952560" cy="1143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17"/>
          <a:stretch/>
        </p:blipFill>
        <p:spPr>
          <a:xfrm>
            <a:off x="179280" y="1916280"/>
            <a:ext cx="952560" cy="11430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18"/>
          <a:stretch/>
        </p:blipFill>
        <p:spPr>
          <a:xfrm>
            <a:off x="7451640" y="2492280"/>
            <a:ext cx="952560" cy="11430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19"/>
          <a:stretch/>
        </p:blipFill>
        <p:spPr>
          <a:xfrm>
            <a:off x="7596360" y="333360"/>
            <a:ext cx="952200" cy="11430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0"/>
          <a:stretch/>
        </p:blipFill>
        <p:spPr>
          <a:xfrm>
            <a:off x="7451640" y="3716280"/>
            <a:ext cx="9525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-100080"/>
            <a:ext cx="9252000" cy="695808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1116000" y="1125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177440" y="324576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睡的习惯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68360" y="549360"/>
            <a:ext cx="403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◆ 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睡的习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50920" y="1236960"/>
            <a:ext cx="878508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按时睡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睡前入厕解便，保证睡眠质量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脱衣服的顺序：鞋—裤子—衣服。衣物鞋袜要放在固定的地方，不要到处乱放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正确的姿势：右侧卧、仰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按时起床，不耐床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学习自己穿衣服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穿衣的顺序：衣服—裤子—袜子—鞋子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正确的穿脱衣服的方法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认识衣服、裤子、鞋子、袜子的反顺和倒顺；穿衣时要用手拉住里面的衣服，穿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裤子要用袜子把里面的裤子扎起来，穿裤子  要一层一层的穿，里面的理清楚，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然后在里外面的，不要一起往上拉，裤子中缝对准肚脐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9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衣物的选择：孩子的衣物要选择舒适，有益孩子身心健康的，不要一味的追求漂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亮，太复杂的服饰孩子穿起来很麻烦，而且上厕所很不方便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常常检查一下孩子衣物的情况，有的孩子衣物坏了都不知道，照样让孩子穿，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样虽然可以培养孩子艰苦朴素的美德，但是如果不能保暖了，就会让孩子生病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会得不偿失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1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注意孩子衣物的清洁卫生，不要很脏了还在穿，对孩子的身心健康很不好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-181080" y="-1108080"/>
            <a:ext cx="9525240" cy="81374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468360" y="669960"/>
            <a:ext cx="813600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ff"/>
                </a:solidFill>
                <a:latin typeface="楷体_GB2312"/>
                <a:ea typeface="楷体_GB2312"/>
              </a:rPr>
              <a:t>学习习惯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4000" spc="-1" strike="noStrike">
                <a:solidFill>
                  <a:srgbClr val="6600ff"/>
                </a:solidFill>
                <a:latin typeface="楷体_GB2312"/>
                <a:ea typeface="楷体_GB2312"/>
              </a:rPr>
              <a:t>看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ff"/>
                </a:solidFill>
                <a:latin typeface="楷体_GB2312"/>
                <a:ea typeface="楷体_GB2312"/>
              </a:rPr>
              <a:t>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ff"/>
                </a:solidFill>
                <a:latin typeface="楷体_GB2312"/>
                <a:ea typeface="楷体_GB2312"/>
              </a:rPr>
              <a:t>                   </a:t>
            </a:r>
            <a:r>
              <a:rPr b="1" lang="zh-CN" sz="4000" spc="-1" strike="noStrike">
                <a:solidFill>
                  <a:srgbClr val="6600ff"/>
                </a:solidFill>
                <a:latin typeface="楷体_GB2312"/>
                <a:ea typeface="楷体_GB2312"/>
              </a:rPr>
              <a:t>写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ff"/>
                </a:solidFill>
                <a:latin typeface="楷体_GB2312"/>
                <a:ea typeface="楷体_GB2312"/>
              </a:rPr>
              <a:t>画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ff"/>
                </a:solidFill>
                <a:latin typeface="楷体_GB2312"/>
                <a:ea typeface="楷体_GB2312"/>
              </a:rPr>
              <a:t>         </a:t>
            </a:r>
            <a:r>
              <a:rPr b="1" lang="zh-CN" sz="4000" spc="-1" strike="noStrike">
                <a:solidFill>
                  <a:srgbClr val="6600ff"/>
                </a:solidFill>
                <a:latin typeface="楷体_GB2312"/>
                <a:ea typeface="楷体_GB2312"/>
              </a:rPr>
              <a:t>上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ff"/>
                </a:solidFill>
                <a:latin typeface="楷体_GB2312"/>
                <a:ea typeface="楷体_GB2312"/>
              </a:rPr>
              <a:t>                       …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ff"/>
                </a:solidFill>
                <a:latin typeface="楷体_GB2312"/>
                <a:ea typeface="楷体_GB2312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826920" y="902520"/>
            <a:ext cx="7848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听的习惯</a:t>
            </a:r>
            <a:r>
              <a:rPr b="1" lang="en-US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——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孩子首先要学会保持听的方向性，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在短时间内看着说话者；包括讲课的老师、发言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伙伴。其次，要明白听到了什么；就是要带思考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听。最后，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及时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提出听不明白，或自己要补充的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；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这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表明听得很有质量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说的习惯</a:t>
            </a:r>
            <a:r>
              <a:rPr b="1" lang="en-US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——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孩子一开始得想清楚自己要说什么，甚至在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心里可以练一练；接着，要尽力把自己想表达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意思，慢慢地、吐词清晰地说出来；最好，可以学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运用别人说的好的话，再说说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看的习惯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——看书讲故事、看图、看黑板；观察周围的人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动物、植物、天气等事物的变化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动的习惯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——动手操作：画画、操作、运动、为自己和他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人服务等。有的孩子很懒惰，什么都不想动手，所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动手能力就比其他小朋友差，家长一定要注意让孩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做一些力所能及的事情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-108000" y="0"/>
            <a:ext cx="9433080" cy="702936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684360" y="1268280"/>
            <a:ext cx="748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文明礼貌习惯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   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尊敬长辈、爱同伴、互相谦让、待人接物、与人交往、社会公德、遵法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3"/>
          <p:cNvSpPr/>
          <p:nvPr/>
        </p:nvSpPr>
        <p:spPr>
          <a:xfrm>
            <a:off x="1042920" y="3716280"/>
            <a:ext cx="76406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禅解做孩子的基本要义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           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《禅师眼里的儿子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52000" cy="753264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楷体_GB2312"/>
              </a:rPr>
              <a:t>教育宝贝尊敬长辈的方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3"/>
          <p:cNvSpPr/>
          <p:nvPr/>
        </p:nvSpPr>
        <p:spPr>
          <a:xfrm>
            <a:off x="684360" y="1628640"/>
            <a:ext cx="752472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、坚定地拒绝宝贝对长辈的不适宜行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、把尊敬长辈的礼貌用语融入日常生活中</a:t>
            </a:r>
            <a:r>
              <a:rPr b="0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、跟宝贝议论其他人尊敬长辈的行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、教育孩子体谅和关心长辈的状况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5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、日常生活照顾中减少包办代替行为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6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、给孩子提供一些优秀的文艺作品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7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、不在宝贝面前说其他家长的坏话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-181080" y="-603360"/>
            <a:ext cx="9577440" cy="813600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楷体_GB2312"/>
              </a:rPr>
              <a:t>劳动习惯：为自己为他人做力所能及的事情，爱惜劳动成果，尊重劳动人民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孩子的劳动内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孩子自我服务型劳动：比如穿鞋、穿衣服、洗手、洗脸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刷牙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力所能及的一些家务活：擦桌子、拿碗筷等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锻炼和提高技能型的劳动：帮父母买点简单的东西、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晒简单的小衣物、学习叠放衣物、整理图书、玩具、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包、修补图书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为他人服务助人型的：帮父母端水、取拖鞋、捶背等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爱惜劳动成果：内容很多，不浪费食物、节约用水，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惜所有的物品（包括桌椅板凳、装饰品、玩具、用具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让孩子知道这些东西都是来之不易的，是通过很多人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努力才会有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1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1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1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-963720"/>
            <a:ext cx="9325080" cy="842508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4780080" y="58248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三、孩子良好行为习惯形成存在的问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476360" y="1843200"/>
            <a:ext cx="578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、留守儿童：父母不在身边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         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有爷爷奶奶外公外婆照顾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476360" y="3283560"/>
            <a:ext cx="45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、父母缺乏育儿的知识经验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276000" y="3788280"/>
            <a:ext cx="78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、对孩子教育认识有所偏差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969640" y="4364640"/>
            <a:ext cx="78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5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、家长爱进行横向比较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969640" y="4940640"/>
            <a:ext cx="78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6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、教育宝宝的方法简单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476360" y="2708280"/>
            <a:ext cx="38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、三代人：意见不统一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-1692360" y="-1684440"/>
            <a:ext cx="11377800" cy="1008216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360" y="549360"/>
            <a:ext cx="56880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四、良好习惯养成的条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-252720" y="1484280"/>
            <a:ext cx="939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外在环境： 《孟母三迁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人文环境：成年人说话、待人接物、社会公德的遵守、亲人的关爱、家庭和睦等等内容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家长该做些什么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（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）父母要发挥好榜样作用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（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2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）了解孩子。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（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3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）灌输正确的行为规范要从小开始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（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4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）与孩子一起制定家庭行为规范（立规矩）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（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5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）坚持不懈，严格要求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（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6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）教者要求一致（</a:t>
            </a:r>
            <a:r>
              <a:rPr b="0" lang="zh-CN" sz="20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2"/>
              </a:rPr>
              <a:t>隔代教育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）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（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7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）培养孩子在幼儿园独立处理事情的能力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（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8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）成人的帮助和放手 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9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）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请允许孩子犯错。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-684360" y="-674640"/>
            <a:ext cx="10441080" cy="777564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Arial"/>
                <a:ea typeface="楷体_GB2312"/>
              </a:rPr>
              <a:t>四、我们老师的希望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9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楷体_GB2312"/>
              </a:rPr>
              <a:t>多点建议，少点意见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ctr">
              <a:spcBef>
                <a:spcPts val="9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楷体_GB2312"/>
              </a:rPr>
              <a:t>多点理解，少点埋怨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ctr">
              <a:spcBef>
                <a:spcPts val="9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楷体_GB2312"/>
              </a:rPr>
              <a:t>多点沟通，少点牢骚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ctr">
              <a:spcBef>
                <a:spcPts val="9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楷体_GB2312"/>
              </a:rPr>
              <a:t>多点配合，少点推卸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ctr">
              <a:spcBef>
                <a:spcPts val="9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楷体_GB2312"/>
              </a:rPr>
              <a:t>多点肯定，少点指责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2" dur="2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7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4" dur="20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7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6" dur="20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7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8" dur="20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7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0" dur="20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-181080" y="-316080"/>
            <a:ext cx="9506160" cy="7274160"/>
          </a:xfrm>
          <a:prstGeom prst="rect">
            <a:avLst/>
          </a:prstGeom>
          <a:ln w="0">
            <a:noFill/>
          </a:ln>
        </p:spPr>
      </p:pic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179280" y="1600200"/>
            <a:ext cx="896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i="1" lang="zh-CN" sz="96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谢 谢 大 家！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8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24000" y="1628640"/>
            <a:ext cx="829152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楷体_GB2312"/>
              </a:rPr>
              <a:t>弘扬中华传统美德</a:t>
            </a: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楷体_GB2312"/>
              </a:rPr>
              <a:t>培养孩子良好行为习惯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843280" y="4437000"/>
            <a:ext cx="2950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楷体_GB2312"/>
              </a:rPr>
              <a:t>重庆滨江实验幼儿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楷体_GB2312"/>
              </a:rPr>
              <a:t>中班家长培训学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724360" y="4581360"/>
            <a:ext cx="151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楷体_GB2312"/>
              </a:rPr>
              <a:t>吕正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187280" y="621360"/>
            <a:ext cx="6985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一、弘扬中华传统美德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   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培养孩子良好行为习惯的重要意义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26920" y="2563920"/>
            <a:ext cx="7456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故事一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《一个连简历都保管不好的人是管理不好一个部门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826920" y="3787920"/>
            <a:ext cx="367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cc"/>
                </a:solidFill>
                <a:latin typeface="Arial"/>
                <a:ea typeface="楷体_GB2312"/>
              </a:rPr>
              <a:t>故事二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cc"/>
                </a:solidFill>
                <a:latin typeface="Arial"/>
                <a:ea typeface="楷体_GB2312"/>
              </a:rPr>
              <a:t>《地毯上的纸团》</a:t>
            </a:r>
            <a:r>
              <a:rPr b="1" lang="zh-CN" sz="2000" spc="-1" strike="noStrike">
                <a:solidFill>
                  <a:srgbClr val="6600cc"/>
                </a:solidFill>
                <a:latin typeface="Arial"/>
                <a:ea typeface="楷体_GB2312"/>
              </a:rPr>
              <a:t>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5076720" y="4005360"/>
            <a:ext cx="1057320" cy="8856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826920" y="5083560"/>
            <a:ext cx="367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cc"/>
                </a:solidFill>
                <a:latin typeface="Arial"/>
                <a:ea typeface="楷体_GB2312"/>
              </a:rPr>
              <a:t>科学奖获奖感言</a:t>
            </a:r>
            <a:r>
              <a:rPr b="1" lang="zh-CN" sz="2000" spc="-1" strike="noStrike">
                <a:solidFill>
                  <a:srgbClr val="6600cc"/>
                </a:solidFill>
                <a:latin typeface="Arial"/>
                <a:ea typeface="楷体_GB2312"/>
              </a:rPr>
              <a:t>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0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179280" y="0"/>
            <a:ext cx="6994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楷体_GB2312"/>
              </a:rPr>
              <a:t>二、良好行为习惯养成</a:t>
            </a: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楷体_GB2312"/>
              </a:rPr>
              <a:t>                  的主要内容和方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0" y="2012040"/>
            <a:ext cx="813600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楷体_GB2312"/>
              </a:rPr>
              <a:t>（一）主要内容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楷体_GB2312"/>
              </a:rPr>
              <a:t>                              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楷体_GB2312"/>
              </a:rPr>
              <a:t>生活习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楷体_GB2312"/>
              </a:rPr>
              <a:t>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楷体_GB2312"/>
              </a:rPr>
              <a:t>      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楷体_GB2312"/>
              </a:rPr>
              <a:t>学习习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楷体_GB2312"/>
              </a:rPr>
              <a:t>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楷体_GB2312"/>
              </a:rPr>
              <a:t>                         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楷体_GB2312"/>
              </a:rPr>
              <a:t>文明礼貌习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楷体_GB2312"/>
              </a:rPr>
              <a:t>      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楷体_GB2312"/>
              </a:rPr>
              <a:t>卫生习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971640" y="907920"/>
            <a:ext cx="7129440" cy="47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◆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生活习惯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   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       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           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撒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               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-108000" y="-343080"/>
            <a:ext cx="9252000" cy="720108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4140360" y="912960"/>
            <a:ext cx="5143320" cy="594504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0" y="923760"/>
            <a:ext cx="4176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99"/>
                </a:solidFill>
                <a:latin typeface="Arial"/>
              </a:rPr>
              <a:t>       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以幼儿一天膳食组成为例（以生食计算）　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主食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：（包括大米、面粉、小米、玉米面等）约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50—200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克（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3——4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两）。　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牛奶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：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250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克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半斤，也可用豆浆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50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克与鸡蛋半个代替）。　　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鸡蛋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：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个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　　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瘦肉类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：包括禽类、鱼、肉、肝、动物血、约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60-75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克（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.2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两——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.5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两）。　　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豆类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及其制品：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25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克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0.5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两）。　　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蔬菜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：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50-200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克（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3——4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两），其中有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/2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应是绿叶菜或橙黄色蔬菜。　　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水果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：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个。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　　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糖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：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0-15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克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。　　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油：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0-15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克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吃什么？吃多少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971640" y="692280"/>
            <a:ext cx="381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楷体_GB2312"/>
              </a:rPr>
              <a:t>2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楷体_GB2312"/>
              </a:rPr>
              <a:t>、怎么吃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55640" y="2022480"/>
            <a:ext cx="633744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◆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不挑食，是营养全面、身体健康起码的保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◆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定时吃，形成规律，可以让胃肠规律性地完成消化运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◆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吃饭保持安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◆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楷体_GB2312"/>
              </a:rPr>
              <a:t>鼓励孩子主动给老人让菜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4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9660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618200" y="585000"/>
            <a:ext cx="76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ff"/>
                </a:solidFill>
                <a:latin typeface="楷体_GB2312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9933ff"/>
                </a:solidFill>
                <a:latin typeface="楷体_GB2312"/>
                <a:ea typeface="楷体_GB2312"/>
              </a:rPr>
              <a:t>、进餐不宜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55640" y="1815120"/>
            <a:ext cx="74883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◆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暴食暴饮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◆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边吃边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◆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强迫孩子吃饭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◆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良教养方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1800" spc="-1" strike="noStrike">
                <a:solidFill>
                  <a:srgbClr val="6600ff"/>
                </a:solidFill>
                <a:latin typeface="Arial"/>
              </a:rPr>
              <a:t>●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上桌之前就问孩子要吃什么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1800" spc="-1" strike="noStrike">
                <a:solidFill>
                  <a:srgbClr val="6600ff"/>
                </a:solidFill>
                <a:latin typeface="Arial"/>
              </a:rPr>
              <a:t>●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以孩子为中心，不顾及他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1800" spc="-1" strike="noStrike">
                <a:solidFill>
                  <a:srgbClr val="6600ff"/>
                </a:solidFill>
                <a:latin typeface="Arial"/>
              </a:rPr>
              <a:t>●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餐桌上吵吵嚷嚷，指责这个、埋怨那个，有时甚至将气出在孩子头上，使举桌不欢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1800" spc="-1" strike="noStrike">
                <a:solidFill>
                  <a:srgbClr val="6600ff"/>
                </a:solidFill>
                <a:latin typeface="Arial"/>
              </a:rPr>
              <a:t>●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孩子吃不下饭，追着孩子一定要吃，其实是滥用父母的权力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1800" spc="-1" strike="noStrike">
                <a:solidFill>
                  <a:srgbClr val="6600ff"/>
                </a:solidFill>
                <a:latin typeface="Arial"/>
              </a:rPr>
              <a:t>●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只要是孩子喜欢的，就一味满足他，而不知节制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-1044720" y="-458640"/>
            <a:ext cx="11088720" cy="864072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611280" y="1268280"/>
            <a:ext cx="403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◆ 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喝的习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24000" y="198792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cc"/>
                </a:solidFill>
                <a:latin typeface="Arial"/>
                <a:ea typeface="楷体_GB2312"/>
              </a:rPr>
              <a:t>喝什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4360" y="4579560"/>
            <a:ext cx="60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cc"/>
                </a:solidFill>
                <a:latin typeface="Arial"/>
                <a:ea typeface="楷体_GB2312"/>
              </a:rPr>
              <a:t>不宜喝什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楷体_GB2312"/>
              </a:rPr>
              <a:t>汽水、果汁、乳酸菌饮料、太空水、矿泉水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24000" y="256428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楷体_GB2312"/>
              </a:rPr>
              <a:t>白开水、自制果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3427560"/>
            <a:ext cx="36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cc"/>
                </a:solidFill>
                <a:latin typeface="Arial"/>
                <a:ea typeface="楷体_GB2312"/>
              </a:rPr>
              <a:t>喝多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楷体_GB2312"/>
              </a:rPr>
              <a:t>500ml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楷体_GB2312"/>
              </a:rPr>
              <a:t>左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4T14:56:31Z</dcterms:created>
  <dc:creator>lcmzx</dc:creator>
  <dc:description/>
  <dc:language>en-US</dc:language>
  <cp:lastModifiedBy>lcmzx</cp:lastModifiedBy>
  <dcterms:modified xsi:type="dcterms:W3CDTF">2010-11-20T12:14:19Z</dcterms:modified>
  <cp:revision>10</cp:revision>
  <dc:subject/>
  <dc:title>幻灯片 1</dc:title>
</cp:coreProperties>
</file>