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0C3-CD90-459C-89D8-168C2FAB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0F4-CE1A-4BFC-BDCD-EF175DEE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AA4-D409-46F3-8606-F5DCDC7C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26C-1A7F-46BE-97F3-4E63E1B7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26C-8580-4B2A-B4A9-7E9B7C55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B9A-181D-4ABF-8C35-4809A7CE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424-2F5F-4979-9B97-97DA4BE1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3F8-24FF-4B69-8E92-3FE7F6DE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886-0493-4CCC-AE16-87DB7324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266-7AC3-46C5-85DF-D138C2F4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316-62B5-4F52-A814-BD2A106E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A7C-83EC-4A65-8E62-AEEEF498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A24E-BBFF-44C3-8A6E-A4E6FA1CEA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" Target="slide9.xm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-2038" b="1954"/>
          <a:stretch/>
        </p:blipFill>
        <p:spPr>
          <a:xfrm>
            <a:off x="539640" y="765000"/>
            <a:ext cx="8280360" cy="547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39960" y="6019920"/>
            <a:ext cx="36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3280" y="4076640"/>
            <a:ext cx="1277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诗意江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4040" y="3718080"/>
            <a:ext cx="1277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梦里水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76360" y="1916280"/>
            <a:ext cx="579132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镇的早晨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6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北师大版 三年级 语文上册 第四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5445000"/>
            <a:ext cx="418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0" t="0" r="1918" b="7238"/>
          <a:stretch/>
        </p:blipFill>
        <p:spPr>
          <a:xfrm>
            <a:off x="6948360" y="620640"/>
            <a:ext cx="2016360" cy="15130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390920" y="620640"/>
            <a:ext cx="2557440" cy="3581640"/>
            <a:chOff x="4390920" y="620640"/>
            <a:chExt cx="2557440" cy="358164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4390920" y="1892520"/>
              <a:ext cx="2557440" cy="23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390920" y="620640"/>
              <a:ext cx="2557440" cy="153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014560" y="1989000"/>
            <a:ext cx="4933800" cy="392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79280" y="5300640"/>
            <a:ext cx="1835280" cy="154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79280" y="620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rcRect l="0" t="28590" r="3563" b="3335"/>
          <a:stretch/>
        </p:blipFill>
        <p:spPr>
          <a:xfrm>
            <a:off x="179280" y="1989000"/>
            <a:ext cx="1764000" cy="129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rcRect l="0" t="0" r="293" b="10770"/>
          <a:stretch/>
        </p:blipFill>
        <p:spPr>
          <a:xfrm>
            <a:off x="2014560" y="620640"/>
            <a:ext cx="2376360" cy="13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179280" y="32767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rcRect l="0" t="0" r="1843" b="8186"/>
          <a:stretch/>
        </p:blipFill>
        <p:spPr>
          <a:xfrm>
            <a:off x="6948360" y="2131920"/>
            <a:ext cx="201636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rcRect l="0" t="7691" r="0" b="15635"/>
          <a:stretch/>
        </p:blipFill>
        <p:spPr>
          <a:xfrm>
            <a:off x="6948360" y="3789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14560" y="5334120"/>
            <a:ext cx="252108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535640" y="5315040"/>
            <a:ext cx="2412720" cy="1542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rcRect l="0" t="0" r="0" b="4474"/>
          <a:stretch/>
        </p:blipFill>
        <p:spPr>
          <a:xfrm>
            <a:off x="6948360" y="5189400"/>
            <a:ext cx="2016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6121440" cy="411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4797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卖东西的人一张张淳朴的脸上带着微笑，热情地向走进的人介绍着自己的产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33360"/>
            <a:ext cx="914400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缫丝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蚕茧在水中煮，找出丝头，拉出一条丝，众多蚕茧拉出众多丝，供做丝绵或织绸缎使用。这抽丝过程叫缫丝。做这件事的工厂是缫丝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3456000" cy="4543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38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2744" t="2754" r="5121" b="5902"/>
          <a:stretch/>
        </p:blipFill>
        <p:spPr>
          <a:xfrm>
            <a:off x="1187280" y="1268280"/>
            <a:ext cx="6696360" cy="450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63640" y="3286080"/>
            <a:ext cx="4411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0" lang="en-US" sz="4000" spc="1" strike="noStrike">
              <a:ln w="0">
                <a:noFill/>
              </a:ln>
              <a:solidFill>
                <a:srgbClr val="ffcc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22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由朗读全文，读准字音、读通句子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78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捕鱼   忙碌   轻盈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介绍   移动   丝绸  荡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穿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拔河   满意  摆手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遥遥相对      目不暇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4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4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4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4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6431040"/>
            <a:ext cx="6553080" cy="42696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136000" cy="546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13771" b="0"/>
          <a:stretch/>
        </p:blipFill>
        <p:spPr>
          <a:xfrm>
            <a:off x="826920" y="981000"/>
            <a:ext cx="7632720" cy="51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052640"/>
            <a:ext cx="8496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门庭若市     熙熙攘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摩肩接踵     络绎不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山人海     人来人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763800" cy="59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-346680" y="1557360"/>
            <a:ext cx="6714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829" t="0" r="0" b="0"/>
          <a:stretch/>
        </p:blipFill>
        <p:spPr>
          <a:xfrm>
            <a:off x="4788000" y="333360"/>
            <a:ext cx="36018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2228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0"/>
            <a:ext cx="8424720" cy="764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李海龙</cp:lastModifiedBy>
  <dcterms:modified xsi:type="dcterms:W3CDTF">2012-11-01T14:22:38Z</dcterms:modified>
  <cp:revision>990</cp:revision>
  <dc:subject/>
  <dc:title>幻灯片 1</dc:title>
</cp:coreProperties>
</file>