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97A-A5EE-45C5-AC58-00FB0851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6CF-4EDF-4DD5-8E15-5F03E62A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518-E28A-44B9-ABE9-8C3DBCB3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B51-ADEA-42CD-A8FE-81C18B3C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8E7-8062-4420-9A14-DCB84007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F42-7375-4F8C-AB72-E0C65F20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BFC-053B-494C-BD3F-3950E3F7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B20-B38E-4FE5-BAC4-F002FE0E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DB6-ADB3-4020-B154-78CC509A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D85-35FB-4FBD-B0F0-7723651E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5A0-A6CA-4B96-B033-EE50ABAC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B2D-B0D0-4754-90EA-8FB37B7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1DAF-16A1-45ED-9804-93808D4476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" Target="slide9.xm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-2038" b="1954"/>
          <a:stretch/>
        </p:blipFill>
        <p:spPr>
          <a:xfrm>
            <a:off x="539640" y="765000"/>
            <a:ext cx="8280360" cy="547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39960" y="6019920"/>
            <a:ext cx="36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3280" y="4076640"/>
            <a:ext cx="127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诗意江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4040" y="3718080"/>
            <a:ext cx="1277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梦里水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76360" y="1916280"/>
            <a:ext cx="579132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镇的早晨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6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北师大版 三年级 语文上册 第四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5445000"/>
            <a:ext cx="418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0" r="1918" b="7238"/>
          <a:stretch/>
        </p:blipFill>
        <p:spPr>
          <a:xfrm>
            <a:off x="6948360" y="620640"/>
            <a:ext cx="201636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390920" y="620640"/>
            <a:ext cx="2557440" cy="3581640"/>
            <a:chOff x="4390920" y="620640"/>
            <a:chExt cx="2557440" cy="358164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4390920" y="1892520"/>
              <a:ext cx="2557440" cy="23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390920" y="620640"/>
              <a:ext cx="2557440" cy="15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014560" y="1989000"/>
            <a:ext cx="4933800" cy="392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79280" y="5300640"/>
            <a:ext cx="1835280" cy="154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79280" y="620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rcRect l="0" t="28590" r="3563" b="3335"/>
          <a:stretch/>
        </p:blipFill>
        <p:spPr>
          <a:xfrm>
            <a:off x="179280" y="1989000"/>
            <a:ext cx="1764000" cy="129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rcRect l="0" t="0" r="293" b="10770"/>
          <a:stretch/>
        </p:blipFill>
        <p:spPr>
          <a:xfrm>
            <a:off x="2014560" y="62064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179280" y="32767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rcRect l="0" t="0" r="1843" b="8186"/>
          <a:stretch/>
        </p:blipFill>
        <p:spPr>
          <a:xfrm>
            <a:off x="6948360" y="2131920"/>
            <a:ext cx="201636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rcRect l="0" t="7691" r="0" b="15635"/>
          <a:stretch/>
        </p:blipFill>
        <p:spPr>
          <a:xfrm>
            <a:off x="6948360" y="3789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14560" y="5334120"/>
            <a:ext cx="252108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535640" y="5315040"/>
            <a:ext cx="2412720" cy="1542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rcRect l="0" t="0" r="0" b="4474"/>
          <a:stretch/>
        </p:blipFill>
        <p:spPr>
          <a:xfrm>
            <a:off x="6948360" y="5189400"/>
            <a:ext cx="2016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6121440" cy="411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卖东西的人一张张淳朴的脸上带着微笑，热情地向走进的人介绍着自己的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33360"/>
            <a:ext cx="914400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缫丝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蚕茧在水中煮，找出丝头，拉出一条丝，众多蚕茧拉出众多丝，供做丝绵或织绸缎使用。这抽丝过程叫缫丝。做这件事的工厂是缫丝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456000" cy="4543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38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2744" t="2754" r="5121" b="5902"/>
          <a:stretch/>
        </p:blipFill>
        <p:spPr>
          <a:xfrm>
            <a:off x="1187280" y="1268280"/>
            <a:ext cx="6696360" cy="450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63640" y="3286080"/>
            <a:ext cx="4411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ffcc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22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由朗读全文，读准字音、读通句子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78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捕鱼   忙碌   轻盈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介绍   移动   丝绸  荡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穿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拔河   满意  摆手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遥遥相对      目不暇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4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4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4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4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6431040"/>
            <a:ext cx="6553080" cy="4269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136000" cy="546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13771" b="0"/>
          <a:stretch/>
        </p:blipFill>
        <p:spPr>
          <a:xfrm>
            <a:off x="826920" y="981000"/>
            <a:ext cx="7632720" cy="51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052640"/>
            <a:ext cx="8496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门庭若市     熙熙攘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摩肩接踵     络绎不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山人海     人来人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763800" cy="59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-346680" y="1557360"/>
            <a:ext cx="6714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829" t="0" r="0" b="0"/>
          <a:stretch/>
        </p:blipFill>
        <p:spPr>
          <a:xfrm>
            <a:off x="4788000" y="333360"/>
            <a:ext cx="36018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2228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0"/>
            <a:ext cx="8424720" cy="76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李海龙</cp:lastModifiedBy>
  <dcterms:modified xsi:type="dcterms:W3CDTF">2012-11-01T14:22:38Z</dcterms:modified>
  <cp:revision>990</cp:revision>
  <dc:subject/>
  <dc:title>幻灯片 1</dc:title>
</cp:coreProperties>
</file>