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4AE9-7725-4257-B3AE-B82B0DFB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2105-5CB7-4F2A-ABDD-E322EFDD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AD7A-31F1-44CC-874E-3655D085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5B81-314E-4F75-9C5E-09806E72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E48C-9E23-46CB-A7A7-822B2D88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6A68-1E41-43E0-8D6B-C01DED68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74D4-3F4F-45F7-80C0-5E0331DF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AC8F-0A8C-4D59-8393-6F92D3B2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9E09-7FF0-43F9-8CD4-6793D88D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5C34-1BAF-4792-A189-FD2C295F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2750-736C-411E-82E2-B9494B17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8ABB-939C-4454-8AA4-EBB75B89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7D8C-9115-48FF-926B-A016E98055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" Target="slide9.xml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-2038" b="1954"/>
          <a:stretch/>
        </p:blipFill>
        <p:spPr>
          <a:xfrm>
            <a:off x="539640" y="765000"/>
            <a:ext cx="8280360" cy="5472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139960" y="6019920"/>
            <a:ext cx="36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73280" y="4076640"/>
            <a:ext cx="12776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诗意江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44040" y="3718080"/>
            <a:ext cx="12776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梦里水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476360" y="1916280"/>
            <a:ext cx="5791320" cy="13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小镇的早晨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60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北师大版 三年级 语文上册 第四单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1280" y="5445000"/>
            <a:ext cx="4181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rcRect l="0" t="0" r="1918" b="7238"/>
          <a:stretch/>
        </p:blipFill>
        <p:spPr>
          <a:xfrm>
            <a:off x="6948360" y="620640"/>
            <a:ext cx="2016360" cy="151308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4390920" y="620640"/>
            <a:ext cx="2557440" cy="3581640"/>
            <a:chOff x="4390920" y="620640"/>
            <a:chExt cx="2557440" cy="3581640"/>
          </a:xfrm>
        </p:grpSpPr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4390920" y="1892520"/>
              <a:ext cx="2557440" cy="23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4390920" y="620640"/>
              <a:ext cx="2557440" cy="153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014560" y="1989000"/>
            <a:ext cx="4933800" cy="3927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79280" y="5300640"/>
            <a:ext cx="1835280" cy="154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179280" y="620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rcRect l="0" t="28590" r="3563" b="3335"/>
          <a:stretch/>
        </p:blipFill>
        <p:spPr>
          <a:xfrm>
            <a:off x="179280" y="1989000"/>
            <a:ext cx="1764000" cy="1297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rcRect l="0" t="0" r="293" b="10770"/>
          <a:stretch/>
        </p:blipFill>
        <p:spPr>
          <a:xfrm>
            <a:off x="2014560" y="620640"/>
            <a:ext cx="2376360" cy="136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1"/>
          <a:stretch/>
        </p:blipFill>
        <p:spPr>
          <a:xfrm>
            <a:off x="179280" y="327672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2"/>
          <a:srcRect l="0" t="0" r="1843" b="8186"/>
          <a:stretch/>
        </p:blipFill>
        <p:spPr>
          <a:xfrm>
            <a:off x="6948360" y="2131920"/>
            <a:ext cx="2016360" cy="1657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3"/>
          <a:srcRect l="0" t="7691" r="0" b="15635"/>
          <a:stretch/>
        </p:blipFill>
        <p:spPr>
          <a:xfrm>
            <a:off x="6948360" y="3789360"/>
            <a:ext cx="2016360" cy="144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4"/>
          <a:stretch/>
        </p:blipFill>
        <p:spPr>
          <a:xfrm>
            <a:off x="2014560" y="5334120"/>
            <a:ext cx="2521080" cy="1523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5"/>
          <a:stretch/>
        </p:blipFill>
        <p:spPr>
          <a:xfrm>
            <a:off x="4535640" y="5315040"/>
            <a:ext cx="2412720" cy="1542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6"/>
          <a:srcRect l="0" t="0" r="0" b="4474"/>
          <a:stretch/>
        </p:blipFill>
        <p:spPr>
          <a:xfrm>
            <a:off x="6948360" y="5189400"/>
            <a:ext cx="20163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619280" y="765000"/>
            <a:ext cx="6121440" cy="4113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87280" y="479736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卖东西的人一张张淳朴的脸上带着微笑，热情地向走进的人介绍着自己的产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333360"/>
            <a:ext cx="9144000" cy="23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缫丝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将蚕茧在水中煮，找出丝头，拉出一条丝，众多蚕茧拉出众多丝，供做丝绵或织绸缎使用。这抽丝过程叫缫丝。做这件事的工厂是缫丝厂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3456000" cy="4543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788000" y="1197000"/>
            <a:ext cx="3384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rcRect l="2744" t="2754" r="5121" b="5902"/>
          <a:stretch/>
        </p:blipFill>
        <p:spPr>
          <a:xfrm>
            <a:off x="1187280" y="1268280"/>
            <a:ext cx="6696360" cy="4500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763640" y="3286080"/>
            <a:ext cx="44118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再见</a:t>
            </a:r>
            <a:endParaRPr b="0" lang="en-US" sz="4000" spc="1" strike="noStrike">
              <a:ln w="0">
                <a:noFill/>
              </a:ln>
              <a:solidFill>
                <a:srgbClr val="ffcc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zoom dir="ou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>
            <a:lum bright="42000"/>
          </a:blip>
          <a:srcRect l="0" t="0" r="-2038" b="1954"/>
          <a:stretch/>
        </p:blipFill>
        <p:spPr>
          <a:xfrm>
            <a:off x="0" y="0"/>
            <a:ext cx="9325080" cy="6237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1699920"/>
            <a:ext cx="87822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学提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由朗读全文，读准字音、读通句子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4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>
            <a:lum bright="42000"/>
          </a:blip>
          <a:srcRect l="0" t="0" r="-2038" b="1954"/>
          <a:stretch/>
        </p:blipFill>
        <p:spPr>
          <a:xfrm>
            <a:off x="0" y="0"/>
            <a:ext cx="9325080" cy="6237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7822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捕鱼   忙碌   轻盈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置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介绍   移动   丝绸  荡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穿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着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拔河   满意  摆手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遥遥相对      目不暇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4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4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4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4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76360" y="6431040"/>
            <a:ext cx="6553080" cy="42696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8136000" cy="546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rcRect l="0" t="0" r="13771" b="0"/>
          <a:stretch/>
        </p:blipFill>
        <p:spPr>
          <a:xfrm>
            <a:off x="826920" y="981000"/>
            <a:ext cx="7632720" cy="512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4000" y="1052640"/>
            <a:ext cx="84960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门庭若市     熙熙攘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摩肩接踵     络绎不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山人海     人来人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763800" cy="597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H="1">
            <a:off x="-346680" y="1557360"/>
            <a:ext cx="6714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829" t="0" r="0" b="0"/>
          <a:stretch/>
        </p:blipFill>
        <p:spPr>
          <a:xfrm>
            <a:off x="4788000" y="333360"/>
            <a:ext cx="360180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422280"/>
            <a:ext cx="7993080" cy="5994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0"/>
            <a:ext cx="8424720" cy="764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zourujuan</dc:creator>
  <dc:description/>
  <dc:language>en-US</dc:language>
  <cp:lastModifiedBy>李海龙</cp:lastModifiedBy>
  <dcterms:modified xsi:type="dcterms:W3CDTF">2012-11-01T14:22:38Z</dcterms:modified>
  <cp:revision>990</cp:revision>
  <dc:subject/>
  <dc:title>幻灯片 1</dc:title>
</cp:coreProperties>
</file>