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583-9F17-4038-86DC-A0A3BF78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850-3B49-4959-95E2-EB45DBCB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CFA-BD52-4A76-85B4-FC4E8055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2B6-CC25-4BE2-A50C-67B26914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9DF-1946-4A67-9984-92942BF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6C7-4C5F-4672-AF4A-68DE2A6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6C7-E6AB-4198-AE78-C41F8BC9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696-0306-4271-980F-E548FDA0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549-4D0F-4E77-AA5E-CBEBB75E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D89-C619-43B5-840F-3CDF9225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5A9-FC4A-444B-9581-C2C0816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A8B-0957-4D39-9C44-562A6E3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D39A-FBDC-4E5B-B68C-DD20C92041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9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-2038" b="1954"/>
          <a:stretch/>
        </p:blipFill>
        <p:spPr>
          <a:xfrm>
            <a:off x="539640" y="765000"/>
            <a:ext cx="8280360" cy="547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39960" y="601992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3280" y="407664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诗意江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4040" y="3718080"/>
            <a:ext cx="1277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梦里水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1916280"/>
            <a:ext cx="57913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镇的早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6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北师大版 三年级 语文上册 第四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5445000"/>
            <a:ext cx="418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1918" b="7238"/>
          <a:stretch/>
        </p:blipFill>
        <p:spPr>
          <a:xfrm>
            <a:off x="6948360" y="620640"/>
            <a:ext cx="201636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390920" y="620640"/>
            <a:ext cx="2557440" cy="3581640"/>
            <a:chOff x="4390920" y="620640"/>
            <a:chExt cx="2557440" cy="358164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390920" y="1892520"/>
              <a:ext cx="25574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390920" y="620640"/>
              <a:ext cx="2557440" cy="15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14560" y="1989000"/>
            <a:ext cx="4933800" cy="392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79280" y="5300640"/>
            <a:ext cx="1835280" cy="15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79280" y="620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0" t="28590" r="3563" b="3335"/>
          <a:stretch/>
        </p:blipFill>
        <p:spPr>
          <a:xfrm>
            <a:off x="179280" y="1989000"/>
            <a:ext cx="176400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0" t="0" r="293" b="10770"/>
          <a:stretch/>
        </p:blipFill>
        <p:spPr>
          <a:xfrm>
            <a:off x="2014560" y="62064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79280" y="32767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0" t="0" r="1843" b="8186"/>
          <a:stretch/>
        </p:blipFill>
        <p:spPr>
          <a:xfrm>
            <a:off x="6948360" y="2131920"/>
            <a:ext cx="201636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0" t="7691" r="0" b="15635"/>
          <a:stretch/>
        </p:blipFill>
        <p:spPr>
          <a:xfrm>
            <a:off x="6948360" y="3789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14560" y="5334120"/>
            <a:ext cx="25210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535640" y="5315040"/>
            <a:ext cx="241272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rcRect l="0" t="0" r="0" b="4474"/>
          <a:stretch/>
        </p:blipFill>
        <p:spPr>
          <a:xfrm>
            <a:off x="6948360" y="5189400"/>
            <a:ext cx="2016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6121440" cy="411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卖东西的人一张张淳朴的脸上带着微笑，热情地向走进的人介绍着自己的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33360"/>
            <a:ext cx="914400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缫丝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蚕茧在水中煮，找出丝头，拉出一条丝，众多蚕茧拉出众多丝，供做丝绵或织绸缎使用。这抽丝过程叫缫丝。做这件事的工厂是缫丝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456000" cy="4543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2744" t="2754" r="5121" b="5902"/>
          <a:stretch/>
        </p:blipFill>
        <p:spPr>
          <a:xfrm>
            <a:off x="1187280" y="1268280"/>
            <a:ext cx="6696360" cy="45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63640" y="3286080"/>
            <a:ext cx="4411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cc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22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全文，读准字音、读通句子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78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捕鱼   忙碌   轻盈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介绍   移动   丝绸  荡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穿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拔河   满意  摆手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遥遥相对      目不暇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4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4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4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4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6431040"/>
            <a:ext cx="6553080" cy="4269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771" b="0"/>
          <a:stretch/>
        </p:blipFill>
        <p:spPr>
          <a:xfrm>
            <a:off x="826920" y="981000"/>
            <a:ext cx="7632720" cy="51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052640"/>
            <a:ext cx="8496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庭若市     熙熙攘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肩接踵     络绎不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山人海     人来人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76380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-346680" y="1557360"/>
            <a:ext cx="6714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829" t="0" r="0" b="0"/>
          <a:stretch/>
        </p:blipFill>
        <p:spPr>
          <a:xfrm>
            <a:off x="4788000" y="333360"/>
            <a:ext cx="36018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228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0"/>
            <a:ext cx="842472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李海龙</cp:lastModifiedBy>
  <dcterms:modified xsi:type="dcterms:W3CDTF">2012-11-01T14:22:38Z</dcterms:modified>
  <cp:revision>990</cp:revision>
  <dc:subject/>
  <dc:title>幻灯片 1</dc:title>
</cp:coreProperties>
</file>