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B9C0-173D-43A6-BC05-37E29709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4727-4C11-45FD-ACBB-0CE9A225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14F5-10BF-4704-8A77-8F942DFF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48A7-A771-4BAC-A08E-C12AAFE1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AD6F-C4E1-4089-9BE8-94CCBC22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295C-FBAE-4903-AD25-EE663864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4000-D697-485B-A52A-47CDD602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2830-8462-407E-939B-3A941FDB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A2A-BB0C-4E79-9010-BB0E3E1D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AF6C-8E49-446C-93F4-3F167620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1CF4-911C-4455-B7CB-82A52024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CC8B-294E-4977-A032-9F14B87F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8ED2-714A-4121-987B-FF18D37061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2060640"/>
            <a:ext cx="71298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欢迎各位家长</a:t>
            </a: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!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42920" y="119700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三年级数学对家长的建议、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家庭作业方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每天请认真检查孩子的学习情况、家庭作业，及时查漏补缺，做到坚持不懈。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作业格式训练。良好的书写应做到书写清洁、整齐、工整。养成良好的书写，就能减少孩子由于书写不良而产生的差错，另外也可以培养孩子思维的条理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当发现孩子有错题时，要让孩子用心地把做的作业题目要求认真读三遍，及时改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检查完后请签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规的作业有以下几项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课本的练习题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优加作业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口算题（应用题）卡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基础训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134136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二）、注重实际生活与数学相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家长可以在日常生活中渗透年月日、以及位置与方向等相关知识，这样不仅巩固了所学知识，更重要的是让孩子体会到学数学的价值所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71640" y="14842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三）平时多关心一下孩子在学校的学习生活情况，定期与教师进行沟通，对孩子的优点、不好的习惯以及在教育过程中出现的疑惑，可以经 常与老师保持联系，共同寻找最好的教育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476360" y="2852640"/>
            <a:ext cx="6624720" cy="216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谢谢聆听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908000" y="2708280"/>
            <a:ext cx="49467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材分析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18680" y="476280"/>
            <a:ext cx="4520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、数学要重视计算能力的培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草稿规范（作业时认真打草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按作业题号规则排列，以便检查时核对。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检查强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算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看”（看清、看懂题意，看清数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想”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独立思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算”（细心计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查”（认真检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914560" y="1268280"/>
            <a:ext cx="3838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二、数学要重视解决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要求孩子要认真读题，细心解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求孩子按解题步骤做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单位和答写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注重拓展思维训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7120" y="1490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32000" y="1052640"/>
            <a:ext cx="624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生知识能力现状分析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2182680" y="2924280"/>
            <a:ext cx="5057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多数学生学习积极性很高，上课认真听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后及时完成作业，已经形成良好的学习习惯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55640" y="1557360"/>
            <a:ext cx="8064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教学中发现的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有些孩子没有带齐学习用品和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部分孩子上课喜欢讲悄悄话，把学习用品当玩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练习时不专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作业错题订正不及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333360"/>
            <a:ext cx="8208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三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三年级特点及应对措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习方面：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识学习广泛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年级的数学学习已不同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年级了，抽象的知识增多了，应用题的难度加大，这方面对学生意志力的要求更高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思维方面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年级的孩子正处于由形象思维向逻辑思维过渡的关键时期，也是性格形成和习惯培养的重要阶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他们大都活泼好动，自制力不强，思维不够严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620640"/>
            <a:ext cx="8353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二）应对措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首先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年级的数学教学来说，我觉得应以激发学习兴趣、培养良好学习习惯和教会学习方法为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其次，数学知识必须通过不断练习运用才能牢牢掌握。在上完新课后，我一般会布置课时作业和口算题卡。有时候布置课本上的习题。目的都是让孩子及时复习巩固所学知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8T02:45:41Z</dcterms:created>
  <dc:creator>雨林木风</dc:creator>
  <dc:description/>
  <dc:language>en-US</dc:language>
  <cp:lastModifiedBy>雨林木风</cp:lastModifiedBy>
  <dcterms:modified xsi:type="dcterms:W3CDTF">2012-05-12T00:52:19Z</dcterms:modified>
  <cp:revision>42</cp:revision>
  <dc:subject/>
  <dc:title>幻灯片 1</dc:title>
</cp:coreProperties>
</file>