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4DF-E806-4A04-B110-12A2BB36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5A8-F913-40D4-B2EC-AAAD88C6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116-0F79-469A-B847-E5EAA874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AD5-E742-495B-8382-82F2BA8B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D10-3602-493D-8A55-1691299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7E3-D445-4F85-8C30-7FEDE8D1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039-9B93-400C-A220-A720001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C6D-A721-43E5-91FF-700BB20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2D1-9645-4460-863D-5447CC4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CCC-DBA1-4980-A037-56021B4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214-0946-4B5F-A17A-9307CDD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4C1-B0FD-426E-8AA9-4F85CDD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75A-E1BB-4D24-84CD-CDD60562B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197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三年级数学对家长的建议、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家庭作业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请认真检查孩子的学习情况、家庭作业，及时查漏补缺，做到坚持不懈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业格式训练。良好的书写应做到书写清洁、整齐、工整。养成良好的书写，就能减少孩子由于书写不良而产生的差错，另外也可以培养孩子思维的条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发现孩子有错题时，要让孩子用心地把做的作业题目要求认真读三遍，及时改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查完后请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的作业有以下几项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本的练习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加作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算题（应用题）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础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、注重实际生活与数学相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可以在日常生活中渗透年月日、以及位置与方向等相关知识，这样不仅巩固了所学知识，更重要的是让孩子体会到学数学的价值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48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平时多关心一下孩子在学校的学习生活情况，定期与教师进行沟通，对孩子的优点、不好的习惯以及在教育过程中出现的疑惑，可以经 常与老师保持联系，共同寻找最好的教育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360" y="2852640"/>
            <a:ext cx="6624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聆听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2708280"/>
            <a:ext cx="4946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材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18680" y="476280"/>
            <a:ext cx="452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数学要重视计算能力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稿规范（作业时认真打草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按作业题号规则排列，以便检查时核对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检查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看”（看清、看懂题意，看清数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想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立思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算”（细心计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查”（认真检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14560" y="1268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数学要重视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求孩子要认真读题，细心解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孩子按解题步骤做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单位和答写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注重拓展思维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1052640"/>
            <a:ext cx="624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知识能力现状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182680" y="2924280"/>
            <a:ext cx="505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学生学习积极性很高，上课认真听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及时完成作业，已经形成良好的学习习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557360"/>
            <a:ext cx="806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教学中发现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些孩子没有带齐学习用品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孩子上课喜欢讲悄悄话，把学习用品当玩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练习时不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业错题订正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333360"/>
            <a:ext cx="82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三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三年级特点及应对措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方面：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识学习广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学习已不同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了，抽象的知识增多了，应用题的难度加大，这方面对学生意志力的要求更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维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孩子正处于由形象思维向逻辑思维过渡的关键时期，也是性格形成和习惯培养的重要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他们大都活泼好动，自制力不强，思维不够严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2064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应对措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教学来说，我觉得应以激发学习兴趣、培养良好学习习惯和教会学习方法为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其次，数学知识必须通过不断练习运用才能牢牢掌握。在上完新课后，我一般会布置课时作业和口算题卡。有时候布置课本上的习题。目的都是让孩子及时复习巩固所学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2:45:41Z</dcterms:created>
  <dc:creator>雨林木风</dc:creator>
  <dc:description/>
  <dc:language>en-US</dc:language>
  <cp:lastModifiedBy>雨林木风</cp:lastModifiedBy>
  <dcterms:modified xsi:type="dcterms:W3CDTF">2012-05-12T00:52:19Z</dcterms:modified>
  <cp:revision>42</cp:revision>
  <dc:subject/>
  <dc:title>幻灯片 1</dc:title>
</cp:coreProperties>
</file>