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2EE2-1091-49CB-9A4A-D439BFC7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A828-9E53-41D3-9EA9-9FD6DFD1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1B1-AA6A-4E88-B240-CABA0347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3450-1A24-481C-8751-E47F25F7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3B61-3C4F-428D-BECB-BE7004EE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7A19-D316-4880-952C-D17ED85E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CF0E-73C6-4DE4-8522-7CAE01AE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8E1D-8427-465F-B4C2-2D736B68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49AB2-D769-4FB5-9740-0999CE72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5C30-90D0-4C25-8463-4F1B487A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D7A47-07C9-4723-BE89-1EDD4A0F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AFBD-CB38-4144-8B11-FEA0C2FF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F3EB-594F-4609-B684-751AA42C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0291-28F5-4B82-B500-856D473E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81E32-6035-45F4-B937-B639B759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6CB4-B700-4FA4-A488-474387966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2C4E-8AF8-4E8E-8343-93840A47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562-8F59-4F71-B6FE-F585D0C8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7700-F710-4DD7-B057-51F12584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25F1-F047-4D3C-945A-D0F012C9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B821-949A-497C-87A3-42C39DEB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28F8-DDB9-4AC1-8FF1-B29EC57D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061-EE76-4BB6-85D3-853DD98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DB8C-D06B-415A-9DDE-18DC43FA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765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44CEA-C8D2-4AB3-A384-713343101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0596-79F3-4022-BDCA-E66356D20F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765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7652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6.jpeg"/><Relationship Id="rId13" Type="http://schemas.openxmlformats.org/officeDocument/2006/relationships/image" Target="../media/image3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To be more beautiful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二步：整体铺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择一款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肤色最接近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的粉底，涂抹整个脸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从额头开始，左右脸颊，鼻翼，眼周，鼻梁，下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粉底涂抹要轻薄，不要厚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鼻翼、眼角、唇角是否漏掉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发际线和颈部要自然衔接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局部提亮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提亮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字部位、颧骨周围、下颌，增强脸部立体感。很适合额头和鼻梁不够明显的脸型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色亮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，局部打在需要提亮的部位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海绵以点按的动作使亮色与之前的粉底色融为一体。 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修饰侧影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侧影可以修饰脸型，需要注意的是这种人工暗影的方法并不是放之四海皆准的魔术。必须严格配合骨骼结构，在脸部两侧和有骨骼转折的部位才会达到收缩的视觉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底色深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找到脸颊两侧最凹的部位涂上深色粉底，并向周围过渡均匀，自然衔接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步：细节描绘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需要耐心用点绘的方法遮盖顽固的斑点、痘痘和黑眼圈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使用小号化妆笔或唇刷蘸取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遮瑕膏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，颜色要与瑕疵部位粉底的颜色一致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如果是凹陷的痘疤，可以多蘸取些遮瑕膏将其填平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黑眼圈，要用遮瑕膏一点点遮盖，不能太厚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步：定妆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上定妆粉，可以令妆容持久，不易脱妆。要选择透明质感的蜜粉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紫色粉底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蜜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：适合皮肤偏黄、暗沉的人，对遮盖黑眼圈有神奇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红色粉底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肤色苍白，那么粉红色粉底可以让你面色红润健康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绿色粉色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你的肤色偏红、偏黑，或者脸上有小雀斑，痘痘留下的小疤痕，那么绿色粉底适合遮盖，但不能全脸使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的画法及运用技巧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与脸型的搭配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标准眉形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的位置和鼻翼保持垂直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尾的位置在鼻翼与外眼角连线的延长线上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和眉尾大致在同一水平线上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峰在外眼球和外眼角的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/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较粗，越往后越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虽然是最粗的部分，但是颜色是最浅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在颜色的选择上，要选用和头发相近的颜色来画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：用眉粉画眉会比较自然。如果你只有眉笔，那么眉笔需要用刀削成鸭嘴形，方便画出一根根眉的质地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眉形与脸型的搭配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80840" y="16092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圆脸型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高挑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弓形的高挑眉最适合圆脸型的女孩，它高挑的弧度，敲好在圆脸拉出适当的距离，让脸部五官不是那么集中，也使得脸被拉长了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长方形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直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直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是最佳宣传，两道横在脸上，使得脸型看起来感觉不是那么长，两家也修饰的圆润些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484360" y="55324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05120" y="4005000"/>
            <a:ext cx="2941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眉形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79640" y="4149720"/>
            <a:ext cx="66326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分：上扬眉，高挑眉，一字眉，个性眉，弧形眉，柳叶眉，自然眉，直眉，八字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八字眉：太靠下的部分，要修掉；同时，把太靠上的部分修掉，使用眉笔画上新眉，眉尾适当上扬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过短：先修眉，再把眉毛画长，让它接近标准眉形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6720" y="620640"/>
            <a:ext cx="71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倒三角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自然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下巴尖尖的倒三角型可以选择的眉形较多，不过因为倒三角形张条较直削，略带弯度的自然眉形，可以缓和脸部的线条，是脸型显得柔和，整个眉头道眉尾，呈现缓和的自然弧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方形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属于强调的高挑眉型，眉尾部有着自然弧度的上扬眉，有型且时尚，刚好掩饰脸上稍显严肃的角度，把脸型变圆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画眉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粉，眉粉顺着眉毛轮廓描画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笔，先用眉笔画出一个淡淡眉毛的轮廓，然后用眉笔顺着眉毛生长的方向一根一根的画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上边缘要自然，不能特别整齐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间的间距要保持一眼之隔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一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基础课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二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底的技巧运用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眉毛的画法及运用技巧（眉毛与脸型的搭配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阶段：脸型的分析与修饰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阶段：盘发的基本手法与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七阶段：鼻形及唇形出来，腮红的修饰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八阶段：色彩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2720" y="449568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四阶段：脸型的分析及修饰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脸型的分析及修饰技巧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标准脸型：长宽比例适中，下巴细圆弧，三庭五眼均衡，标准眉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圆脸：特征脸型圆润丰满，额头及下额偏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方脸：前额宽额骨方正，脸的长度和宽度几乎相等，给人感觉比较稳重、干练、缺少女性的温柔气质，化时以圆线条居多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长脸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脸型纵向感突出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给人生硬的感觉。特征：面部缺乏柔和感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由型脸：上窄小宽，显得富态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倒三角脸（瓜子脸）上宽小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菱形脸（钻石脸），上额角比较窄，下巴尖，额骨突出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五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盘发的基本手法与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br>
              <a:rPr sz="4000"/>
            </a:b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眼部的矫正手法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：也就是两眼间距大于一只眼的长度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画眼线，要从内眼角开始，外眼角不可过长，下眼线全画，内深，后浅，适合里晕（里晕就是考内眼角画）。粘假睫毛要向内眼角粘，靠近内眼角眼影要重，不做延伸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45080" y="4149720"/>
            <a:ext cx="194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95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吊眼角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（外眼角上翘）就是我们常说的狐狸眼，不算特别大众的眼型。内眼角粗，外眼角细，下眼线外眼角粗。眼影适合里晕，外晕不向上提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664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70172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向心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两眼间小于一只眼的长度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重点在后边不画眼线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眼线要拉长或者加粗，适合外晕。假睫毛粘在后边，或者重点在外眼角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00720" y="1917720"/>
            <a:ext cx="28764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8360" y="2060640"/>
            <a:ext cx="2800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常见的下垂眼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适合外晕，在眼睛中部向上提拉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3447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浮肿眼：水平晕，眼影不适合红色系和暖色系。在靠近外眼角涂白色，使眼周眉骨突出，眉骨涂亮色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中间平，细而直；两边亮。外眼角上翘，下眼线正常眼尾略粗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避免用含有亮粉的眼影放在眼窝处，可选用较沉的颜色。如：灰、深蓝、棕，不要大面积的涂在上限帘处，只需涂抹在外眼角，然后向眼窝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/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处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000" y="1844280"/>
            <a:ext cx="3745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圆眼：内眼角与外眼角间距过小，会给人不成熟的视觉；反之，如果我们想让自己可爱一些可以试着把眼睛画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26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164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细长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有眯眼的感觉缺乏神采，但同时也会显得温和细腻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线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上下眼线中部略宽，用黑色。两侧略细，眼尾不可拉长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影：上眼睑的眼影和睫毛根部可以有一些空隙，适合水平晕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偏暖色系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比较合适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24480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小眼睛：好多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都会觉得自己眼睛小眼角窄，也会显得不够宽厚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外眼角的上下眼线略粗，向外延伸，就是人为的增加眼睛长度和宽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最好用单色眼影水平晕，适合冷色：棕、灰、黄色；睫毛自然粘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鼻型的处理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大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整个面部化妆应采用柔和的色调，过于鲜艳的眼妆及口红会加深鼻大的印象。鼻的两侧抹稍暗的鼻影，从鼻根开始，渐渐涂染到鼻翼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短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的方法向鼻尖方向抹鼻影，并在眉头和眼角之间抹入阴影，鼻梁上明亮的底粉与鼻影相配，鼻子太短的感觉便会得到缓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梁太宽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修饰时用眼影笔（最好是灰色）在鼻梁两侧画上两条细细的直线，然后在鼻翼两侧施粉底，将粉底与鼻侧线一起轻轻揉开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长度如果超过全脸的三分之一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咖啡色的鼻影从上往下抹，在鼻尖处也擦一些，鼻子看起来会短一点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子长度如果不到全脸的三分之一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感觉就很短，这时要用咖啡色鼻影由眉头沿着鼻子的两侧下涂，直到鼻子的末端，鼻子看起来就会显得长一些 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梁太低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可用白色的粉底涂在鼻梁底处，鼻子两端涂上咖啡色鼻影，鼻子就会显得高而挺了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鹰鼻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要从鼻子的中央到鼻头都涂上深色的粉底，看起来会缓和不少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翼张得太大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不甚美观，修正方法是在两鼻翼部位涂上深色粉底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用粉底来修正鼻子，是要让鼻子显得挺直而有立体感，但鼻影的深浅不要太分明，以免是人看出来有明显的分界线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七阶段：鼻形及唇形的处理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唇形的处理 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标准唇形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这种唇形的特点是轮廓清晰，唇峰凸起，唇结节明显，下唇略厚于上唇，唇角微翘，唇形圆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依原有唇形勾画出细而实的唇线，在唇线内的唇面上涂满唇膏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厚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厚使人显得不秀气，有的人是上唇过厚，有的人是下唇过厚或上下唇构过厚，自然要通过化妆来弥补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用遮盖露涂于嘴唇边缘，甚至包括唇面，并用蜜粉固定。用深色唇线笔沿唇角勾画，保持嘴形本身的长度，将其厚度轮廓向内侧勾画。唇膏宜选用偏冷的滦色，使厚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薄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过薄的嘴唇让人感觉不够亲切随和。缺少女性丰满、圆润的曲线美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用唇线笔将轮廓线向外扩展，在原有的唇线外勾画一条唇线。上唇的唇峰描画圆润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，下唇增厚，唇面上涂上亮光油，唇膏应选用偏暖的色彩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．嘴角下垂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和眼角下垂一样，嘴角下垂不仅使人显得愁苦，而且显得没有精神容易见老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化妆方法：用遮盖霜涂于唇轮廓周围，尤其是唇角部位，再用唇线笔勾画轮廓线，改动后两侧的轮廓线使唇具有上翘的趋势。画上唇线时，唇峰略压低，唇角略提高，嘴角向内收。画下唇线时，唇角向内收与上唇线交会。唇中部的唇膏色比唇角略浅一些，突出唇的中部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嘴唇突出：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嘴唇过于突出有向外翻的感觉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化妆方法：画轮廓线时，唇角略向外延，嘴唇中部的上下轮廓线都尽量画直，收敛过于突出的感觉，唇膏宜选用偏冷色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品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粉底的颜色、型号，及各自的用途，粉底的类型（霜状、粉状、膏状、液状），及适用的肌肤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散粉：散粉的颜色及作用，用法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笔：棕色、灰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线笔：黑色、咖啡色，眼线笔、眼线胶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影：各色眼影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口红：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卸妆油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大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大向两侧延伸，使下颌显小，使人有不善言语的笨拙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；用遮盖霜涂于唇边缘，包括唇面，用蜜粉固定。画轮廓线时，上下唇角的轮廓线都要向内收缩，在原有的上下唇线内侧勾画唇线，使唇变薄变窄。用深色唇膏，使过大的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．嘴唇过小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小使下颌最大，使人有小气、琐碎的感觉。                                          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画轮廓线时，上下唇角的轮廓线都要向外延伸，在原有的上下唇线外侧勾画唇线，使唇变宽变厚。用浅色或亮光唇膏，使过小的唇看起来大一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 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鹅蛋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很好看的脸型，随着不同场合不同妆容的需要，来刷出自己想要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有如鹅蛋状的椭圆形曲线，基础画法是，微笑并找出颧骨最高点，然后立起腮红刷，以画圆的手法涂抹在两颊颧骨处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5192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长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部比较长，或是额部长，或者是下巴长，给人不柔和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脸型较长者，腮红应剧在两颊的较外侧，以根剧为佳。不能刷至低于鼻尖处，因为瘦长的脸型，腮红必须刷得平圆些，往耳边擦，才可增加脸的宽度，减少脸部给人大长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1944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589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圆型脸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可爱的脸型，缺点是脸型较圆较宽，下巴及发际都呈圆形，缺乏立体感。最好能在两腮和额头两边加深色粉底，并且以长线条的方式刷染，强调纵向的线条，拉长脸型。下巴和额头中间加上白色粉底，这样会使圆脸看起来感觉长一点，有立体感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的打法：圆型脸在画腮红时，应用直线条来增加脸部的修长感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将腮红以斜线的画 法，由颧骨往脸中央刷，可创造出险部的角度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661080" y="2276640"/>
            <a:ext cx="2008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32720" y="3933720"/>
            <a:ext cx="2201760" cy="2459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方型脸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脸型线条较直，方方正正，额头和面额都宽，缺乏温柔感。可在两腮和额头两边加深色粉底，额头中间和下巴加白色粉底，另外再强调出眉和雇等部分的妆彩，这样方型的脸就会表现出温和的特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腮红的打法：方型脸呈现四四方方的角度，所以在腮红的使用上，必须以圆线条来增加脸部的柔和感，将腮红以画圆的方式，由颧骨往鼻子的方向刷。为了让面颇显得更清秀，过于宽大的部位要用深色腮红来修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661080" y="117360"/>
            <a:ext cx="2295720" cy="2565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正三角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上窄下宽；额头窄小，两腮方大，给人沉着又威严的感觉。可运用暖色调强调出正三角型脸的沉着、大方、亲切感。在两腮较宽部位加深色粉底，会显得比较深凹，从而弥补下部宽大的缺点，在狭小额头和下巴处加上白色粉底，突出它的饱满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在两须剧高些，长些，以斜刷为宜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倒三角脸型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型比较尖；具有上觅下窄的特征；额头较宽，下巴较尖，会给人忧愁的感觉。需在颧骨、下巴和额头两边着深色粉底造成暗影效果，脸颊较瘦的两腮用白色或浅色粉底来修饰，使整个脸看起来丰满、明朗化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腮红须在颧骨部位颜色加深。利用深度色调掩饰突出过高的颧骨，以使其不至于太明显。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2017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工具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海绵、粉扑、化妆刷、眉剪、眉夹、美目贴、假睫毛、睫毛胶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棉签、修眉刀、睫毛夹、睫毛膏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．认识脸部的结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二阶段：粉底的技巧运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0936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粉底的选择：干性、中性、油性的皮肤，选择不同质地的粉底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8487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粉饼、粉膏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含油量多，质地厚实、具有良好的遮盖性，是它的特质。需要较多的蜜粉来定妆、容易脱妆，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亲油性的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适合给皮肤干燥、缺水的人使用，妆底中含有的油质能柔软淡化因干燥而产生的表皮细纹，使皮肤看起来较有光泽和弹性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另外，亲油性粉底因为质地厚实，所以能遮盖住一些轻微的瑕疵，如黑斑、红斑、黑眼圈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霜、粉底液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质感透明细致、容易涂抹均匀、持久性高是它的优点；遮盖性较差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底水分含量高，不会增加皮肤毛孔负担，很适合皮肤油腻、毛孔粗大、有黑头、粉刺的朋友使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双用的水粉霜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所谓双用水粉霜指的是在粉底霜中同时含有粉底和蜜粉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种成分。双用水粉霜的优点在于使用后不需要再用蜜粉，并且具有防水、不脱妆、透明自然的功能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、上粉底的步骤和技巧：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一步：肤色修正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用紫色、绿色的粉底修正肤色，可以加强粉底调整肤色的功能，用在粉底之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紫色：修正偏黄的肤色，如嘴唇周围，对黄皮肤的人，还可以起到局部提亮的作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绿色：修正偏红色的肤色，如鼻翼、脸颊泛红处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将少量修正粉底点在需要调整的部位，可以用海绵也可以用手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海绵：用压擦的手法，一边拍一边涂抹，更均匀细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手指：用无名指的指腹轻轻推开，拍打均匀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1:23:11Z</dcterms:created>
  <dc:creator>小舞宝贝</dc:creator>
  <dc:description/>
  <dc:language>en-US</dc:language>
  <cp:lastModifiedBy>小舞宝贝</cp:lastModifiedBy>
  <dcterms:modified xsi:type="dcterms:W3CDTF">2013-12-29T09:44:15Z</dcterms:modified>
  <cp:revision>30</cp:revision>
  <dc:subject/>
  <dc:title>基础化妆入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