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403A-8AA3-4A18-8568-CB878533F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356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874B-308A-41D6-8655-2CBA4836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356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4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8483-1A3C-4E1E-8B48-DDC0FC814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748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4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356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748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4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1CA3-0751-4DBA-A5DF-BC2B3DEF7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708E-4F32-403B-8737-156B11B8A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D7CB-1970-44F8-B01E-7DC6D05D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5D89-4EBC-4F80-ABAD-8331FB0E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6FE2-69DA-4ECD-B658-01F2F3AC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4865-1762-4264-AADF-09000088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1760" y="276120"/>
            <a:ext cx="784836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614E-0A93-4F4B-BD7B-2955193F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356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C364-6B78-4EFE-A1CC-0ACB6F6E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382F-079D-44D3-B0E5-52BB08F0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54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3402-B1AA-436D-8FD8-1EEA5F70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356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86CE-93FA-423A-A9F1-E9EFE42A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356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06E8-11F1-4050-B3CE-3939218C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356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54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FC2D-B569-4795-AE3F-8D7E4CD1C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748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14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356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748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14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EDBD-E543-4AF5-A45D-0BAE385DC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7649-48C5-4435-BA6D-19724E08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D9A5-3BD7-4BE4-A6C3-341DD110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61EB-0577-4674-BA28-7ACBA2AE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276120"/>
            <a:ext cx="784836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8313-1D1E-4444-882A-777A24F4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356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B3B8-6631-4B04-A063-5C32F814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4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9134-4FB1-4896-B948-868DBABE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356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2CA5-3A88-417D-ADE3-70B6DF1E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65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765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765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7652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BB05-04CF-4DB4-B810-089710716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AEA0-8187-437A-B28B-6BF61F1A6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652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87652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7652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87652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76521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76521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76521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3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3.jpeg"/><Relationship Id="rId10" Type="http://schemas.openxmlformats.org/officeDocument/2006/relationships/image" Target="../media/image5.jpeg"/><Relationship Id="rId11" Type="http://schemas.openxmlformats.org/officeDocument/2006/relationships/image" Target="../media/image4.jpeg"/><Relationship Id="rId12" Type="http://schemas.openxmlformats.org/officeDocument/2006/relationships/image" Target="../media/image6.jpeg"/><Relationship Id="rId13" Type="http://schemas.openxmlformats.org/officeDocument/2006/relationships/image" Target="../media/image3.jpeg"/><Relationship Id="rId14" Type="http://schemas.openxmlformats.org/officeDocument/2006/relationships/image" Target="../media/image5.jpeg"/><Relationship Id="rId1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基础化妆入门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To be more beautiful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第二步：整体铺色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选择一款和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肤色最接近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的粉底，涂抹整个脸部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从额头开始，左右脸颊，鼻翼，眼周，鼻梁，下巴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粉底涂抹要轻薄，不要厚重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注意鼻翼、眼角、唇角是否漏掉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注意发际线和颈部要自然衔接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三步：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局部提亮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提亮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T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字部位、颧骨周围、下颌，增强脸部立体感。很适合额头和鼻梁不够明显的脸型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选择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比基础色亮一号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的粉底，局部打在需要提亮的部位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用海绵以点按的动作使亮色与之前的粉底色融为一体。 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四步：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修饰侧影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侧影可以修饰脸型，需要注意的是这种人工暗影的方法并不是放之四海皆准的魔术。必须严格配合骨骼结构，在脸部两侧和有骨骼转折的部位才会达到收缩的视觉效果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选择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比基础底色深一号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的粉底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找到脸颊两侧最凹的部位涂上深色粉底，并向周围过渡均匀，自然衔接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五步：细节描绘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需要耐心用点绘的方法遮盖顽固的斑点、痘痘和黑眼圈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使用小号化妆笔或唇刷蘸取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遮瑕膏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，颜色要与瑕疵部位粉底的颜色一致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如果是凹陷的痘疤，可以多蘸取些遮瑕膏将其填平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黑眼圈，要用遮瑕膏一点点遮盖，不能太厚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六步：定妆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上定妆粉，可以令妆容持久，不易脱妆。要选择透明质感的蜜粉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紫色粉底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蜜粉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：适合皮肤偏黄、暗沉的人，对遮盖黑眼圈有神奇效果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粉红色粉底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蜜粉：如果肤色苍白，那么粉红色粉底可以让你面色红润健康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绿色粉色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蜜粉：如果你的肤色偏红、偏黑，或者脸上有小雀斑，痘痘留下的小疤痕，那么绿色粉底适合遮盖，但不能全脸使用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三阶段</a:t>
            </a: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眉毛的画法及运用技巧</a:t>
            </a: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眉毛与脸型的搭配</a:t>
            </a: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)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标准眉形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头的位置和鼻翼保持垂直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尾的位置在鼻翼与外眼角连线的延长线上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头和眉尾大致在同一水平线上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峰在外眼球和外眼角的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1/2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处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头较粗，越往后越细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头虽然是最粗的部分，但是颜色是最浅的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在颜色的选择上，要选用和头发相近的颜色来画眉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注意：用眉粉画眉会比较自然。如果你只有眉笔，那么眉笔需要用刀削成鸭嘴形，方便画出一根根眉的质地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眉形与脸型的搭配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80840" y="1609200"/>
            <a:ext cx="78483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圆脸型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VS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高挑眉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弓形的高挑眉最适合圆脸型的女孩，它高挑的弧度，敲好在圆脸拉出适当的距离，让脸部五官不是那么集中，也使得脸被拉长了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长方形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VS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直眉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直眉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是最佳宣传，两道横在脸上，使得脸型看起来感觉不是那么长，两家也修饰的圆润些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1728720" cy="1038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659640" y="5445000"/>
            <a:ext cx="2158920" cy="1128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2484360" y="5532480"/>
            <a:ext cx="1656000" cy="1219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4356000" y="5516640"/>
            <a:ext cx="2016360" cy="1138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539640" y="5695920"/>
            <a:ext cx="1728720" cy="1038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2484360" y="5638680"/>
            <a:ext cx="1656000" cy="12193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4356000" y="5516640"/>
            <a:ext cx="2016360" cy="1138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9"/>
          <a:stretch/>
        </p:blipFill>
        <p:spPr>
          <a:xfrm>
            <a:off x="539640" y="5695920"/>
            <a:ext cx="1728720" cy="1038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0"/>
          <a:stretch/>
        </p:blipFill>
        <p:spPr>
          <a:xfrm>
            <a:off x="2484360" y="5638680"/>
            <a:ext cx="1656000" cy="1219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1"/>
          <a:stretch/>
        </p:blipFill>
        <p:spPr>
          <a:xfrm>
            <a:off x="6659640" y="5445000"/>
            <a:ext cx="2158920" cy="1128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2"/>
          <a:stretch/>
        </p:blipFill>
        <p:spPr>
          <a:xfrm>
            <a:off x="4356000" y="5516640"/>
            <a:ext cx="2016360" cy="1138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3"/>
          <a:stretch/>
        </p:blipFill>
        <p:spPr>
          <a:xfrm>
            <a:off x="539640" y="5695920"/>
            <a:ext cx="1728720" cy="1038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4"/>
          <a:stretch/>
        </p:blipFill>
        <p:spPr>
          <a:xfrm>
            <a:off x="2484360" y="5638680"/>
            <a:ext cx="1656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21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21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105120" y="4005000"/>
            <a:ext cx="29415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76521"/>
                </a:solidFill>
                <a:latin typeface="Arial"/>
              </a:rPr>
              <a:t>眉形</a:t>
            </a:r>
            <a:endParaRPr b="0" lang="en-US" sz="28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79640" y="4149720"/>
            <a:ext cx="663264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毛分：上扬眉，高挑眉，一字眉，个性眉，弧形眉，柳叶眉，自然眉，直眉，八字眉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八字眉：太靠下的部分，要修掉；同时，把太靠上的部分修掉，使用眉笔画上新眉，眉尾适当上扬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毛过短：先修眉，再把眉毛画长，让它接近标准眉形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36720" y="620640"/>
            <a:ext cx="712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倒三角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VS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自然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下巴尖尖的倒三角型可以选择的眉形较多，不过因为倒三角形张条较直削，略带弯度的自然眉形，可以缓和脸部的线条，是脸型显得柔和，整个眉头道眉尾，呈现缓和的自然弧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方形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VS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上扬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上扬眉属于强调的高挑眉型，眉尾部有着自然弧度的上扬眉，有型且时尚，刚好掩饰脸上稍显严肃的角度，把脸型变圆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画眉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眉粉，眉粉顺着眉毛轮廓描画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眉笔，先用眉笔画出一个淡淡眉毛的轮廓，然后用眉笔顺着眉毛生长的方向一根一根的画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眉毛上边缘要自然，不能特别整齐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眉毛间的间距要保持一眼之隔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基础化妆入门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一阶段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基础课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二阶段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粉底的技巧运用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三阶段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眉毛的画法及运用技巧（眉毛与脸型的搭配）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四阶段：脸型的分析与修饰技巧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五阶段：盘发的基本手法与技巧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六阶段：眼部的矫正手法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七阶段：鼻形及唇形出来，腮红的修饰手法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八阶段：色彩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2720" y="4495680"/>
            <a:ext cx="7997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四阶段：脸型的分析及修饰技巧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脸型的分析及修饰技巧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标准脸型：长宽比例适中，下巴细圆弧，三庭五眼均衡，标准眉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圆脸：特征脸型圆润丰满，额头及下额偏圆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方脸：前额宽额骨方正，脸的长度和宽度几乎相等，给人感觉比较稳重、干练、缺少女性的温柔气质，化时以圆线条居多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长脸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脸型纵向感突出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给人生硬的感觉。特征：面部缺乏柔和感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由型脸：上窄小宽，显得富态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倒三角脸（瓜子脸）上宽小窄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菱形脸（钻石脸），上额角比较窄，下巴尖，额骨突出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五阶段</a:t>
            </a: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盘发的基本手法与技巧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六阶段：眼部的矫正手法</a:t>
            </a:r>
            <a:br>
              <a:rPr sz="4000"/>
            </a:b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眼部的矫正手法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离心眼：也就是两眼间距大于一只眼的长度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离心眼画眼线，要从内眼角开始，外眼角不可过长，下眼线全画，内深，后浅，适合里晕（里晕就是考内眼角画）。粘假睫毛要向内眼角粘，靠近内眼角眼影要重，不做延伸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445080" y="4149720"/>
            <a:ext cx="194328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232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952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吊眼角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（外眼角上翘）就是我们常说的狐狸眼，不算特别大众的眼型。内眼角粗，外眼角细，下眼线外眼角粗。眼影适合里晕，外晕不向上提拉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364000" y="2133720"/>
            <a:ext cx="266400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1701720"/>
            <a:ext cx="344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向心眼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两眼间小于一只眼的长度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重点在后边不画眼线，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眼线要拉长或者加粗，适合外晕。假睫毛粘在后边，或者重点在外眼角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500720" y="1917720"/>
            <a:ext cx="287640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8360" y="2060640"/>
            <a:ext cx="280044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常见的下垂眼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适合外晕，在眼睛中部向上提拉晕染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00720" y="2205000"/>
            <a:ext cx="344772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浮肿眼：水平晕，眼影不适合红色系和暖色系。在靠近外眼角涂白色，使眼周眉骨突出，眉骨涂亮色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眼线：中间平，细而直；两边亮。外眼角上翘，下眼线正常眼尾略粗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眼影：避免用含有亮粉的眼影放在眼窝处，可选用较沉的颜色。如：灰、深蓝、棕，不要大面积的涂在上限帘处，只需涂抹在外眼角，然后向眼窝</a:t>
            </a: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1/3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处晕染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0000" y="1844280"/>
            <a:ext cx="37450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圆眼：内眼角与外眼角间距过小，会给人不成熟的视觉；反之，如果我们想让自己可爱一些可以试着把眼睛画圆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940360" y="3068640"/>
            <a:ext cx="2664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一阶段：基础课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211640" y="1600200"/>
            <a:ext cx="4400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细长眼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有眯眼的感觉缺乏神采，但同时也会显得温和细腻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眼线：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上下眼线中部略宽，用黑色。两侧略细，眼尾不可拉长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眼影：上眼睑的眼影和睫毛根部可以有一些空隙，适合水平晕，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偏暖色系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比较合适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116000" y="1701720"/>
            <a:ext cx="2448000" cy="32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小眼睛：好多</a:t>
            </a: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MM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都会觉得自己眼睛小眼角窄，也会显得不够宽厚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眼线：外眼角的上下眼线略粗，向外延伸，就是人为的增加眼睛长度和宽度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眼影：最好用单色眼影水平晕，适合冷色：棕、灰、黄色；睫毛自然粘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鼻型的处理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鼻子过大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掩饰方法是整个面部化妆应采用柔和的色调，过于鲜艳的眼妆及口红会加深鼻大的印象。鼻的两侧抹稍暗的鼻影，从鼻根开始，渐渐涂染到鼻翼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鼻子过短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掩饰的方法向鼻尖方向抹鼻影，并在眉头和眼角之间抹入阴影，鼻梁上明亮的底粉与鼻影相配，鼻子太短的感觉便会得到缓解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鼻梁太宽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掩饰方法是修饰时用眼影笔（最好是灰色）在鼻梁两侧画上两条细细的直线，然后在鼻翼两侧施粉底，将粉底与鼻侧线一起轻轻揉开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鼻子长度如果超过全脸的三分之一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用咖啡色的鼻影从上往下抹，在鼻尖处也擦一些，鼻子看起来会短一点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鼻子长度如果不到全脸的三分之一：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看起来感觉就很短，这时要用咖啡色鼻影由眉头沿着鼻子的两侧下涂，直到鼻子的末端，鼻子看起来就会显得长一些 。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鼻梁太低：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可用白色的粉底涂在鼻梁底处，鼻子两端涂上咖啡色鼻影，鼻子就会显得高而挺了。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鹰鼻：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要从鼻子的中央到鼻头都涂上深色的粉底，看起来会缓和不少。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鼻翼张得太大：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看起来不甚美观，修正方法是在两鼻翼部位涂上深色粉底。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用粉底来修正鼻子，是要让鼻子显得挺直而有立体感，但鼻影的深浅不要太分明，以免是人看出来有明显的分界线。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七阶段：鼻形及唇形的处理</a:t>
            </a: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腮红的修饰手法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唇形的处理 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标准唇形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这种唇形的特点是轮廓清晰，唇峰凸起，唇结节明显，下唇略厚于上唇，唇角微翘，唇形圆润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化妆方法：依原有唇形勾画出细而实的唇线，在唇线内的唇面上涂满唇膏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嘴唇过厚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嘴唇过厚使人显得不秀气，有的人是上唇过厚，有的人是下唇过厚或上下唇构过厚，自然要通过化妆来弥补了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化妆方法：用遮盖露涂于嘴唇边缘，甚至包括唇面，并用蜜粉固定。用深色唇线笔沿唇角勾画，保持嘴形本身的长度，将其厚度轮廓向内侧勾画。唇膏宜选用偏冷的滦色，使厚唇得到收敛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嘴唇过薄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过薄的嘴唇让人感觉不够亲切随和。缺少女性丰满、圆润的曲线美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化妆方法：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用唇线笔将轮廓线向外扩展，在原有的唇线外勾画一条唇线。上唇的唇峰描画圆润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，下唇增厚，唇面上涂上亮光油，唇膏应选用偏暖的色彩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．嘴角下垂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和眼角下垂一样，嘴角下垂不仅使人显得愁苦，而且显得没有精神容易见老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化妆方法：用遮盖霜涂于唇轮廓周围，尤其是唇角部位，再用唇线笔勾画轮廓线，改动后两侧的轮廓线使唇具有上翘的趋势。画上唇线时，唇峰略压低，唇角略提高，嘴角向内收。画下唇线时，唇角向内收与上唇线交会。唇中部的唇膏色比唇角略浅一些，突出唇的中部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6521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876521"/>
                </a:solidFill>
                <a:latin typeface="Arial"/>
              </a:rPr>
              <a:t>、嘴唇突出：</a:t>
            </a:r>
            <a:endParaRPr b="0" lang="en-US" sz="2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76521"/>
                </a:solidFill>
                <a:latin typeface="Arial"/>
              </a:rPr>
              <a:t>嘴唇过于突出有向外翻的感觉。</a:t>
            </a:r>
            <a:endParaRPr b="0" lang="en-US" sz="2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76521"/>
                </a:solidFill>
                <a:latin typeface="Arial"/>
              </a:rPr>
              <a:t>化妆方法：画轮廓线时，唇角略向外延，嘴唇中部的上下轮廓线都尽量画直，收敛过于突出的感觉，唇膏宜选用偏冷色。</a:t>
            </a:r>
            <a:endParaRPr b="0" lang="en-US" sz="2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第一阶段：基础课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、化妆品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粉底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：粉底的颜色、型号，及各自的用途，粉底的类型（霜状、粉状、膏状、液状），及适用的肌肤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散粉：散粉的颜色及作用，用法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笔：棕色、灰色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眼线笔：黑色、咖啡色，眼线笔、眼线胶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眼影：各色眼影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腮红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颜色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口红：颜色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卸妆油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7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7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8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8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9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9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9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9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0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0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0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0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1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1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2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2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2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2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嘴唇过大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嘴唇过大向两侧延伸，使下颌显小，使人有不善言语的笨拙感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化妆方法；用遮盖霜涂于唇边缘，包括唇面，用蜜粉固定。画轮廓线时，上下唇角的轮廓线都要向内收缩，在原有的上下唇线内侧勾画唇线，使唇变薄变窄。用深色唇膏，使过大的唇得到收敛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．嘴唇过小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嘴唇过小使下颌最大，使人有小气、琐碎的感觉。                                                 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化妆方法：画轮廓线时，上下唇角的轮廓线都要向外延伸，在原有的上下唇线外侧勾画唇线，使唇变宽变厚。用浅色或亮光唇膏，使过小的唇看起来大一些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腮红的修饰手法 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鹅蛋型脸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很好看的脸型，随着不同场合不同妆容的需要，来刷出自己想要的感觉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腮红的打法：有如鹅蛋状的椭圆形曲线，基础画法是，微笑并找出颧骨最高点，然后立起腮红刷，以画圆的手法涂抹在两颊颧骨处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508720" y="3860640"/>
            <a:ext cx="251928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长型脸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脸部比较长，或是额部长，或者是下巴长，给人不柔和的感觉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腮红的打法：脸型较长者，腮红应剧在两颊的较外侧，以根剧为佳。不能刷至低于鼻尖处，因为瘦长的脸型，腮红必须刷得平圆些，往耳边擦，才可增加脸的宽度，减少脸部给人大长的感觉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084720" y="4221000"/>
            <a:ext cx="19447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589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、圆型脸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可爱的脸型，缺点是脸型较圆较宽，下巴及发际都呈圆形，缺乏立体感。最好能在两腮和额头两边加深色粉底，并且以长线条的方式刷染，强调纵向的线条，拉长脸型。下巴和额头中间加上白色粉底，这样会使圆脸看起来感觉长一点，有立体感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腮红的打法：圆型脸在画腮红时，应用直线条来增加脸部的修长感，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将腮红以斜线的画 法，由颧骨往脸中央刷，可创造出险部的角度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661080" y="2276640"/>
            <a:ext cx="200808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732720" y="3933720"/>
            <a:ext cx="2201760" cy="2459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方型脸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脸型线条较直，方方正正，额头和面额都宽，缺乏温柔感。可在两腮和额头两边加深色粉底，额头中间和下巴加白色粉底，另外再强调出眉和雇等部分的妆彩，这样方型的脸就会表现出温和的特质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腮红的打法：方型脸呈现四四方方的角度，所以在腮红的使用上，必须以圆线条来增加脸部的柔和感，将腮红以画圆的方式，由颧骨往鼻子的方向刷。为了让面颇显得更清秀，过于宽大的部位要用深色腮红来修正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661080" y="117360"/>
            <a:ext cx="2295720" cy="25653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5.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正三角型脸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上窄下宽；额头窄小，两腮方大，给人沉着又威严的感觉。可运用暖色调强调出正三角型脸的沉着、大方、亲切感。在两腮较宽部位加深色粉底，会显得比较深凹，从而弥补下部宽大的缺点，在狭小额头和下巴处加上白色粉底，突出它的饱满感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腮红的打法：在两须剧高些，长些，以斜刷为宜 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倒三角脸型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脸型比较尖；具有上觅下窄的特征；额头较宽，下巴较尖，会给人忧愁的感觉。需在颧骨、下巴和额头两边着深色粉底造成暗影效果，脸颊较瘦的两腮用白色或浅色粉底来修饰，使整个脸看起来丰满、明朗化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腮红的打法：腮红须在颧骨部位颜色加深。利用深度色调掩饰突出过高的颧骨，以使其不至于太明显。 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300720" y="0"/>
            <a:ext cx="220176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、化妆工具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海绵、粉扑、化妆刷、眉剪、眉夹、美目贴、假睫毛、睫毛胶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、棉签、修眉刀、睫毛夹、睫毛膏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．认识脸部的结构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二阶段：粉底的技巧运用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909360"/>
            <a:ext cx="78487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6521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876521"/>
                </a:solidFill>
                <a:latin typeface="Arial"/>
              </a:rPr>
              <a:t>、粉底的选择：干性、中性、油性的皮肤，选择不同质地的粉底</a:t>
            </a: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78487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</a:rPr>
              <a:t>粉饼、粉膏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含油量多，质地厚实、具有良好的遮盖性，是它的特质。需要较多的蜜粉来定妆、容易脱妆，是它的缺点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亲油性的粉底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适合给皮肤干燥、缺水的人使用，妆底中含有的油质能柔软淡化因干燥而产生的表皮细纹，使皮肤看起来较有光泽和弹性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另外，亲油性粉底因为质地厚实，所以能遮盖住一些轻微的瑕疵，如黑斑、红斑、黑眼圈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亲水性的粉霜、粉底液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质感透明细致、容易涂抹均匀、持久性高是它的优点；遮盖性较差是它的缺点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亲水性的粉底水分含量高，不会增加皮肤毛孔负担，很适合皮肤油腻、毛孔粗大、有黑头、粉刺的朋友使用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双用的水粉霜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所谓双用水粉霜指的是在粉底霜中同时含有粉底和蜜粉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种成分。双用水粉霜的优点在于使用后不需要再用蜜粉，并且具有防水、不脱妆、透明自然的功能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6521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、上粉底的步骤和技巧：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第一步：肤色修正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选用紫色、绿色的粉底修正肤色，可以加强粉底调整肤色的功能，用在粉底之前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紫色：修正偏黄的肤色，如嘴唇周围，对黄皮肤的人，还可以起到局部提亮的作用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绿色：修正偏红色的肤色，如鼻翼、脸颊泛红处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将少量修正粉底点在需要调整的部位，可以用海绵也可以用手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海绵：用压擦的手法，一边拍一边涂抹，更均匀细致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手指：用无名指的指腹轻轻推开，拍打均匀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1:23:11Z</dcterms:created>
  <dc:creator>小舞宝贝</dc:creator>
  <dc:description/>
  <dc:language>en-US</dc:language>
  <cp:lastModifiedBy>小舞宝贝</cp:lastModifiedBy>
  <dcterms:modified xsi:type="dcterms:W3CDTF">2013-12-29T09:44:15Z</dcterms:modified>
  <cp:revision>30</cp:revision>
  <dc:subject/>
  <dc:title>基础化妆入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