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24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0F25-B10E-4C4B-925A-1B438F98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1501-85D1-427C-BC7C-8E22EBC9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31CA-FE1C-4B63-A3D9-20CB9DB7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A9E6-26CE-4E55-A2F8-CAA2E877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9BA4-B87F-4164-AF72-8618AF2E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E696-C364-4653-82BC-0DA6A965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55D4-1EC2-4A40-86A4-188F37C6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25D5-2B4A-4699-933F-267DFFDB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BB01-FACB-4E32-BD5D-67E305E7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F573-65AA-480E-A6B9-DE3ACD6E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3D34-6E0C-4DBF-B255-47BEED12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C08E-A2ED-44DF-8F5D-8B1B707E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72CD-2B5A-41EA-9B9E-E930A36C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5729-CDE3-4D2A-9926-E53A4099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B768-EA6E-41C7-AD9A-4D8C2576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9DFC-BC7D-4EDB-9E70-A03F0886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FEFE-5782-427B-B17C-449022AA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36760-90FB-450A-8F8D-491FA8E6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A224F-C78E-4472-B7B8-D88E6FAE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41A75-45D0-4D7F-BE25-C7081926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92E20-F51F-4679-A6D1-DBAA6343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FA948-0C23-40D0-BEF6-1488AA14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CB6-7FD5-4EB5-802B-8C6E0C6E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25104-4AA5-40C3-B112-9EA5CD2B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4A9A5-9350-4474-8D11-17A62A5D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239FC-2BC1-4BA7-88BC-BB78B0CB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9CBDB-97EA-4849-81BA-FB9B97B2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107ED-EAE1-479D-95EE-2B253267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7321F-76B2-45BE-8509-AD676E28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C6518-DE7C-4334-B70E-8ABAA595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C0CA-1226-46C1-B851-3E7F1CB1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FD2B-C433-40D5-A079-FB70885F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50F8-EE17-42AE-B104-D3E987DD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0444-333F-4817-94E0-0E6F2D90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6D1-08A1-40FB-AFE2-58D46330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8C7-D5EA-4E02-B9A2-827A40E5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F2B3-AC05-40D0-9A65-2206AA99C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5680" y="-93600"/>
            <a:ext cx="2770920" cy="6950160"/>
            <a:chOff x="-85680" y="-93600"/>
            <a:chExt cx="2770920" cy="6950160"/>
          </a:xfrm>
        </p:grpSpPr>
        <p:sp>
          <p:nvSpPr>
            <p:cNvPr id="42" name="未知"/>
            <p:cNvSpPr/>
            <p:nvPr/>
          </p:nvSpPr>
          <p:spPr>
            <a:xfrm>
              <a:off x="-6480" y="5178600"/>
              <a:ext cx="74844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68760" y="3921840"/>
              <a:ext cx="888840" cy="720360"/>
              <a:chOff x="68760" y="3921840"/>
              <a:chExt cx="888840" cy="720360"/>
            </a:xfrm>
          </p:grpSpPr>
          <p:sp>
            <p:nvSpPr>
              <p:cNvPr id="44" name="未知"/>
              <p:cNvSpPr/>
              <p:nvPr/>
            </p:nvSpPr>
            <p:spPr>
              <a:xfrm flipH="1" rot="14965200">
                <a:off x="118080" y="3943080"/>
                <a:ext cx="22824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未知"/>
              <p:cNvSpPr/>
              <p:nvPr/>
            </p:nvSpPr>
            <p:spPr>
              <a:xfrm flipH="1" rot="14965200">
                <a:off x="277920" y="4310640"/>
                <a:ext cx="389160" cy="220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未知"/>
              <p:cNvSpPr/>
              <p:nvPr/>
            </p:nvSpPr>
            <p:spPr>
              <a:xfrm flipH="1" rot="14965200">
                <a:off x="631080" y="4155120"/>
                <a:ext cx="40572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未知"/>
            <p:cNvSpPr/>
            <p:nvPr/>
          </p:nvSpPr>
          <p:spPr>
            <a:xfrm>
              <a:off x="144000" y="2755800"/>
              <a:ext cx="112644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0" y="2601000"/>
              <a:ext cx="2685240" cy="3117600"/>
              <a:chOff x="0" y="2601000"/>
              <a:chExt cx="2685240" cy="3117600"/>
            </a:xfrm>
          </p:grpSpPr>
          <p:sp>
            <p:nvSpPr>
              <p:cNvPr id="49" name="未知"/>
              <p:cNvSpPr/>
              <p:nvPr/>
            </p:nvSpPr>
            <p:spPr>
              <a:xfrm flipH="1" rot="789600">
                <a:off x="3873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未知"/>
              <p:cNvSpPr/>
              <p:nvPr/>
            </p:nvSpPr>
            <p:spPr>
              <a:xfrm flipH="1" rot="789600">
                <a:off x="105480" y="2841840"/>
                <a:ext cx="81540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未知"/>
              <p:cNvSpPr/>
              <p:nvPr/>
            </p:nvSpPr>
            <p:spPr>
              <a:xfrm flipH="1" rot="789600">
                <a:off x="3585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 flipH="1" rot="789600">
                <a:off x="883800" y="3792240"/>
                <a:ext cx="26460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 flipH="1" rot="789600">
                <a:off x="808920" y="3854520"/>
                <a:ext cx="6480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852840" y="4055760"/>
                <a:ext cx="1832400" cy="1662840"/>
                <a:chOff x="852840" y="4055760"/>
                <a:chExt cx="1832400" cy="1662840"/>
              </a:xfrm>
            </p:grpSpPr>
            <p:sp>
              <p:nvSpPr>
                <p:cNvPr id="55" name="未知"/>
                <p:cNvSpPr/>
                <p:nvPr/>
              </p:nvSpPr>
              <p:spPr>
                <a:xfrm flipH="1" rot="7102800">
                  <a:off x="1261800" y="3945960"/>
                  <a:ext cx="474480" cy="1213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未知"/>
                <p:cNvSpPr/>
                <p:nvPr/>
              </p:nvSpPr>
              <p:spPr>
                <a:xfrm flipH="1" rot="7102800">
                  <a:off x="2328120" y="4973760"/>
                  <a:ext cx="108720" cy="4978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未知"/>
                <p:cNvSpPr/>
                <p:nvPr/>
              </p:nvSpPr>
              <p:spPr>
                <a:xfrm flipH="1" rot="7102800">
                  <a:off x="2502000" y="5569560"/>
                  <a:ext cx="198360" cy="83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468720" y="6173640"/>
              <a:ext cx="789840" cy="635040"/>
              <a:chOff x="468720" y="6173640"/>
              <a:chExt cx="789840" cy="635040"/>
            </a:xfrm>
          </p:grpSpPr>
          <p:sp>
            <p:nvSpPr>
              <p:cNvPr id="59" name="未知"/>
              <p:cNvSpPr/>
              <p:nvPr/>
            </p:nvSpPr>
            <p:spPr>
              <a:xfrm rot="6248400">
                <a:off x="1013040" y="6174000"/>
                <a:ext cx="19764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rot="6248400">
                <a:off x="761400" y="6513840"/>
                <a:ext cx="337320" cy="21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 rot="6248400">
                <a:off x="387360" y="6410880"/>
                <a:ext cx="35136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18600" y="1775880"/>
              <a:ext cx="784080" cy="693360"/>
              <a:chOff x="318600" y="1775880"/>
              <a:chExt cx="784080" cy="693360"/>
            </a:xfrm>
          </p:grpSpPr>
          <p:sp>
            <p:nvSpPr>
              <p:cNvPr id="63" name="未知"/>
              <p:cNvSpPr/>
              <p:nvPr/>
            </p:nvSpPr>
            <p:spPr>
              <a:xfrm rot="5002800">
                <a:off x="839160" y="1747080"/>
                <a:ext cx="207360" cy="297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 rot="5002800">
                <a:off x="693000" y="2154240"/>
                <a:ext cx="35460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 rot="5002800">
                <a:off x="217440" y="2206080"/>
                <a:ext cx="369360" cy="125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294560" y="0"/>
              <a:ext cx="546120" cy="581400"/>
              <a:chOff x="1294560" y="0"/>
              <a:chExt cx="546120" cy="581400"/>
            </a:xfrm>
          </p:grpSpPr>
          <p:sp>
            <p:nvSpPr>
              <p:cNvPr id="67" name="未知"/>
              <p:cNvSpPr/>
              <p:nvPr/>
            </p:nvSpPr>
            <p:spPr>
              <a:xfrm>
                <a:off x="1294560" y="0"/>
                <a:ext cx="17352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未知"/>
              <p:cNvSpPr/>
              <p:nvPr/>
            </p:nvSpPr>
            <p:spPr>
              <a:xfrm>
                <a:off x="1544040" y="103320"/>
                <a:ext cx="296640" cy="182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1484640" y="489240"/>
                <a:ext cx="30924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未知"/>
            <p:cNvSpPr/>
            <p:nvPr/>
          </p:nvSpPr>
          <p:spPr>
            <a:xfrm>
              <a:off x="139320" y="149400"/>
              <a:ext cx="110880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 rot="828600">
              <a:off x="384840" y="5403600"/>
              <a:ext cx="20916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 rot="828600">
              <a:off x="423360" y="5702040"/>
              <a:ext cx="10440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18720" y="6524640"/>
              <a:ext cx="18684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1080" y="6299280"/>
              <a:ext cx="20592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1080" y="6269040"/>
              <a:ext cx="7416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1080" y="5141880"/>
              <a:ext cx="78840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 rot="1584000">
              <a:off x="32400" y="650520"/>
              <a:ext cx="54576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 rot="1584000">
              <a:off x="384840" y="1200240"/>
              <a:ext cx="26496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 rot="1584000">
              <a:off x="911880" y="453960"/>
              <a:ext cx="23292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 rot="1584000">
              <a:off x="375480" y="1144440"/>
              <a:ext cx="9792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 rot="1584000">
              <a:off x="929160" y="739440"/>
              <a:ext cx="11376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1080" y="1406520"/>
              <a:ext cx="57132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 rot="1584000">
              <a:off x="89640" y="132840"/>
              <a:ext cx="127548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11A4-8BB9-4E1E-B8A5-252466435E8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"/>
            <p:cNvGrpSpPr/>
            <p:nvPr/>
          </p:nvGrpSpPr>
          <p:grpSpPr>
            <a:xfrm>
              <a:off x="5407200" y="63360"/>
              <a:ext cx="3624480" cy="6129000"/>
              <a:chOff x="5407200" y="63360"/>
              <a:chExt cx="3624480" cy="6129000"/>
            </a:xfrm>
          </p:grpSpPr>
          <p:sp>
            <p:nvSpPr>
              <p:cNvPr id="127" name="未知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 flipV="1" rot="11970000">
                <a:off x="7422120" y="1961280"/>
                <a:ext cx="90612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 flipV="1" rot="11970000">
                <a:off x="7252560" y="67572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flipV="1" rot="11970000">
                <a:off x="5937840" y="2930040"/>
                <a:ext cx="523800" cy="326844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未知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138920" y="1037520"/>
              <a:ext cx="1017360" cy="1262520"/>
              <a:chOff x="4138920" y="1037520"/>
              <a:chExt cx="1017360" cy="1262520"/>
            </a:xfrm>
          </p:grpSpPr>
          <p:sp>
            <p:nvSpPr>
              <p:cNvPr id="141" name="未知"/>
              <p:cNvSpPr/>
              <p:nvPr/>
            </p:nvSpPr>
            <p:spPr>
              <a:xfrm rot="3220200">
                <a:off x="4554720" y="1075680"/>
                <a:ext cx="28692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 rot="3220200">
                <a:off x="4638600" y="1608840"/>
                <a:ext cx="489960" cy="316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 rot="3220200">
                <a:off x="4099320" y="1966320"/>
                <a:ext cx="51048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643360" y="297360"/>
              <a:ext cx="889560" cy="832680"/>
              <a:chOff x="5643360" y="297360"/>
              <a:chExt cx="889560" cy="832680"/>
            </a:xfrm>
          </p:grpSpPr>
          <p:sp>
            <p:nvSpPr>
              <p:cNvPr id="145" name="未知"/>
              <p:cNvSpPr/>
              <p:nvPr/>
            </p:nvSpPr>
            <p:spPr>
              <a:xfrm rot="14908200">
                <a:off x="5754600" y="799560"/>
                <a:ext cx="17928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 rot="14908200">
                <a:off x="5704920" y="478800"/>
                <a:ext cx="306360" cy="301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 rot="14908200">
                <a:off x="6243480" y="39708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955080" y="5282280"/>
              <a:ext cx="1061280" cy="834480"/>
              <a:chOff x="955080" y="5282280"/>
              <a:chExt cx="1061280" cy="834480"/>
            </a:xfrm>
          </p:grpSpPr>
          <p:sp>
            <p:nvSpPr>
              <p:cNvPr id="149" name="未知"/>
              <p:cNvSpPr/>
              <p:nvPr/>
            </p:nvSpPr>
            <p:spPr>
              <a:xfrm rot="8524800">
                <a:off x="1698480" y="5550480"/>
                <a:ext cx="25236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 rot="8524800">
                <a:off x="1180800" y="5761080"/>
                <a:ext cx="431280" cy="2494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 rot="8524800">
                <a:off x="946080" y="5406840"/>
                <a:ext cx="44928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58920" y="431640"/>
              <a:ext cx="1692360" cy="1148040"/>
              <a:chOff x="358920" y="431640"/>
              <a:chExt cx="1692360" cy="1148040"/>
            </a:xfrm>
          </p:grpSpPr>
          <p:sp>
            <p:nvSpPr>
              <p:cNvPr id="153" name="未知"/>
              <p:cNvSpPr/>
              <p:nvPr/>
            </p:nvSpPr>
            <p:spPr>
              <a:xfrm flipH="1" rot="4107000">
                <a:off x="1559520" y="1050120"/>
                <a:ext cx="357480" cy="531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 flipH="1" rot="4107000">
                <a:off x="1005480" y="575280"/>
                <a:ext cx="61056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未知"/>
              <p:cNvSpPr/>
              <p:nvPr/>
            </p:nvSpPr>
            <p:spPr>
              <a:xfrm flipH="1" rot="4107000">
                <a:off x="261720" y="1090800"/>
                <a:ext cx="63612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396560" y="3696840"/>
              <a:ext cx="1157760" cy="1609200"/>
              <a:chOff x="7396560" y="3696840"/>
              <a:chExt cx="1157760" cy="1609200"/>
            </a:xfrm>
          </p:grpSpPr>
          <p:sp>
            <p:nvSpPr>
              <p:cNvPr id="157" name="未知"/>
              <p:cNvSpPr/>
              <p:nvPr/>
            </p:nvSpPr>
            <p:spPr>
              <a:xfrm flipH="1" rot="10015800">
                <a:off x="7451640" y="4741200"/>
                <a:ext cx="35712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 flipH="1" rot="10015800">
                <a:off x="7901640" y="4438440"/>
                <a:ext cx="61020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 flipH="1" rot="10015800">
                <a:off x="7594560" y="3765600"/>
                <a:ext cx="63576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未知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3A57-084C-4B20-9161-279879D1A3F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必修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与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0920" y="1341360"/>
            <a:ext cx="88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章   细胞的基本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节  细胞器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系统内的分工合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356000" y="301464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（第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课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3672000" cy="3537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3882960" cy="41767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324000" y="46080"/>
            <a:ext cx="1800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内质网</a:t>
            </a:r>
            <a:endParaRPr b="1" lang="en-US" sz="2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3" name=""/>
          <p:cNvSpPr/>
          <p:nvPr/>
        </p:nvSpPr>
        <p:spPr>
          <a:xfrm>
            <a:off x="826920" y="4653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粗面内质网（附有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48440" y="4572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滑面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551340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单膜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增大了细胞内的膜面积，通常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与核膜连成一体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，与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蛋白质的合成和加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脂质的合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有关；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黑体"/>
              </a:rPr>
              <a:t>蛋白质的运输通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84360" y="115920"/>
            <a:ext cx="4092480" cy="581400"/>
          </a:xfrm>
          <a:prstGeom prst="rect">
            <a:avLst/>
          </a:prstGeom>
          <a:noFill/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布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动、植物细胞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228600" y="0"/>
            <a:ext cx="1873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核糖体</a:t>
            </a:r>
            <a:endParaRPr b="1" lang="en-US" sz="2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973760" cy="477036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28240" y="4797360"/>
            <a:ext cx="853452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有附着型的、有游离型的，是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生产蛋白质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的机器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无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，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合成蛋白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的场所；附在内质网上的核糖体合成的蛋白质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分泌到细胞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，而游离的核糖体合成的蛋白质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供细胞自身利用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234936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813800" y="206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核糖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1840" y="139536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分布：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  <a:ea typeface="黑体"/>
              </a:rPr>
              <a:t>动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Verdana"/>
                <a:ea typeface="黑体"/>
              </a:rPr>
              <a:t>物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6721t02-016"/>
          <p:cNvPicPr/>
          <p:nvPr/>
        </p:nvPicPr>
        <p:blipFill>
          <a:blip r:embed="rId2"/>
          <a:stretch/>
        </p:blipFill>
        <p:spPr>
          <a:xfrm>
            <a:off x="0" y="0"/>
            <a:ext cx="6227640" cy="42973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250920" y="4473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cc"/>
                </a:solidFill>
                <a:latin typeface="黑体"/>
                <a:ea typeface="黑体"/>
              </a:rPr>
              <a:t>高尔基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层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是对来自内质网的蛋白质进行加工、分类和包装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车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发送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932360" y="1606680"/>
            <a:ext cx="4067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与动物细胞分泌物的形成有关；与植物细胞壁的形成有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219306"/>
          <p:cNvPicPr/>
          <p:nvPr/>
        </p:nvPicPr>
        <p:blipFill>
          <a:blip r:embed="rId3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rongmeiti"/>
          <p:cNvPicPr/>
          <p:nvPr/>
        </p:nvPicPr>
        <p:blipFill>
          <a:blip r:embed="rId2"/>
          <a:stretch/>
        </p:blipFill>
        <p:spPr>
          <a:xfrm>
            <a:off x="1547640" y="907920"/>
            <a:ext cx="2238480" cy="3152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rongmeiti2"/>
          <p:cNvPicPr/>
          <p:nvPr/>
        </p:nvPicPr>
        <p:blipFill>
          <a:blip r:embed="rId3"/>
          <a:stretch/>
        </p:blipFill>
        <p:spPr>
          <a:xfrm>
            <a:off x="4500720" y="260280"/>
            <a:ext cx="3474720" cy="3697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4"/>
          <p:cNvSpPr/>
          <p:nvPr/>
        </p:nvSpPr>
        <p:spPr>
          <a:xfrm>
            <a:off x="250920" y="43657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溶酶体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细胞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消化车间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内部含有多种水解酶，能分解衰老、损伤的细胞器、吞噬并杀死侵入细胞的病毒或病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5" descr="219306"/>
          <p:cNvPicPr/>
          <p:nvPr/>
        </p:nvPicPr>
        <p:blipFill>
          <a:blip r:embed="rId4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250920" y="0"/>
            <a:ext cx="1873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液泡</a:t>
            </a:r>
            <a:endParaRPr b="1" lang="en-US" sz="2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5761080" cy="48783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79280" y="5149800"/>
            <a:ext cx="896472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单膜，液泡内有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细胞液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，含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Verdana"/>
                <a:ea typeface="黑体"/>
              </a:rPr>
              <a:t>色素（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与花、果等颜色有关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、糖类、蛋白质、无机盐等；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调节内环境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，维持植物体形态；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黑体"/>
              </a:rPr>
              <a:t>与植物的渗透吸水有关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0920" y="4005360"/>
            <a:ext cx="8642160" cy="581400"/>
          </a:xfrm>
          <a:prstGeom prst="rect">
            <a:avLst/>
          </a:prstGeom>
          <a:solidFill>
            <a:srgbClr val="ccffff"/>
          </a:solidFill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植物成熟的细胞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生组织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如：根尖、茎尖生长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种子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胚细胞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92360" y="2278080"/>
            <a:ext cx="2574720" cy="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0480" y="1884240"/>
            <a:ext cx="912240" cy="5814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细胞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25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4" dur="25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5" dur="25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343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centriol"/>
          <p:cNvPicPr/>
          <p:nvPr/>
        </p:nvPicPr>
        <p:blipFill>
          <a:blip r:embed="rId2"/>
          <a:stretch/>
        </p:blipFill>
        <p:spPr>
          <a:xfrm>
            <a:off x="4427640" y="1268280"/>
            <a:ext cx="2674800" cy="3121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zhongxinti2"/>
          <p:cNvPicPr/>
          <p:nvPr/>
        </p:nvPicPr>
        <p:blipFill>
          <a:blip r:embed="rId3"/>
          <a:stretch/>
        </p:blipFill>
        <p:spPr>
          <a:xfrm>
            <a:off x="934920" y="0"/>
            <a:ext cx="3457800" cy="25923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4"/>
          <p:cNvSpPr/>
          <p:nvPr/>
        </p:nvSpPr>
        <p:spPr>
          <a:xfrm>
            <a:off x="1619280" y="32050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黑体"/>
              </a:rPr>
              <a:t>中心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179280" y="4653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于动物和某些低等植物的细胞，由两个互相垂直排列的中心粒及周围的物质组成，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细胞的有丝分裂有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219306"/>
          <p:cNvPicPr/>
          <p:nvPr/>
        </p:nvPicPr>
        <p:blipFill>
          <a:blip r:embed="rId4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图3-7 动物细胞和植物细胞的亚显微结构模式图"/>
          <p:cNvPicPr/>
          <p:nvPr/>
        </p:nvPicPr>
        <p:blipFill>
          <a:blip r:embed="rId2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3"/>
          <p:cNvSpPr/>
          <p:nvPr/>
        </p:nvSpPr>
        <p:spPr>
          <a:xfrm>
            <a:off x="216000" y="6089760"/>
            <a:ext cx="88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仔细观察动、植物细胞的亚显微结构图，比较两者在结构上有何异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Oval 2"/>
          <p:cNvSpPr/>
          <p:nvPr/>
        </p:nvSpPr>
        <p:spPr>
          <a:xfrm>
            <a:off x="539640" y="1773360"/>
            <a:ext cx="5616720" cy="4432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1835280" y="1144440"/>
            <a:ext cx="22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动物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5342040" y="1144440"/>
            <a:ext cx="22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植物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"/>
          <p:cNvSpPr/>
          <p:nvPr/>
        </p:nvSpPr>
        <p:spPr>
          <a:xfrm>
            <a:off x="3492360" y="1916280"/>
            <a:ext cx="5183280" cy="42894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4068720" y="2508120"/>
            <a:ext cx="1727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粒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糖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尔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酶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619280" y="2997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心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84360" y="37162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低等植物细胞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6489720" y="256536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6470640" y="342900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叶绿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6516720" y="4221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液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250920" y="11592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一、细胞间的分工合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99"/>
                </a:solidFill>
                <a:latin typeface="Arial"/>
                <a:ea typeface="华文新魏"/>
              </a:rPr>
              <a:t>思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如果将一个细胞比作一间工厂，那么，你认为各种细胞器相当于工厂的哪些部门和车间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395280" y="692280"/>
            <a:ext cx="759636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本节聚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细胞器的结构和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395280" y="1917720"/>
          <a:ext cx="8785080" cy="4824360"/>
        </p:xfrm>
        <a:graphic>
          <a:graphicData uri="http://schemas.openxmlformats.org/drawingml/2006/table">
            <a:tbl>
              <a:tblPr/>
              <a:tblGrid>
                <a:gridCol w="2232000"/>
                <a:gridCol w="6553080"/>
              </a:tblGrid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细胞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车间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线粒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叶绿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内质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高尔基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核糖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酶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Text Box 28"/>
          <p:cNvSpPr/>
          <p:nvPr/>
        </p:nvSpPr>
        <p:spPr>
          <a:xfrm>
            <a:off x="2627280" y="53802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养料制造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2627280" y="26431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蛋白质加工、分类、包装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0"/>
          <p:cNvSpPr/>
          <p:nvPr/>
        </p:nvSpPr>
        <p:spPr>
          <a:xfrm>
            <a:off x="2627280" y="61009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产蛋白质的机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1"/>
          <p:cNvSpPr/>
          <p:nvPr/>
        </p:nvSpPr>
        <p:spPr>
          <a:xfrm>
            <a:off x="2627280" y="47322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消化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2"/>
          <p:cNvSpPr/>
          <p:nvPr/>
        </p:nvSpPr>
        <p:spPr>
          <a:xfrm>
            <a:off x="2627280" y="33638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脂质合成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2627280" y="40114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动力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5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下列表格把细胞器类比为细胞内繁忙的“车间”，但对应关系出错了，请进行调整，使对这些细胞器的类比恰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81481E-006 L 0.00018 -0.20949 E">
                                      <p:cBhvr>
                                        <p:cTn id="405" dur="5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07407E-006 L 3.05556E-006 0.19954 E">
                                      <p:cBhvr>
                                        <p:cTn id="408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5185E-006 L 0.00018 -0.30416 E">
                                      <p:cBhvr>
                                        <p:cTn id="414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0023 L 0.00035 0.30416 E">
                                      <p:cBhvr>
                                        <p:cTn id="417" dur="5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395280" y="1557360"/>
          <a:ext cx="8569440" cy="4824360"/>
        </p:xfrm>
        <a:graphic>
          <a:graphicData uri="http://schemas.openxmlformats.org/drawingml/2006/table">
            <a:tbl>
              <a:tblPr/>
              <a:tblGrid>
                <a:gridCol w="2232000"/>
                <a:gridCol w="6337440"/>
              </a:tblGrid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细胞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车间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线粒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叶绿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内质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高尔基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核糖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酶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Text Box 29"/>
          <p:cNvSpPr/>
          <p:nvPr/>
        </p:nvSpPr>
        <p:spPr>
          <a:xfrm>
            <a:off x="2627280" y="29941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养料制造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0"/>
          <p:cNvSpPr/>
          <p:nvPr/>
        </p:nvSpPr>
        <p:spPr>
          <a:xfrm>
            <a:off x="2627280" y="508176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蛋白质加工、分类、包装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1"/>
          <p:cNvSpPr/>
          <p:nvPr/>
        </p:nvSpPr>
        <p:spPr>
          <a:xfrm>
            <a:off x="2627280" y="57340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产蛋白质的机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2"/>
          <p:cNvSpPr/>
          <p:nvPr/>
        </p:nvSpPr>
        <p:spPr>
          <a:xfrm>
            <a:off x="2627280" y="43624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消化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3"/>
          <p:cNvSpPr/>
          <p:nvPr/>
        </p:nvSpPr>
        <p:spPr>
          <a:xfrm>
            <a:off x="2627280" y="2276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动力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4"/>
          <p:cNvSpPr/>
          <p:nvPr/>
        </p:nvSpPr>
        <p:spPr>
          <a:xfrm>
            <a:off x="262728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脂质合成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40741E-007 L 0.00018 0.10532 E">
                                      <p:cBhvr>
                                        <p:cTn id="425" dur="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0.00017 -0.10463 E">
                                      <p:cBhvr>
                                        <p:cTn id="428" dur="5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27080" y="1557360"/>
          <a:ext cx="8713800" cy="4824360"/>
        </p:xfrm>
        <a:graphic>
          <a:graphicData uri="http://schemas.openxmlformats.org/drawingml/2006/table">
            <a:tbl>
              <a:tblPr/>
              <a:tblGrid>
                <a:gridCol w="2523960"/>
                <a:gridCol w="6189840"/>
              </a:tblGrid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细胞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车间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线粒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叶绿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内质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高尔基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核糖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酶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Text Box 29"/>
          <p:cNvSpPr/>
          <p:nvPr/>
        </p:nvSpPr>
        <p:spPr>
          <a:xfrm>
            <a:off x="2627280" y="29941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养料制造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0"/>
          <p:cNvSpPr/>
          <p:nvPr/>
        </p:nvSpPr>
        <p:spPr>
          <a:xfrm>
            <a:off x="2627280" y="435132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蛋白质加工、分类、包装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1"/>
          <p:cNvSpPr/>
          <p:nvPr/>
        </p:nvSpPr>
        <p:spPr>
          <a:xfrm>
            <a:off x="2627280" y="57340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产蛋白质的机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2"/>
          <p:cNvSpPr/>
          <p:nvPr/>
        </p:nvSpPr>
        <p:spPr>
          <a:xfrm>
            <a:off x="2627280" y="50817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消化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3"/>
          <p:cNvSpPr/>
          <p:nvPr/>
        </p:nvSpPr>
        <p:spPr>
          <a:xfrm>
            <a:off x="2627280" y="2276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动力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4"/>
          <p:cNvSpPr/>
          <p:nvPr/>
        </p:nvSpPr>
        <p:spPr>
          <a:xfrm>
            <a:off x="262728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脂质合成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40741E-007 L 5E-006 -0.09468 E">
                                      <p:cBhvr>
                                        <p:cTn id="436" dur="5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0046 L 5E-006 0.09491 E">
                                      <p:cBhvr>
                                        <p:cTn id="438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250920" y="115920"/>
            <a:ext cx="80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课堂小结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: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细胞间的分工合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34920" y="907920"/>
          <a:ext cx="9074160" cy="576252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987480"/>
                <a:gridCol w="1085760"/>
                <a:gridCol w="966960"/>
                <a:gridCol w="969840"/>
                <a:gridCol w="1103400"/>
                <a:gridCol w="1079640"/>
                <a:gridCol w="86508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细胞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线粒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叶绿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内质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高尔基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酶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液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中心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存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</a:tr>
              <a:tr h="37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</a:tr>
            </a:tbl>
          </a:graphicData>
        </a:graphic>
      </p:graphicFrame>
      <p:sp>
        <p:nvSpPr>
          <p:cNvPr id="344" name="Text Box 55"/>
          <p:cNvSpPr/>
          <p:nvPr/>
        </p:nvSpPr>
        <p:spPr>
          <a:xfrm>
            <a:off x="1116000" y="1700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动、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7"/>
          <p:cNvSpPr/>
          <p:nvPr/>
        </p:nvSpPr>
        <p:spPr>
          <a:xfrm>
            <a:off x="1116000" y="2998800"/>
            <a:ext cx="10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有氧呼吸的主要场所，能量供应的“动力工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8"/>
          <p:cNvSpPr/>
          <p:nvPr/>
        </p:nvSpPr>
        <p:spPr>
          <a:xfrm>
            <a:off x="2195640" y="1844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  <a:ea typeface="黑体"/>
              </a:rPr>
              <a:t>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0"/>
          <p:cNvSpPr/>
          <p:nvPr/>
        </p:nvSpPr>
        <p:spPr>
          <a:xfrm>
            <a:off x="2143080" y="2786040"/>
            <a:ext cx="10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光合作用的场所，“养料制造工厂”和”能量转换站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1"/>
          <p:cNvSpPr/>
          <p:nvPr/>
        </p:nvSpPr>
        <p:spPr>
          <a:xfrm>
            <a:off x="3203640" y="166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动、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3"/>
          <p:cNvSpPr/>
          <p:nvPr/>
        </p:nvSpPr>
        <p:spPr>
          <a:xfrm>
            <a:off x="3132000" y="2924280"/>
            <a:ext cx="10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蛋白质合成与加工的车间，运输蛋白质的通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4"/>
          <p:cNvSpPr/>
          <p:nvPr/>
        </p:nvSpPr>
        <p:spPr>
          <a:xfrm>
            <a:off x="4140360" y="166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动、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6"/>
          <p:cNvSpPr/>
          <p:nvPr/>
        </p:nvSpPr>
        <p:spPr>
          <a:xfrm>
            <a:off x="4067280" y="2924280"/>
            <a:ext cx="100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合成蛋白质的场所，为蛋白质的“装配机器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7"/>
          <p:cNvSpPr/>
          <p:nvPr/>
        </p:nvSpPr>
        <p:spPr>
          <a:xfrm>
            <a:off x="5076720" y="1700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动、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9"/>
          <p:cNvSpPr/>
          <p:nvPr/>
        </p:nvSpPr>
        <p:spPr>
          <a:xfrm>
            <a:off x="5076720" y="31528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蛋白质的加工、分类、包装和转运，与细胞分泌物和细胞壁的形成有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0"/>
          <p:cNvSpPr/>
          <p:nvPr/>
        </p:nvSpPr>
        <p:spPr>
          <a:xfrm>
            <a:off x="6084720" y="1700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动、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2"/>
          <p:cNvSpPr/>
          <p:nvPr/>
        </p:nvSpPr>
        <p:spPr>
          <a:xfrm>
            <a:off x="6084720" y="299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消化车间”，分解衰老、损伤的细胞器，防御、营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3"/>
          <p:cNvSpPr/>
          <p:nvPr/>
        </p:nvSpPr>
        <p:spPr>
          <a:xfrm>
            <a:off x="7308720" y="18144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  <a:ea typeface="黑体"/>
              </a:rPr>
              <a:t>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5"/>
          <p:cNvSpPr/>
          <p:nvPr/>
        </p:nvSpPr>
        <p:spPr>
          <a:xfrm>
            <a:off x="7236000" y="31464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调节内环境、维持渗透压、保持细胞坚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6"/>
          <p:cNvSpPr/>
          <p:nvPr/>
        </p:nvSpPr>
        <p:spPr>
          <a:xfrm>
            <a:off x="8282160" y="1844640"/>
            <a:ext cx="8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动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8"/>
          <p:cNvSpPr/>
          <p:nvPr/>
        </p:nvSpPr>
        <p:spPr>
          <a:xfrm>
            <a:off x="8207280" y="3573360"/>
            <a:ext cx="90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与动物细胞的有丝分裂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9" descr="219306"/>
          <p:cNvPicPr/>
          <p:nvPr/>
        </p:nvPicPr>
        <p:blipFill>
          <a:blip r:embed="rId2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课堂巩固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0" y="83664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下列各项中，除哪项外都含有大量的脂质（    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内质网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线粒体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尔基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250920" y="4137120"/>
            <a:ext cx="72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细胞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8"/>
          <p:cNvSpPr/>
          <p:nvPr/>
        </p:nvSpPr>
        <p:spPr>
          <a:xfrm>
            <a:off x="900000" y="3860640"/>
            <a:ext cx="358920" cy="2376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1405080" y="3544920"/>
            <a:ext cx="669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具双层膜的：叶绿体、线粒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1403280" y="4616280"/>
            <a:ext cx="7056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具单层膜的：内质网、高尔基体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液  泡、溶酶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1403280" y="5734080"/>
            <a:ext cx="5112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具膜的：核糖体、中心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179280" y="299736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归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3"/>
          <p:cNvSpPr/>
          <p:nvPr/>
        </p:nvSpPr>
        <p:spPr>
          <a:xfrm>
            <a:off x="539640" y="1341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5"/>
          <p:cNvSpPr/>
          <p:nvPr/>
        </p:nvSpPr>
        <p:spPr>
          <a:xfrm>
            <a:off x="2700360" y="836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0" y="333360"/>
            <a:ext cx="87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水稻叶肉细胞和人的口腔上皮细胞中共有的细胞器是（     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叶绿体、线粒体和中心体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叶绿体、线粒体和高尔基体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线粒体、内质网和中心体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线粒体、内质网和高尔基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0" y="7383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7524720" y="404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217440" y="333360"/>
            <a:ext cx="86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下列物质中，在核糖体内合成的是（   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①性激素    ②纤维素     ③淀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④消化酶    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载体   ⑥胰岛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①②③         B.②③④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C.②④⑥         D.④⑤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395280" y="26028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问题探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chejian1"/>
          <p:cNvPicPr/>
          <p:nvPr/>
        </p:nvPicPr>
        <p:blipFill>
          <a:blip r:embed="rId2"/>
          <a:stretch/>
        </p:blipFill>
        <p:spPr>
          <a:xfrm>
            <a:off x="250920" y="1197000"/>
            <a:ext cx="2466720" cy="2181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chanj3-1"/>
          <p:cNvPicPr/>
          <p:nvPr/>
        </p:nvPicPr>
        <p:blipFill>
          <a:blip r:embed="rId3"/>
          <a:stretch/>
        </p:blipFill>
        <p:spPr>
          <a:xfrm>
            <a:off x="1476360" y="2637000"/>
            <a:ext cx="2649600" cy="1993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yi1"/>
          <p:cNvPicPr/>
          <p:nvPr/>
        </p:nvPicPr>
        <p:blipFill>
          <a:blip r:embed="rId4"/>
          <a:stretch/>
        </p:blipFill>
        <p:spPr>
          <a:xfrm>
            <a:off x="0" y="4292640"/>
            <a:ext cx="2705040" cy="20318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5"/>
          <p:cNvSpPr/>
          <p:nvPr/>
        </p:nvSpPr>
        <p:spPr>
          <a:xfrm>
            <a:off x="4356000" y="2133720"/>
            <a:ext cx="4788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一件优质产品是如何通过各车间和部门之间的配合生产出来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4356000" y="4221000"/>
            <a:ext cx="47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细胞内也存在类似的部门或车间吗？你能举出例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8"/>
          <p:cNvSpPr/>
          <p:nvPr/>
        </p:nvSpPr>
        <p:spPr>
          <a:xfrm>
            <a:off x="1476360" y="2852640"/>
            <a:ext cx="17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细胞质基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3059280" y="2708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3132000" y="41497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4211640" y="414972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多种化学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3995640" y="269892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、无机离子、脂质、糖类、氨基酸、核苷酸、酶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4"/>
          <p:cNvSpPr/>
          <p:nvPr/>
        </p:nvSpPr>
        <p:spPr>
          <a:xfrm flipH="1">
            <a:off x="2842560" y="2852640"/>
            <a:ext cx="144360" cy="1584360"/>
          </a:xfrm>
          <a:custGeom>
            <a:avLst/>
            <a:gdLst>
              <a:gd name="textAreaLeft" fmla="*/ 0 w 144360"/>
              <a:gd name="textAreaRight" fmla="*/ 52200 w 144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02"/>
                </a:lnTo>
                <a:cubicBezTo>
                  <a:pt x="10800" y="9302"/>
                  <a:pt x="16200" y="10202"/>
                  <a:pt x="21600" y="10202"/>
                </a:cubicBezTo>
                <a:cubicBezTo>
                  <a:pt x="16200" y="10202"/>
                  <a:pt x="10800" y="11102"/>
                  <a:pt x="10800" y="1200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1609560" y="1268280"/>
            <a:ext cx="20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细胞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203640" y="11872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指细胞质内的具有一定的形态、结构和功能的小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9"/>
          <p:cNvSpPr/>
          <p:nvPr/>
        </p:nvSpPr>
        <p:spPr>
          <a:xfrm flipH="1">
            <a:off x="1331280" y="1484280"/>
            <a:ext cx="144360" cy="2089080"/>
          </a:xfrm>
          <a:custGeom>
            <a:avLst/>
            <a:gdLst>
              <a:gd name="textAreaLeft" fmla="*/ 0 w 144360"/>
              <a:gd name="textAreaRight" fmla="*/ 52200 w 14436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02"/>
                </a:lnTo>
                <a:cubicBezTo>
                  <a:pt x="10800" y="9302"/>
                  <a:pt x="16200" y="10202"/>
                  <a:pt x="21600" y="10202"/>
                </a:cubicBezTo>
                <a:cubicBezTo>
                  <a:pt x="16200" y="10202"/>
                  <a:pt x="10800" y="11102"/>
                  <a:pt x="10800" y="1200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684360" y="1658880"/>
            <a:ext cx="64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细胞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xtl-4"/>
          <p:cNvPicPr/>
          <p:nvPr/>
        </p:nvPicPr>
        <p:blipFill>
          <a:blip r:embed="rId2"/>
          <a:stretch/>
        </p:blipFill>
        <p:spPr>
          <a:xfrm>
            <a:off x="1763640" y="4365720"/>
            <a:ext cx="1778040" cy="2492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image022"/>
          <p:cNvPicPr/>
          <p:nvPr/>
        </p:nvPicPr>
        <p:blipFill>
          <a:blip r:embed="rId3"/>
          <a:stretch/>
        </p:blipFill>
        <p:spPr>
          <a:xfrm>
            <a:off x="0" y="1092240"/>
            <a:ext cx="9144000" cy="3252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centrifuge3"/>
          <p:cNvPicPr/>
          <p:nvPr/>
        </p:nvPicPr>
        <p:blipFill>
          <a:blip r:embed="rId4"/>
          <a:stretch/>
        </p:blipFill>
        <p:spPr>
          <a:xfrm>
            <a:off x="3635280" y="4329000"/>
            <a:ext cx="1897200" cy="25290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826920" y="333360"/>
            <a:ext cx="694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探究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要研究各种细胞器的组成成分和功能，需要将这些细胞器分离出来，用什么方法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647640" y="332100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用的方法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差速离心法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将细胞膜破坏后，形成由各种细胞器和细胞中其他物质组成的匀浆；将匀浆放入离心管，用高速离心机在不同的转速下进行离心，利用不同的离心速度所产生的不同离心力，就能将各种细胞器分离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95280" y="1844640"/>
            <a:ext cx="84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请阅读课本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4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4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细胞器之间的分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小节，要注意识别各种细胞器并了解它们的分布、形态及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一、细胞器之间的分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4284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黑体"/>
              </a:rPr>
              <a:t>【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模式图辨认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黑体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yaxianwei2"/>
          <p:cNvPicPr/>
          <p:nvPr/>
        </p:nvPicPr>
        <p:blipFill>
          <a:blip r:embed="rId2"/>
          <a:srcRect l="31659" t="67772" r="37351" b="4858"/>
          <a:stretch/>
        </p:blipFill>
        <p:spPr>
          <a:xfrm>
            <a:off x="6443640" y="765000"/>
            <a:ext cx="2627280" cy="1911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yaxianwei2"/>
          <p:cNvPicPr/>
          <p:nvPr/>
        </p:nvPicPr>
        <p:blipFill>
          <a:blip r:embed="rId3"/>
          <a:srcRect l="1453" t="55340" r="77877" b="8377"/>
          <a:stretch/>
        </p:blipFill>
        <p:spPr>
          <a:xfrm>
            <a:off x="6516720" y="3502080"/>
            <a:ext cx="2449440" cy="2158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yaxianwei2"/>
          <p:cNvPicPr/>
          <p:nvPr/>
        </p:nvPicPr>
        <p:blipFill>
          <a:blip r:embed="rId4"/>
          <a:srcRect l="42438" t="35588" r="20535" b="35081"/>
          <a:stretch/>
        </p:blipFill>
        <p:spPr>
          <a:xfrm>
            <a:off x="2843280" y="3478320"/>
            <a:ext cx="2884320" cy="218268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179280" y="836640"/>
            <a:ext cx="2880000" cy="1800000"/>
            <a:chOff x="179280" y="836640"/>
            <a:chExt cx="2880000" cy="1800000"/>
          </a:xfrm>
        </p:grpSpPr>
        <p:pic>
          <p:nvPicPr>
            <p:cNvPr id="239" name="Picture 7" descr="yaxianwei2"/>
            <p:cNvPicPr/>
            <p:nvPr/>
          </p:nvPicPr>
          <p:blipFill>
            <a:blip r:embed="rId5"/>
            <a:srcRect l="36547" t="0" r="18154" b="66121"/>
            <a:stretch/>
          </p:blipFill>
          <p:spPr>
            <a:xfrm>
              <a:off x="179280" y="836640"/>
              <a:ext cx="28800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Rectangle 8"/>
            <p:cNvSpPr/>
            <p:nvPr/>
          </p:nvSpPr>
          <p:spPr>
            <a:xfrm>
              <a:off x="344520" y="945360"/>
              <a:ext cx="876240" cy="31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9" descr="yaxianwei2"/>
          <p:cNvPicPr/>
          <p:nvPr/>
        </p:nvPicPr>
        <p:blipFill>
          <a:blip r:embed="rId6"/>
          <a:srcRect l="66369" t="68974" r="1068" b="6806"/>
          <a:stretch/>
        </p:blipFill>
        <p:spPr>
          <a:xfrm>
            <a:off x="3203640" y="836640"/>
            <a:ext cx="3097080" cy="1812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yaxianwei2"/>
          <p:cNvPicPr/>
          <p:nvPr/>
        </p:nvPicPr>
        <p:blipFill>
          <a:blip r:embed="rId7"/>
          <a:srcRect l="21464" t="33669" r="61266" b="35653"/>
          <a:stretch/>
        </p:blipFill>
        <p:spPr>
          <a:xfrm>
            <a:off x="287280" y="3429000"/>
            <a:ext cx="1908360" cy="21589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1"/>
          <p:cNvSpPr/>
          <p:nvPr/>
        </p:nvSpPr>
        <p:spPr>
          <a:xfrm>
            <a:off x="395280" y="2637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3708360" y="2637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6804000" y="2637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324000" y="566100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060720" y="5661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6659640" y="5661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826920" y="27050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线粒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4282920" y="2708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叶绿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7153200" y="2705040"/>
            <a:ext cx="18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高尔基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690480" y="566100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内质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3780000" y="558972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糖体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内质网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7236000" y="5661000"/>
            <a:ext cx="177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心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6721t02-010"/>
          <p:cNvPicPr/>
          <p:nvPr/>
        </p:nvPicPr>
        <p:blipFill>
          <a:blip r:embed="rId2"/>
          <a:stretch/>
        </p:blipFill>
        <p:spPr>
          <a:xfrm>
            <a:off x="0" y="2492280"/>
            <a:ext cx="2627280" cy="4365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6721t02-009"/>
          <p:cNvPicPr/>
          <p:nvPr/>
        </p:nvPicPr>
        <p:blipFill>
          <a:blip r:embed="rId3"/>
          <a:stretch/>
        </p:blipFill>
        <p:spPr>
          <a:xfrm>
            <a:off x="5148360" y="0"/>
            <a:ext cx="3995640" cy="3635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6721t02-019"/>
          <p:cNvPicPr/>
          <p:nvPr/>
        </p:nvPicPr>
        <p:blipFill>
          <a:blip r:embed="rId4"/>
          <a:stretch/>
        </p:blipFill>
        <p:spPr>
          <a:xfrm>
            <a:off x="4932360" y="4226040"/>
            <a:ext cx="4211640" cy="26319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9"/>
          <p:cNvSpPr/>
          <p:nvPr/>
        </p:nvSpPr>
        <p:spPr>
          <a:xfrm>
            <a:off x="250920" y="189000"/>
            <a:ext cx="58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细胞器之间的分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934920" y="907920"/>
            <a:ext cx="6445440" cy="379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方正舒体"/>
              </a:rPr>
              <a:t>探究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⑴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飞翔鸟类胸肌细胞中线粒体的数量比不飞翔鸟类的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⑵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运动员肌细胞线粒体的数量比缺乏锻练的人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⑶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在体外培养细胞时，新生细胞比衰老或病变细胞的 线粒体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(4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线粒体集中分布在细胞内新陈代谢旺盛的部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上述材料说明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547640" y="3403440"/>
            <a:ext cx="5869080" cy="106884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华文隶书"/>
              </a:rPr>
              <a:t>       </a:t>
            </a:r>
            <a:r>
              <a:rPr b="1" lang="zh-CN" sz="3200" spc="-1" strike="noStrike">
                <a:solidFill>
                  <a:srgbClr val="cc00cc"/>
                </a:solidFill>
                <a:latin typeface="黑体"/>
                <a:ea typeface="黑体"/>
              </a:rPr>
              <a:t>线粒体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双层膜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细胞进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有氧呼吸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主要场所。细胞生命活动所需能量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5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来自线粒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0" descr="219306"/>
          <p:cNvPicPr/>
          <p:nvPr/>
        </p:nvPicPr>
        <p:blipFill>
          <a:blip r:embed="rId5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1"/>
          <p:cNvSpPr/>
          <p:nvPr/>
        </p:nvSpPr>
        <p:spPr>
          <a:xfrm>
            <a:off x="1692360" y="1628640"/>
            <a:ext cx="5688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线粒体的功能是：为细胞的生命活动提供能量，是细胞内的“动力车间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6721t02-013"/>
          <p:cNvPicPr/>
          <p:nvPr/>
        </p:nvPicPr>
        <p:blipFill>
          <a:blip r:embed="rId2"/>
          <a:stretch/>
        </p:blipFill>
        <p:spPr>
          <a:xfrm>
            <a:off x="5940360" y="2852640"/>
            <a:ext cx="2540160" cy="4005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6721t02-020"/>
          <p:cNvPicPr/>
          <p:nvPr/>
        </p:nvPicPr>
        <p:blipFill>
          <a:blip r:embed="rId3"/>
          <a:stretch/>
        </p:blipFill>
        <p:spPr>
          <a:xfrm>
            <a:off x="0" y="0"/>
            <a:ext cx="3276720" cy="2708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yeluti"/>
          <p:cNvPicPr/>
          <p:nvPr/>
        </p:nvPicPr>
        <p:blipFill>
          <a:blip r:embed="rId4"/>
          <a:stretch/>
        </p:blipFill>
        <p:spPr>
          <a:xfrm>
            <a:off x="0" y="3268800"/>
            <a:ext cx="4211640" cy="354492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3276720" y="142920"/>
            <a:ext cx="5867280" cy="173988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cc"/>
                </a:solidFill>
                <a:latin typeface="黑体"/>
                <a:ea typeface="黑体"/>
              </a:rPr>
              <a:t>叶绿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双层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绿色植物细胞进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光合作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场所，是植物细胞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养料制造车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量转换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8" descr="219306"/>
          <p:cNvPicPr/>
          <p:nvPr/>
        </p:nvPicPr>
        <p:blipFill>
          <a:blip r:embed="rId5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9"/>
          <p:cNvSpPr/>
          <p:nvPr/>
        </p:nvSpPr>
        <p:spPr>
          <a:xfrm>
            <a:off x="2700360" y="3213000"/>
            <a:ext cx="36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1258920" y="2852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黑体"/>
              </a:rPr>
              <a:t>叶绿体主要存在于绿色植物的哪些细胞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12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4:29:04Z</dcterms:created>
  <dc:creator>trance46</dc:creator>
  <dc:description/>
  <dc:language>en-US</dc:language>
  <cp:lastModifiedBy>微软用户</cp:lastModifiedBy>
  <cp:lastPrinted>1899-12-30T00:00:00Z</cp:lastPrinted>
  <dcterms:modified xsi:type="dcterms:W3CDTF">2011-10-15T03:37:57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