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24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6C2-96F4-48DD-8BBF-0DE68DDA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7EF-28F3-4395-9E98-C39DA0D8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1A8-5B47-4BD8-A300-3224388D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6A9-4870-493F-85BB-16F474B7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99B1-1C54-490B-B6B2-A1F777E7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8B95-852F-440B-9012-71E288A5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296A-7042-44EB-8D64-08868A91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C87C-8368-482E-B12D-665E83B6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3080-B4F1-485A-9939-442F9A39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E9B3-FF87-496E-AEC7-B81FF315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8F87-2C5B-4346-8429-357547C2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89C-AFEA-4B64-AE35-8D625301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A944-82A7-4805-845F-8006C055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9B8E-884C-4502-A897-FEC02CA1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0040-B3C2-421D-B861-5F2F2FAF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647C-DD1A-4F5B-BF61-228295C8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8DC2-3EB2-4ABC-AA1A-E9B4D323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53DDB-F716-4431-B517-851090C2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0688B-8D68-4EE6-A607-499A8153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5CC2-CF3B-42CE-AC0E-7AD546C5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6112-EAA2-45F6-8B19-293890C1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078D6-52F7-414F-BF8D-2650F359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5DD-F386-48AD-A5B7-AAF5E786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588A-299D-4D29-86ED-740CB6DE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1B0E-2C18-42CA-9AD1-F4E00CFE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97D7-1B76-4C53-9CD9-909AA98F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5D04-7131-4E8D-A93D-3894E434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C1C45-E7F3-479B-B490-EBB4C62B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51BF-B7E0-4AA5-8832-7532AA9E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83C6-621E-4113-8AC2-AD1FD3ED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B16-5299-4375-935F-CB5CCE81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D3A-1404-494C-8047-7C4CF697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520-6269-4A8F-B9A0-38419077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BC0-0AE1-4A06-A9D7-4AA4124B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A61-C5F0-4221-A07F-6B4C2A40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163-211E-42ED-9E98-635F29A1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1258-1FD4-4993-A963-4E1B8DB31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5680" y="-93600"/>
            <a:ext cx="2770920" cy="6950160"/>
            <a:chOff x="-85680" y="-93600"/>
            <a:chExt cx="2770920" cy="6950160"/>
          </a:xfrm>
        </p:grpSpPr>
        <p:sp>
          <p:nvSpPr>
            <p:cNvPr id="42" name="未知"/>
            <p:cNvSpPr/>
            <p:nvPr/>
          </p:nvSpPr>
          <p:spPr>
            <a:xfrm>
              <a:off x="-6480" y="5178600"/>
              <a:ext cx="74844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8760" y="3921840"/>
              <a:ext cx="888840" cy="720360"/>
              <a:chOff x="68760" y="3921840"/>
              <a:chExt cx="888840" cy="720360"/>
            </a:xfrm>
          </p:grpSpPr>
          <p:sp>
            <p:nvSpPr>
              <p:cNvPr id="44" name="未知"/>
              <p:cNvSpPr/>
              <p:nvPr/>
            </p:nvSpPr>
            <p:spPr>
              <a:xfrm flipH="1" rot="14965200">
                <a:off x="118080" y="394308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H="1" rot="14965200">
                <a:off x="277920" y="431064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 rot="14965200">
                <a:off x="63108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未知"/>
            <p:cNvSpPr/>
            <p:nvPr/>
          </p:nvSpPr>
          <p:spPr>
            <a:xfrm>
              <a:off x="144000" y="2755800"/>
              <a:ext cx="112644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2601000"/>
              <a:ext cx="2685240" cy="3117600"/>
              <a:chOff x="0" y="2601000"/>
              <a:chExt cx="2685240" cy="3117600"/>
            </a:xfrm>
          </p:grpSpPr>
          <p:sp>
            <p:nvSpPr>
              <p:cNvPr id="49" name="未知"/>
              <p:cNvSpPr/>
              <p:nvPr/>
            </p:nvSpPr>
            <p:spPr>
              <a:xfrm flipH="1" rot="789600">
                <a:off x="3873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flipH="1" rot="789600">
                <a:off x="105480" y="2841840"/>
                <a:ext cx="81540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789600">
                <a:off x="3585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 rot="789600">
                <a:off x="883800" y="3792240"/>
                <a:ext cx="26460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789600">
                <a:off x="80892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840" y="4055760"/>
                <a:ext cx="1832400" cy="1662840"/>
                <a:chOff x="852840" y="4055760"/>
                <a:chExt cx="1832400" cy="1662840"/>
              </a:xfrm>
            </p:grpSpPr>
            <p:sp>
              <p:nvSpPr>
                <p:cNvPr id="55" name="未知"/>
                <p:cNvSpPr/>
                <p:nvPr/>
              </p:nvSpPr>
              <p:spPr>
                <a:xfrm flipH="1" rot="7102800">
                  <a:off x="1261800" y="3945960"/>
                  <a:ext cx="474480" cy="1213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flipH="1" rot="7102800">
                  <a:off x="250200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8720" y="6173640"/>
              <a:ext cx="789840" cy="635040"/>
              <a:chOff x="468720" y="6173640"/>
              <a:chExt cx="789840" cy="635040"/>
            </a:xfrm>
          </p:grpSpPr>
          <p:sp>
            <p:nvSpPr>
              <p:cNvPr id="59" name="未知"/>
              <p:cNvSpPr/>
              <p:nvPr/>
            </p:nvSpPr>
            <p:spPr>
              <a:xfrm rot="6248400">
                <a:off x="1013040" y="617400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rot="6248400">
                <a:off x="76140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rot="6248400">
                <a:off x="38736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8600" y="1775880"/>
              <a:ext cx="784080" cy="693360"/>
              <a:chOff x="318600" y="1775880"/>
              <a:chExt cx="784080" cy="693360"/>
            </a:xfrm>
          </p:grpSpPr>
          <p:sp>
            <p:nvSpPr>
              <p:cNvPr id="63" name="未知"/>
              <p:cNvSpPr/>
              <p:nvPr/>
            </p:nvSpPr>
            <p:spPr>
              <a:xfrm rot="5002800">
                <a:off x="839160" y="1747080"/>
                <a:ext cx="207360" cy="297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rot="5002800">
                <a:off x="69300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 rot="5002800">
                <a:off x="217440" y="2206080"/>
                <a:ext cx="369360" cy="125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4560" y="0"/>
              <a:ext cx="546120" cy="581400"/>
              <a:chOff x="1294560" y="0"/>
              <a:chExt cx="546120" cy="581400"/>
            </a:xfrm>
          </p:grpSpPr>
          <p:sp>
            <p:nvSpPr>
              <p:cNvPr id="67" name="未知"/>
              <p:cNvSpPr/>
              <p:nvPr/>
            </p:nvSpPr>
            <p:spPr>
              <a:xfrm>
                <a:off x="1294560" y="0"/>
                <a:ext cx="17352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1544040" y="103320"/>
                <a:ext cx="29664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48464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未知"/>
            <p:cNvSpPr/>
            <p:nvPr/>
          </p:nvSpPr>
          <p:spPr>
            <a:xfrm>
              <a:off x="139320" y="149400"/>
              <a:ext cx="110880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828600">
              <a:off x="384840" y="5403600"/>
              <a:ext cx="20916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828600">
              <a:off x="423360" y="5702040"/>
              <a:ext cx="10440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18720" y="6524640"/>
              <a:ext cx="18684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1080" y="6299280"/>
              <a:ext cx="20592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1080" y="6269040"/>
              <a:ext cx="741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1080" y="5141880"/>
              <a:ext cx="78840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 rot="1584000">
              <a:off x="32400" y="650520"/>
              <a:ext cx="54576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rot="1584000">
              <a:off x="384840" y="1200240"/>
              <a:ext cx="26496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rot="1584000">
              <a:off x="911880" y="453960"/>
              <a:ext cx="23292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584000">
              <a:off x="375480" y="1144440"/>
              <a:ext cx="9792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584000">
              <a:off x="929160" y="739440"/>
              <a:ext cx="11376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1080" y="1406520"/>
              <a:ext cx="57132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584000">
              <a:off x="89640" y="132840"/>
              <a:ext cx="127548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E076-29C7-48B7-9CC9-8F52B6D61AE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127" name="未知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未知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38920" y="1037520"/>
              <a:ext cx="1017360" cy="1262520"/>
              <a:chOff x="4138920" y="1037520"/>
              <a:chExt cx="1017360" cy="1262520"/>
            </a:xfrm>
          </p:grpSpPr>
          <p:sp>
            <p:nvSpPr>
              <p:cNvPr id="141" name="未知"/>
              <p:cNvSpPr/>
              <p:nvPr/>
            </p:nvSpPr>
            <p:spPr>
              <a:xfrm rot="3220200">
                <a:off x="4554720" y="107568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3220200">
                <a:off x="4638600" y="1608840"/>
                <a:ext cx="48996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3220200">
                <a:off x="4099320" y="1966320"/>
                <a:ext cx="51048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3360" y="297360"/>
              <a:ext cx="889560" cy="832680"/>
              <a:chOff x="5643360" y="297360"/>
              <a:chExt cx="889560" cy="832680"/>
            </a:xfrm>
          </p:grpSpPr>
          <p:sp>
            <p:nvSpPr>
              <p:cNvPr id="145" name="未知"/>
              <p:cNvSpPr/>
              <p:nvPr/>
            </p:nvSpPr>
            <p:spPr>
              <a:xfrm rot="14908200">
                <a:off x="5754600" y="79956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rot="14908200">
                <a:off x="5704920" y="47880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4908200">
                <a:off x="6243480" y="39708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49" name="未知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8920" y="431640"/>
              <a:ext cx="1692360" cy="1148040"/>
              <a:chOff x="358920" y="431640"/>
              <a:chExt cx="1692360" cy="1148040"/>
            </a:xfrm>
          </p:grpSpPr>
          <p:sp>
            <p:nvSpPr>
              <p:cNvPr id="153" name="未知"/>
              <p:cNvSpPr/>
              <p:nvPr/>
            </p:nvSpPr>
            <p:spPr>
              <a:xfrm flipH="1" rot="4107000">
                <a:off x="1559520" y="1050120"/>
                <a:ext cx="35748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 flipH="1" rot="4107000">
                <a:off x="1005480" y="57528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 flipH="1" rot="4107000">
                <a:off x="261720" y="109080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57" name="未知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未知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25E9-100C-4D29-9E0A-52237B1ED61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修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与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134136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章   细胞的基本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节  细胞器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系统内的分工合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356000" y="301464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672000" cy="3537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388296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324000" y="46080"/>
            <a:ext cx="180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内质网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4653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粗面内质网（附有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48440" y="4572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滑面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551340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单膜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增大了细胞内的膜面积，通常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与核膜连成一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，与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蛋白质的合成和加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脂质的合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有关；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黑体"/>
              </a:rPr>
              <a:t>蛋白质的运输通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115920"/>
            <a:ext cx="4092480" cy="581400"/>
          </a:xfrm>
          <a:prstGeom prst="rect">
            <a:avLst/>
          </a:prstGeom>
          <a:noFill/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动、植物细胞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28600" y="0"/>
            <a:ext cx="187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核糖体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973760" cy="4770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28240" y="4797360"/>
            <a:ext cx="853452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有附着型的、有游离型的，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生产蛋白质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的机器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无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，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合成蛋白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的场所；附在内质网上的核糖体合成的蛋白质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分泌到细胞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，而游离的核糖体合成的蛋白质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供细胞自身利用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234936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813800" y="206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核糖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1840" y="139536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分布：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黑体"/>
              </a:rPr>
              <a:t>动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黑体"/>
              </a:rPr>
              <a:t>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6721t02-016"/>
          <p:cNvPicPr/>
          <p:nvPr/>
        </p:nvPicPr>
        <p:blipFill>
          <a:blip r:embed="rId2"/>
          <a:stretch/>
        </p:blipFill>
        <p:spPr>
          <a:xfrm>
            <a:off x="0" y="0"/>
            <a:ext cx="6227640" cy="42973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250920" y="4473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高尔基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层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是对来自内质网的蛋白质进行加工、分类和包装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车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送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2360" y="1606680"/>
            <a:ext cx="406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与动物细胞分泌物的形成有关；与植物细胞壁的形成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19306"/>
          <p:cNvPicPr/>
          <p:nvPr/>
        </p:nvPicPr>
        <p:blipFill>
          <a:blip r:embed="rId3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rongmeiti"/>
          <p:cNvPicPr/>
          <p:nvPr/>
        </p:nvPicPr>
        <p:blipFill>
          <a:blip r:embed="rId2"/>
          <a:stretch/>
        </p:blipFill>
        <p:spPr>
          <a:xfrm>
            <a:off x="1547640" y="907920"/>
            <a:ext cx="2238480" cy="3152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rongmeiti2"/>
          <p:cNvPicPr/>
          <p:nvPr/>
        </p:nvPicPr>
        <p:blipFill>
          <a:blip r:embed="rId3"/>
          <a:stretch/>
        </p:blipFill>
        <p:spPr>
          <a:xfrm>
            <a:off x="4500720" y="260280"/>
            <a:ext cx="3474720" cy="3697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4"/>
          <p:cNvSpPr/>
          <p:nvPr/>
        </p:nvSpPr>
        <p:spPr>
          <a:xfrm>
            <a:off x="250920" y="4365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溶酶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细胞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消化车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内部含有多种水解酶，能分解衰老、损伤的细胞器、吞噬并杀死侵入细胞的病毒或病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219306"/>
          <p:cNvPicPr/>
          <p:nvPr/>
        </p:nvPicPr>
        <p:blipFill>
          <a:blip r:embed="rId4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50920" y="0"/>
            <a:ext cx="187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液泡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5761080" cy="4878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79280" y="5149800"/>
            <a:ext cx="89647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膜，液泡内有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细胞液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，含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Verdana"/>
                <a:ea typeface="黑体"/>
              </a:rPr>
              <a:t>色素（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与花、果等颜色有关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糖类、蛋白质、无机盐等；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调节内环境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，维持植物体形态；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与植物的渗透吸水有关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4005360"/>
            <a:ext cx="8642160" cy="581400"/>
          </a:xfrm>
          <a:prstGeom prst="rect">
            <a:avLst/>
          </a:prstGeom>
          <a:solidFill>
            <a:srgbClr val="ccffff"/>
          </a:soli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植物成熟的细胞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生组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如：根尖、茎尖生长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种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胚细胞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92360" y="2278080"/>
            <a:ext cx="2574720" cy="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480" y="1884240"/>
            <a:ext cx="912240" cy="581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细胞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4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5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343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centriol"/>
          <p:cNvPicPr/>
          <p:nvPr/>
        </p:nvPicPr>
        <p:blipFill>
          <a:blip r:embed="rId2"/>
          <a:stretch/>
        </p:blipFill>
        <p:spPr>
          <a:xfrm>
            <a:off x="4427640" y="1268280"/>
            <a:ext cx="2674800" cy="3121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zhongxinti2"/>
          <p:cNvPicPr/>
          <p:nvPr/>
        </p:nvPicPr>
        <p:blipFill>
          <a:blip r:embed="rId3"/>
          <a:stretch/>
        </p:blipFill>
        <p:spPr>
          <a:xfrm>
            <a:off x="934920" y="0"/>
            <a:ext cx="3457800" cy="2592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1619280" y="32050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中心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179280" y="4653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于动物和某些低等植物的细胞，由两个互相垂直排列的中心粒及周围的物质组成，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细胞的有丝分裂有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219306"/>
          <p:cNvPicPr/>
          <p:nvPr/>
        </p:nvPicPr>
        <p:blipFill>
          <a:blip r:embed="rId4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图3-7 动物细胞和植物细胞的亚显微结构模式图"/>
          <p:cNvPicPr/>
          <p:nvPr/>
        </p:nvPicPr>
        <p:blipFill>
          <a:blip r:embed="rId2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216000" y="6089760"/>
            <a:ext cx="88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仔细观察动、植物细胞的亚显微结构图，比较两者在结构上有何异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2"/>
          <p:cNvSpPr/>
          <p:nvPr/>
        </p:nvSpPr>
        <p:spPr>
          <a:xfrm>
            <a:off x="539640" y="1773360"/>
            <a:ext cx="5616720" cy="443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835280" y="11444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动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342040" y="114444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植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3492360" y="1916280"/>
            <a:ext cx="5183280" cy="42894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068720" y="2508120"/>
            <a:ext cx="172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粒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糖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尔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酶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619280" y="299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心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84360" y="3716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低等植物细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489720" y="25653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6470640" y="342900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叶绿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516720" y="4221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液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250920" y="1159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一、细胞间的分工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99"/>
                </a:solidFill>
                <a:latin typeface="Arial"/>
                <a:ea typeface="华文新魏"/>
              </a:rPr>
              <a:t>思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如果将一个细胞比作一间工厂，那么，你认为各种细胞器相当于工厂的哪些部门和车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95280" y="692280"/>
            <a:ext cx="75963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本节聚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胞器的结构和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395280" y="1917720"/>
          <a:ext cx="8785080" cy="4824360"/>
        </p:xfrm>
        <a:graphic>
          <a:graphicData uri="http://schemas.openxmlformats.org/drawingml/2006/table">
            <a:tbl>
              <a:tblPr/>
              <a:tblGrid>
                <a:gridCol w="2232000"/>
                <a:gridCol w="655308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Text Box 28"/>
          <p:cNvSpPr/>
          <p:nvPr/>
        </p:nvSpPr>
        <p:spPr>
          <a:xfrm>
            <a:off x="2627280" y="5380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2627280" y="26431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2627280" y="6100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2627280" y="4732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2627280" y="33638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2627280" y="40114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5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下列表格把细胞器类比为细胞内繁忙的“车间”，但对应关系出错了，请进行调整，使对这些细胞器的类比恰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81481E-006 L 0.00018 -0.20949 E">
                                      <p:cBhvr>
                                        <p:cTn id="405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3.05556E-006 0.19954 E">
                                      <p:cBhvr>
                                        <p:cTn id="408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5185E-006 L 0.00018 -0.30416 E">
                                      <p:cBhvr>
                                        <p:cTn id="414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023 L 0.00035 0.30416 E">
                                      <p:cBhvr>
                                        <p:cTn id="417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395280" y="1557360"/>
          <a:ext cx="8569440" cy="4824360"/>
        </p:xfrm>
        <a:graphic>
          <a:graphicData uri="http://schemas.openxmlformats.org/drawingml/2006/table">
            <a:tbl>
              <a:tblPr/>
              <a:tblGrid>
                <a:gridCol w="2232000"/>
                <a:gridCol w="633744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 Box 29"/>
          <p:cNvSpPr/>
          <p:nvPr/>
        </p:nvSpPr>
        <p:spPr>
          <a:xfrm>
            <a:off x="2627280" y="2994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2627280" y="50817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2627280" y="5734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2"/>
          <p:cNvSpPr/>
          <p:nvPr/>
        </p:nvSpPr>
        <p:spPr>
          <a:xfrm>
            <a:off x="2627280" y="43624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262728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262728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0.00018 0.10532 E">
                                      <p:cBhvr>
                                        <p:cTn id="425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0.00017 -0.10463 E">
                                      <p:cBhvr>
                                        <p:cTn id="428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27080" y="1557360"/>
          <a:ext cx="8713800" cy="4824360"/>
        </p:xfrm>
        <a:graphic>
          <a:graphicData uri="http://schemas.openxmlformats.org/drawingml/2006/table">
            <a:tbl>
              <a:tblPr/>
              <a:tblGrid>
                <a:gridCol w="2523960"/>
                <a:gridCol w="618984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29"/>
          <p:cNvSpPr/>
          <p:nvPr/>
        </p:nvSpPr>
        <p:spPr>
          <a:xfrm>
            <a:off x="2627280" y="2994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2627280" y="435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2627280" y="5734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2627280" y="50817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262728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262728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5E-006 -0.09468 E">
                                      <p:cBhvr>
                                        <p:cTn id="436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046 L 5E-006 0.09491 E">
                                      <p:cBhvr>
                                        <p:cTn id="438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250920" y="11592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课堂小结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细胞间的分工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4920" y="907920"/>
          <a:ext cx="9074160" cy="576252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987480"/>
                <a:gridCol w="1085760"/>
                <a:gridCol w="966960"/>
                <a:gridCol w="969840"/>
                <a:gridCol w="1103400"/>
                <a:gridCol w="1079640"/>
                <a:gridCol w="8650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液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中心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存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  <a:tr h="37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</a:tbl>
          </a:graphicData>
        </a:graphic>
      </p:graphicFrame>
      <p:sp>
        <p:nvSpPr>
          <p:cNvPr id="344" name="Text Box 55"/>
          <p:cNvSpPr/>
          <p:nvPr/>
        </p:nvSpPr>
        <p:spPr>
          <a:xfrm>
            <a:off x="111600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7"/>
          <p:cNvSpPr/>
          <p:nvPr/>
        </p:nvSpPr>
        <p:spPr>
          <a:xfrm>
            <a:off x="1116000" y="2998800"/>
            <a:ext cx="10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有氧呼吸的主要场所，能量供应的“动力工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195640" y="1844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黑体"/>
              </a:rPr>
              <a:t>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>
            <a:off x="2143080" y="2786040"/>
            <a:ext cx="10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光合作用的场所，“养料制造工厂”和”能量转换站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1"/>
          <p:cNvSpPr/>
          <p:nvPr/>
        </p:nvSpPr>
        <p:spPr>
          <a:xfrm>
            <a:off x="3203640" y="166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3"/>
          <p:cNvSpPr/>
          <p:nvPr/>
        </p:nvSpPr>
        <p:spPr>
          <a:xfrm>
            <a:off x="3132000" y="2924280"/>
            <a:ext cx="10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蛋白质合成与加工的车间，运输蛋白质的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4"/>
          <p:cNvSpPr/>
          <p:nvPr/>
        </p:nvSpPr>
        <p:spPr>
          <a:xfrm>
            <a:off x="4140360" y="166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6"/>
          <p:cNvSpPr/>
          <p:nvPr/>
        </p:nvSpPr>
        <p:spPr>
          <a:xfrm>
            <a:off x="4067280" y="2924280"/>
            <a:ext cx="100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合成蛋白质的场所，为蛋白质的“装配机器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7"/>
          <p:cNvSpPr/>
          <p:nvPr/>
        </p:nvSpPr>
        <p:spPr>
          <a:xfrm>
            <a:off x="507672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9"/>
          <p:cNvSpPr/>
          <p:nvPr/>
        </p:nvSpPr>
        <p:spPr>
          <a:xfrm>
            <a:off x="5076720" y="31528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蛋白质的加工、分类、包装和转运，与细胞分泌物和细胞壁的形成有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0"/>
          <p:cNvSpPr/>
          <p:nvPr/>
        </p:nvSpPr>
        <p:spPr>
          <a:xfrm>
            <a:off x="608472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2"/>
          <p:cNvSpPr/>
          <p:nvPr/>
        </p:nvSpPr>
        <p:spPr>
          <a:xfrm>
            <a:off x="6084720" y="29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消化车间”，分解衰老、损伤的细胞器，防御、营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3"/>
          <p:cNvSpPr/>
          <p:nvPr/>
        </p:nvSpPr>
        <p:spPr>
          <a:xfrm>
            <a:off x="7308720" y="18144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黑体"/>
              </a:rPr>
              <a:t>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5"/>
          <p:cNvSpPr/>
          <p:nvPr/>
        </p:nvSpPr>
        <p:spPr>
          <a:xfrm>
            <a:off x="7236000" y="31464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调节内环境、维持渗透压、保持细胞坚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6"/>
          <p:cNvSpPr/>
          <p:nvPr/>
        </p:nvSpPr>
        <p:spPr>
          <a:xfrm>
            <a:off x="8282160" y="1844640"/>
            <a:ext cx="8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8"/>
          <p:cNvSpPr/>
          <p:nvPr/>
        </p:nvSpPr>
        <p:spPr>
          <a:xfrm>
            <a:off x="8207280" y="3573360"/>
            <a:ext cx="90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动物细胞的有丝分裂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9" descr="219306"/>
          <p:cNvPicPr/>
          <p:nvPr/>
        </p:nvPicPr>
        <p:blipFill>
          <a:blip r:embed="rId2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课堂巩固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0" y="836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各项中，除哪项外都含有大量的脂质（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质网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50920" y="4137120"/>
            <a:ext cx="7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细胞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900000" y="386064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1405080" y="3544920"/>
            <a:ext cx="669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双层膜的：叶绿体、线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1403280" y="4616280"/>
            <a:ext cx="7056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单层膜的：内质网、高尔基体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液  泡、溶酶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1403280" y="5734080"/>
            <a:ext cx="511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具膜的：核糖体、中心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179280" y="29973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39640" y="134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5"/>
          <p:cNvSpPr/>
          <p:nvPr/>
        </p:nvSpPr>
        <p:spPr>
          <a:xfrm>
            <a:off x="2700360" y="836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0" y="3333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水稻叶肉细胞和人的口腔上皮细胞中共有的细胞器是（ 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叶绿体、线粒体和中心体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叶绿体、线粒体和高尔基体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、内质网和中心体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、内质网和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738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7524720" y="40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217440" y="33336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物质中，在核糖体内合成的是（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①性激素    ②纤维素     ③淀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④消化酶    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载体   ⑥胰岛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①②③         B.②③④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C.②④⑥         D.④⑤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395280" y="260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问题探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chejian1"/>
          <p:cNvPicPr/>
          <p:nvPr/>
        </p:nvPicPr>
        <p:blipFill>
          <a:blip r:embed="rId2"/>
          <a:stretch/>
        </p:blipFill>
        <p:spPr>
          <a:xfrm>
            <a:off x="250920" y="1197000"/>
            <a:ext cx="2466720" cy="2181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hanj3-1"/>
          <p:cNvPicPr/>
          <p:nvPr/>
        </p:nvPicPr>
        <p:blipFill>
          <a:blip r:embed="rId3"/>
          <a:stretch/>
        </p:blipFill>
        <p:spPr>
          <a:xfrm>
            <a:off x="1476360" y="2637000"/>
            <a:ext cx="2649600" cy="199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yi1"/>
          <p:cNvPicPr/>
          <p:nvPr/>
        </p:nvPicPr>
        <p:blipFill>
          <a:blip r:embed="rId4"/>
          <a:stretch/>
        </p:blipFill>
        <p:spPr>
          <a:xfrm>
            <a:off x="0" y="4292640"/>
            <a:ext cx="2705040" cy="2031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5"/>
          <p:cNvSpPr/>
          <p:nvPr/>
        </p:nvSpPr>
        <p:spPr>
          <a:xfrm>
            <a:off x="4356000" y="2133720"/>
            <a:ext cx="478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一件优质产品是如何通过各车间和部门之间的配合生产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4356000" y="422100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细胞内也存在类似的部门或车间吗？你能举出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8"/>
          <p:cNvSpPr/>
          <p:nvPr/>
        </p:nvSpPr>
        <p:spPr>
          <a:xfrm>
            <a:off x="1476360" y="2852640"/>
            <a:ext cx="17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细胞质基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05928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132000" y="4149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4211640" y="4149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多种化学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995640" y="26989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、无机离子、脂质、糖类、氨基酸、核苷酸、酶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 flipH="1">
            <a:off x="2842560" y="2852640"/>
            <a:ext cx="144360" cy="1584360"/>
          </a:xfrm>
          <a:custGeom>
            <a:avLst/>
            <a:gdLst>
              <a:gd name="textAreaLeft" fmla="*/ 0 w 144360"/>
              <a:gd name="textAreaRight" fmla="*/ 5220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02"/>
                </a:lnTo>
                <a:cubicBezTo>
                  <a:pt x="10800" y="9302"/>
                  <a:pt x="16200" y="10202"/>
                  <a:pt x="21600" y="10202"/>
                </a:cubicBezTo>
                <a:cubicBezTo>
                  <a:pt x="16200" y="10202"/>
                  <a:pt x="10800" y="11102"/>
                  <a:pt x="10800" y="1200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1609560" y="126828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细胞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203640" y="118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指细胞质内的具有一定的形态、结构和功能的小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9"/>
          <p:cNvSpPr/>
          <p:nvPr/>
        </p:nvSpPr>
        <p:spPr>
          <a:xfrm flipH="1">
            <a:off x="1331280" y="1484280"/>
            <a:ext cx="144360" cy="2089080"/>
          </a:xfrm>
          <a:custGeom>
            <a:avLst/>
            <a:gdLst>
              <a:gd name="textAreaLeft" fmla="*/ 0 w 144360"/>
              <a:gd name="textAreaRight" fmla="*/ 52200 w 144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02"/>
                </a:lnTo>
                <a:cubicBezTo>
                  <a:pt x="10800" y="9302"/>
                  <a:pt x="16200" y="10202"/>
                  <a:pt x="21600" y="10202"/>
                </a:cubicBezTo>
                <a:cubicBezTo>
                  <a:pt x="16200" y="10202"/>
                  <a:pt x="10800" y="11102"/>
                  <a:pt x="10800" y="1200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84360" y="165888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细胞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xtl-4"/>
          <p:cNvPicPr/>
          <p:nvPr/>
        </p:nvPicPr>
        <p:blipFill>
          <a:blip r:embed="rId2"/>
          <a:stretch/>
        </p:blipFill>
        <p:spPr>
          <a:xfrm>
            <a:off x="1763640" y="4365720"/>
            <a:ext cx="1778040" cy="2492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image022"/>
          <p:cNvPicPr/>
          <p:nvPr/>
        </p:nvPicPr>
        <p:blipFill>
          <a:blip r:embed="rId3"/>
          <a:stretch/>
        </p:blipFill>
        <p:spPr>
          <a:xfrm>
            <a:off x="0" y="1092240"/>
            <a:ext cx="9144000" cy="3252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entrifuge3"/>
          <p:cNvPicPr/>
          <p:nvPr/>
        </p:nvPicPr>
        <p:blipFill>
          <a:blip r:embed="rId4"/>
          <a:stretch/>
        </p:blipFill>
        <p:spPr>
          <a:xfrm>
            <a:off x="3635280" y="4329000"/>
            <a:ext cx="1897200" cy="2529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826920" y="333360"/>
            <a:ext cx="69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探究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要研究各种细胞器的组成成分和功能，需要将这些细胞器分离出来，用什么方法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647640" y="332100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的方法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差速离心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将细胞膜破坏后，形成由各种细胞器和细胞中其他物质组成的匀浆；将匀浆放入离心管，用高速离心机在不同的转速下进行离心，利用不同的离心速度所产生的不同离心力，就能将各种细胞器分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5280" y="184464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阅读课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4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4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胞器之间的分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小节，要注意识别各种细胞器并了解它们的分布、形态及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、细胞器之间的分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428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【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模式图辨认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yaxianwei2"/>
          <p:cNvPicPr/>
          <p:nvPr/>
        </p:nvPicPr>
        <p:blipFill>
          <a:blip r:embed="rId2"/>
          <a:srcRect l="31659" t="67772" r="37351" b="4858"/>
          <a:stretch/>
        </p:blipFill>
        <p:spPr>
          <a:xfrm>
            <a:off x="6443640" y="765000"/>
            <a:ext cx="2627280" cy="191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yaxianwei2"/>
          <p:cNvPicPr/>
          <p:nvPr/>
        </p:nvPicPr>
        <p:blipFill>
          <a:blip r:embed="rId3"/>
          <a:srcRect l="1453" t="55340" r="77877" b="8377"/>
          <a:stretch/>
        </p:blipFill>
        <p:spPr>
          <a:xfrm>
            <a:off x="6516720" y="3502080"/>
            <a:ext cx="2449440" cy="2158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yaxianwei2"/>
          <p:cNvPicPr/>
          <p:nvPr/>
        </p:nvPicPr>
        <p:blipFill>
          <a:blip r:embed="rId4"/>
          <a:srcRect l="42438" t="35588" r="20535" b="35081"/>
          <a:stretch/>
        </p:blipFill>
        <p:spPr>
          <a:xfrm>
            <a:off x="2843280" y="3478320"/>
            <a:ext cx="2884320" cy="218268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79280" y="836640"/>
            <a:ext cx="2880000" cy="1800000"/>
            <a:chOff x="179280" y="836640"/>
            <a:chExt cx="2880000" cy="1800000"/>
          </a:xfrm>
        </p:grpSpPr>
        <p:pic>
          <p:nvPicPr>
            <p:cNvPr id="239" name="Picture 7" descr="yaxianwei2"/>
            <p:cNvPicPr/>
            <p:nvPr/>
          </p:nvPicPr>
          <p:blipFill>
            <a:blip r:embed="rId5"/>
            <a:srcRect l="36547" t="0" r="18154" b="66121"/>
            <a:stretch/>
          </p:blipFill>
          <p:spPr>
            <a:xfrm>
              <a:off x="179280" y="836640"/>
              <a:ext cx="28800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8"/>
            <p:cNvSpPr/>
            <p:nvPr/>
          </p:nvSpPr>
          <p:spPr>
            <a:xfrm>
              <a:off x="344520" y="945360"/>
              <a:ext cx="876240" cy="31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9" descr="yaxianwei2"/>
          <p:cNvPicPr/>
          <p:nvPr/>
        </p:nvPicPr>
        <p:blipFill>
          <a:blip r:embed="rId6"/>
          <a:srcRect l="66369" t="68974" r="1068" b="6806"/>
          <a:stretch/>
        </p:blipFill>
        <p:spPr>
          <a:xfrm>
            <a:off x="3203640" y="836640"/>
            <a:ext cx="3097080" cy="1812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yaxianwei2"/>
          <p:cNvPicPr/>
          <p:nvPr/>
        </p:nvPicPr>
        <p:blipFill>
          <a:blip r:embed="rId7"/>
          <a:srcRect l="21464" t="33669" r="61266" b="35653"/>
          <a:stretch/>
        </p:blipFill>
        <p:spPr>
          <a:xfrm>
            <a:off x="287280" y="3429000"/>
            <a:ext cx="1908360" cy="2158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39528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370836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680400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324000" y="566100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060720" y="5661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6659640" y="5661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826920" y="27050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线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282920" y="270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叶绿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7153200" y="270504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690480" y="566100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内质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3780000" y="5589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糖体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内质网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7236000" y="566100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心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6721t02-010"/>
          <p:cNvPicPr/>
          <p:nvPr/>
        </p:nvPicPr>
        <p:blipFill>
          <a:blip r:embed="rId2"/>
          <a:stretch/>
        </p:blipFill>
        <p:spPr>
          <a:xfrm>
            <a:off x="0" y="2492280"/>
            <a:ext cx="2627280" cy="4365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6721t02-009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635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6721t02-019"/>
          <p:cNvPicPr/>
          <p:nvPr/>
        </p:nvPicPr>
        <p:blipFill>
          <a:blip r:embed="rId4"/>
          <a:stretch/>
        </p:blipFill>
        <p:spPr>
          <a:xfrm>
            <a:off x="4932360" y="4226040"/>
            <a:ext cx="4211640" cy="26319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9"/>
          <p:cNvSpPr/>
          <p:nvPr/>
        </p:nvSpPr>
        <p:spPr>
          <a:xfrm>
            <a:off x="250920" y="189000"/>
            <a:ext cx="58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细胞器之间的分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934920" y="907920"/>
            <a:ext cx="6445440" cy="379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舒体"/>
              </a:rPr>
              <a:t>探究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⑴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飞翔鸟类胸肌细胞中线粒体的数量比不飞翔鸟类的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动员肌细胞线粒体的数量比缺乏锻练的人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⑶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在体外培养细胞时，新生细胞比衰老或病变细胞的 线粒体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(4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线粒体集中分布在细胞内新陈代谢旺盛的部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上述材料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547640" y="3403440"/>
            <a:ext cx="5869080" cy="106884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华文隶书"/>
              </a:rPr>
              <a:t>       </a:t>
            </a: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线粒体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双层膜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细胞进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有氧呼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主要场所。细胞生命活动所需能量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自线粒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219306"/>
          <p:cNvPicPr/>
          <p:nvPr/>
        </p:nvPicPr>
        <p:blipFill>
          <a:blip r:embed="rId5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1692360" y="1628640"/>
            <a:ext cx="568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线粒体的功能是：为细胞的生命活动提供能量，是细胞内的“动力车间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6721t02-013"/>
          <p:cNvPicPr/>
          <p:nvPr/>
        </p:nvPicPr>
        <p:blipFill>
          <a:blip r:embed="rId2"/>
          <a:stretch/>
        </p:blipFill>
        <p:spPr>
          <a:xfrm>
            <a:off x="5940360" y="2852640"/>
            <a:ext cx="2540160" cy="4005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6721t02-020"/>
          <p:cNvPicPr/>
          <p:nvPr/>
        </p:nvPicPr>
        <p:blipFill>
          <a:blip r:embed="rId3"/>
          <a:stretch/>
        </p:blipFill>
        <p:spPr>
          <a:xfrm>
            <a:off x="0" y="0"/>
            <a:ext cx="3276720" cy="2708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yeluti"/>
          <p:cNvPicPr/>
          <p:nvPr/>
        </p:nvPicPr>
        <p:blipFill>
          <a:blip r:embed="rId4"/>
          <a:stretch/>
        </p:blipFill>
        <p:spPr>
          <a:xfrm>
            <a:off x="0" y="3268800"/>
            <a:ext cx="4211640" cy="35449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3276720" y="142920"/>
            <a:ext cx="5867280" cy="17398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叶绿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层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绿色植物细胞进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光合作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场所，是植物细胞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养料制造车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量转换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219306"/>
          <p:cNvPicPr/>
          <p:nvPr/>
        </p:nvPicPr>
        <p:blipFill>
          <a:blip r:embed="rId5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9"/>
          <p:cNvSpPr/>
          <p:nvPr/>
        </p:nvSpPr>
        <p:spPr>
          <a:xfrm>
            <a:off x="2700360" y="321300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258920" y="28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黑体"/>
              </a:rPr>
              <a:t>叶绿体主要存在于绿色植物的哪些细胞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12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9:04Z</dcterms:created>
  <dc:creator>trance46</dc:creator>
  <dc:description/>
  <dc:language>en-US</dc:language>
  <cp:lastModifiedBy>微软用户</cp:lastModifiedBy>
  <cp:lastPrinted>1899-12-30T00:00:00Z</cp:lastPrinted>
  <dcterms:modified xsi:type="dcterms:W3CDTF">2011-10-15T03:37:57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