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A0F-2415-4D89-94C4-C21313DF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E73-8451-4847-B0D8-B9CD855E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21A-E6C3-4D1B-8C98-504FA0AA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DBF-F71E-453C-A0AC-A7034B98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81A-B5F3-4D26-BFEA-11BDE5F6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DF8-E1B7-4A8E-944D-981F80BC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1DC-BEC1-4809-8B73-D428A72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271-D236-4EB5-A1FA-37F6A40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A53F-2BF8-41EC-BD26-CC18E8BA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5623-C043-4F61-A3AD-2256E85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DB78-8D53-42F1-864F-E62FABB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4E3-383B-4ABF-B02B-1C8633A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1221-28FD-4053-9A94-6161F99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E7D-6C59-48A5-BB8C-817A937C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745-B2A3-4933-B353-5CE19642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A883-3650-486E-97D1-0457C49B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16F2-2B11-40D5-9C42-1C53BD08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E145-3605-441F-94D6-5BB6131F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995D-4878-47F1-9AED-ED7F816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C589-94E9-457C-A6A7-3F7123AC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3887-0EB8-4EAD-8AB0-8CBBE951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5382-A8A5-4DE6-AC2C-B419EBA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54B-C932-4E9A-BB37-D9297F54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BC2A-7D34-4D63-824F-BFF9719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BA0C-04DC-46BD-9324-0BC040A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A330-FB8A-4078-AE0F-608F996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680D-0E7B-4B05-9EE5-34CEFD9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AC4F-8133-467F-824B-C926B571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AEE6-6FE6-4F23-BFB0-BF2E7A8E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2130-C774-429A-A757-A5F87D72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456-2825-4C68-AF4D-02BDC540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10F-C7A8-4599-97F8-64EA262C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001-B440-426F-AAB5-2978D84A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2BF-030F-4A3C-853F-193E31AC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A1E-DAB9-4EB6-98D9-8A7D32A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2A2-0E29-4736-BA30-6EF0AE9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F92-AB4C-4E59-B966-3A7ED974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42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AD1-697A-4345-866E-834186EC596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6A1-78D4-46D9-A616-37DE72015EE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与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1341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章   细胞的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节  细胞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系统内的分工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56000" y="3014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72000" cy="3537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88296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24000" y="46080"/>
            <a:ext cx="180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内质网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4653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粗面内质网（附有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844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滑面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55134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单膜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增大了细胞内的膜面积，通常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核膜连成一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，与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蛋白质的合成和加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质的合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有关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蛋白质的运输通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15920"/>
            <a:ext cx="4092480" cy="58140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、植物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核糖体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7376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240" y="4797360"/>
            <a:ext cx="853452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有附着型的、有游离型的，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产蛋白质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的机器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无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合成蛋白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场所；附在内质网上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泌到细胞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而游离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供细胞自身利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840" y="13953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分布：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动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6721t02-016"/>
          <p:cNvPicPr/>
          <p:nvPr/>
        </p:nvPicPr>
        <p:blipFill>
          <a:blip r:embed="rId2"/>
          <a:stretch/>
        </p:blipFill>
        <p:spPr>
          <a:xfrm>
            <a:off x="0" y="0"/>
            <a:ext cx="6227640" cy="429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50920" y="44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高尔基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是对来自内质网的蛋白质进行加工、分类和包装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送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2360" y="1606680"/>
            <a:ext cx="406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动物细胞分泌物的形成有关；与植物细胞壁的形成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19306"/>
          <p:cNvPicPr/>
          <p:nvPr/>
        </p:nvPicPr>
        <p:blipFill>
          <a:blip r:embed="rId3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rongmeiti"/>
          <p:cNvPicPr/>
          <p:nvPr/>
        </p:nvPicPr>
        <p:blipFill>
          <a:blip r:embed="rId2"/>
          <a:stretch/>
        </p:blipFill>
        <p:spPr>
          <a:xfrm>
            <a:off x="1547640" y="907920"/>
            <a:ext cx="2238480" cy="3152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ongmeiti2"/>
          <p:cNvPicPr/>
          <p:nvPr/>
        </p:nvPicPr>
        <p:blipFill>
          <a:blip r:embed="rId3"/>
          <a:stretch/>
        </p:blipFill>
        <p:spPr>
          <a:xfrm>
            <a:off x="4500720" y="260280"/>
            <a:ext cx="3474720" cy="3697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250920" y="43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溶酶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细胞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消化车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部含有多种水解酶，能分解衰老、损伤的细胞器、吞噬并杀死侵入细胞的病毒或病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泡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761080" cy="487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5149800"/>
            <a:ext cx="89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膜，液泡内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Verdana"/>
                <a:ea typeface="黑体"/>
              </a:rPr>
              <a:t>色素（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花、果等颜色有关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糖类、蛋白质、无机盐等；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调节内环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维持植物体形态；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与植物的渗透吸水有关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005360"/>
            <a:ext cx="8642160" cy="581400"/>
          </a:xfrm>
          <a:prstGeom prst="rect">
            <a:avLst/>
          </a:prstGeom>
          <a:solidFill>
            <a:srgbClr val="ccff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植物成熟的细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生组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如：根尖、茎尖生长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种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胚细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278080"/>
            <a:ext cx="257472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480" y="1884240"/>
            <a:ext cx="91224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entriol"/>
          <p:cNvPicPr/>
          <p:nvPr/>
        </p:nvPicPr>
        <p:blipFill>
          <a:blip r:embed="rId2"/>
          <a:stretch/>
        </p:blipFill>
        <p:spPr>
          <a:xfrm>
            <a:off x="4427640" y="1268280"/>
            <a:ext cx="2674800" cy="3121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zhongxinti2"/>
          <p:cNvPicPr/>
          <p:nvPr/>
        </p:nvPicPr>
        <p:blipFill>
          <a:blip r:embed="rId3"/>
          <a:stretch/>
        </p:blipFill>
        <p:spPr>
          <a:xfrm>
            <a:off x="934920" y="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619280" y="320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653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于动物和某些低等植物的细胞，由两个互相垂直排列的中心粒及周围的物质组成，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细胞的有丝分裂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3-7 动物细胞和植物细胞的亚显微结构模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16000" y="608976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仔细观察动、植物细胞的亚显微结构图，比较两者在结构上有何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539640" y="1773360"/>
            <a:ext cx="5616720" cy="443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35280" y="11444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342040" y="11444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492360" y="1916280"/>
            <a:ext cx="5183280" cy="428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68720" y="2508120"/>
            <a:ext cx="17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29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低等植物细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489720" y="2565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70640" y="34290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16720" y="4221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液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5092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、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  <a:ea typeface="华文新魏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如果将一个细胞比作一间工厂，那么，你认为各种细胞器相当于工厂的哪些部门和车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95280" y="692280"/>
            <a:ext cx="75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本节聚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的结构和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95280" y="1917720"/>
          <a:ext cx="878508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5530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8"/>
          <p:cNvSpPr/>
          <p:nvPr/>
        </p:nvSpPr>
        <p:spPr>
          <a:xfrm>
            <a:off x="2627280" y="5380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2627280" y="2643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2627280" y="6100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2627280" y="47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2627280" y="3363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2627280" y="4011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列表格把细胞器类比为细胞内繁忙的“车间”，但对应关系出错了，请进行调整，使对这些细胞器的类比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00018 -0.20949 E">
                                      <p:cBhvr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3.05556E-006 0.19954 E">
                                      <p:cBhvr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0.00018 -0.30416 E">
                                      <p:cBhvr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00035 0.30416 E">
                                      <p:cBhvr>
                                        <p:cTn id="417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95280" y="1557360"/>
          <a:ext cx="856944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3374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2627280" y="5081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2627280" y="4362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00018 0.10532 E">
                                      <p:cBhvr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00017 -0.10463 E"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7080" y="1557360"/>
          <a:ext cx="8713800" cy="4824360"/>
        </p:xfrm>
        <a:graphic>
          <a:graphicData uri="http://schemas.openxmlformats.org/drawingml/2006/table">
            <a:tbl>
              <a:tblPr/>
              <a:tblGrid>
                <a:gridCol w="2523960"/>
                <a:gridCol w="61898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2627280" y="435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2627280" y="50817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5E-006 -0.09468 E">
                                      <p:cBhvr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46 L 5E-006 0.09491 E">
                                      <p:cBhvr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1159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20" y="907920"/>
          <a:ext cx="9074160" cy="57625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987480"/>
                <a:gridCol w="1085760"/>
                <a:gridCol w="966960"/>
                <a:gridCol w="969840"/>
                <a:gridCol w="1103400"/>
                <a:gridCol w="1079640"/>
                <a:gridCol w="865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37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55"/>
          <p:cNvSpPr/>
          <p:nvPr/>
        </p:nvSpPr>
        <p:spPr>
          <a:xfrm>
            <a:off x="111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299880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氧呼吸的主要场所，能量供应的“动力工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184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>
            <a:off x="2143080" y="2786040"/>
            <a:ext cx="10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光合作用的场所，“养料制造工厂”和”能量转换站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1"/>
          <p:cNvSpPr/>
          <p:nvPr/>
        </p:nvSpPr>
        <p:spPr>
          <a:xfrm>
            <a:off x="3203640" y="16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3"/>
          <p:cNvSpPr/>
          <p:nvPr/>
        </p:nvSpPr>
        <p:spPr>
          <a:xfrm>
            <a:off x="3132000" y="292428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蛋白质合成与加工的车间，运输蛋白质的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4140360" y="16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6"/>
          <p:cNvSpPr/>
          <p:nvPr/>
        </p:nvSpPr>
        <p:spPr>
          <a:xfrm>
            <a:off x="4067280" y="2924280"/>
            <a:ext cx="100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合成蛋白质的场所，为蛋白质的“装配机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7"/>
          <p:cNvSpPr/>
          <p:nvPr/>
        </p:nvSpPr>
        <p:spPr>
          <a:xfrm>
            <a:off x="5076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5076720" y="31528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蛋白质的加工、分类、包装和转运，与细胞分泌物和细胞壁的形成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6084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2"/>
          <p:cNvSpPr/>
          <p:nvPr/>
        </p:nvSpPr>
        <p:spPr>
          <a:xfrm>
            <a:off x="608472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消化车间”，分解衰老、损伤的细胞器，防御、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7308720" y="1814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5"/>
          <p:cNvSpPr/>
          <p:nvPr/>
        </p:nvSpPr>
        <p:spPr>
          <a:xfrm>
            <a:off x="7236000" y="31464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调节内环境、维持渗透压、保持细胞坚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6"/>
          <p:cNvSpPr/>
          <p:nvPr/>
        </p:nvSpPr>
        <p:spPr>
          <a:xfrm>
            <a:off x="8282160" y="1844640"/>
            <a:ext cx="8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8207280" y="3573360"/>
            <a:ext cx="9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动物细胞的有丝分裂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9" descr="219306"/>
          <p:cNvPicPr/>
          <p:nvPr/>
        </p:nvPicPr>
        <p:blipFill>
          <a:blip r:embed="rId2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堂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836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各项中，除哪项外都含有大量的脂质（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质网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50920" y="4137120"/>
            <a:ext cx="7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细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900000" y="386064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05080" y="3544920"/>
            <a:ext cx="66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双层膜的：叶绿体、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403280" y="4616280"/>
            <a:ext cx="705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单层膜的：内质网、高尔基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  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403280" y="5734080"/>
            <a:ext cx="51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具膜的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79280" y="2997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134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2700360" y="83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33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稻叶肉细胞和人的口腔上皮细胞中共有的细胞器是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中心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高尔基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中心体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24720" y="40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7440" y="333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物质中，在核糖体内合成的是（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性激素    ②纤维素     ③淀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消化酶    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载体   ⑥胰岛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   B.②③④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C.②④⑥         D.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95280" y="260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问题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hejian1"/>
          <p:cNvPicPr/>
          <p:nvPr/>
        </p:nvPicPr>
        <p:blipFill>
          <a:blip r:embed="rId2"/>
          <a:stretch/>
        </p:blipFill>
        <p:spPr>
          <a:xfrm>
            <a:off x="250920" y="119700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hanj3-1"/>
          <p:cNvPicPr/>
          <p:nvPr/>
        </p:nvPicPr>
        <p:blipFill>
          <a:blip r:embed="rId3"/>
          <a:stretch/>
        </p:blipFill>
        <p:spPr>
          <a:xfrm>
            <a:off x="1476360" y="2637000"/>
            <a:ext cx="2649600" cy="199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yi1"/>
          <p:cNvPicPr/>
          <p:nvPr/>
        </p:nvPicPr>
        <p:blipFill>
          <a:blip r:embed="rId4"/>
          <a:stretch/>
        </p:blipFill>
        <p:spPr>
          <a:xfrm>
            <a:off x="0" y="429264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4356000" y="2133720"/>
            <a:ext cx="47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一件优质产品是如何通过各车间和部门之间的配合生产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356000" y="42210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细胞内也存在类似的部门或车间吗？你能举出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1476360" y="2852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细胞质基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59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13200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21164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多种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995640" y="26989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、无机离子、脂质、糖类、氨基酸、核苷酸、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 flipH="1">
            <a:off x="2842560" y="2852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609560" y="126828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03640" y="118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指细胞质内的具有一定的形态、结构和功能的小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 flipH="1">
            <a:off x="1331280" y="148428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84360" y="16588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细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xtl-4"/>
          <p:cNvPicPr/>
          <p:nvPr/>
        </p:nvPicPr>
        <p:blipFill>
          <a:blip r:embed="rId2"/>
          <a:stretch/>
        </p:blipFill>
        <p:spPr>
          <a:xfrm>
            <a:off x="1763640" y="4365720"/>
            <a:ext cx="1778040" cy="249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image022"/>
          <p:cNvPicPr/>
          <p:nvPr/>
        </p:nvPicPr>
        <p:blipFill>
          <a:blip r:embed="rId3"/>
          <a:stretch/>
        </p:blipFill>
        <p:spPr>
          <a:xfrm>
            <a:off x="0" y="1092240"/>
            <a:ext cx="9144000" cy="3252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entrifuge3"/>
          <p:cNvPicPr/>
          <p:nvPr/>
        </p:nvPicPr>
        <p:blipFill>
          <a:blip r:embed="rId4"/>
          <a:stretch/>
        </p:blipFill>
        <p:spPr>
          <a:xfrm>
            <a:off x="3635280" y="4329000"/>
            <a:ext cx="1897200" cy="25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826920" y="333360"/>
            <a:ext cx="69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探究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要研究各种细胞器的组成成分和功能，需要将这些细胞器分离出来，用什么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47640" y="332100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的方法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差速离心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将细胞膜破坏后，形成由各种细胞器和细胞中其他物质组成的匀浆；将匀浆放入离心管，用高速离心机在不同的转速下进行离心，利用不同的离心速度所产生的不同离心力，就能将各种细胞器分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1844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阅读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之间的分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小节，要注意识别各种细胞器并了解它们的分布、形态及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、细胞器之间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428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模式图辨认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yaxianwei2"/>
          <p:cNvPicPr/>
          <p:nvPr/>
        </p:nvPicPr>
        <p:blipFill>
          <a:blip r:embed="rId2"/>
          <a:srcRect l="31659" t="67772" r="37351" b="4858"/>
          <a:stretch/>
        </p:blipFill>
        <p:spPr>
          <a:xfrm>
            <a:off x="6443640" y="765000"/>
            <a:ext cx="2627280" cy="191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yaxianwei2"/>
          <p:cNvPicPr/>
          <p:nvPr/>
        </p:nvPicPr>
        <p:blipFill>
          <a:blip r:embed="rId3"/>
          <a:srcRect l="1453" t="55340" r="77877" b="8377"/>
          <a:stretch/>
        </p:blipFill>
        <p:spPr>
          <a:xfrm>
            <a:off x="6516720" y="3502080"/>
            <a:ext cx="244944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yaxianwei2"/>
          <p:cNvPicPr/>
          <p:nvPr/>
        </p:nvPicPr>
        <p:blipFill>
          <a:blip r:embed="rId4"/>
          <a:srcRect l="42438" t="35588" r="20535" b="35081"/>
          <a:stretch/>
        </p:blipFill>
        <p:spPr>
          <a:xfrm>
            <a:off x="2843280" y="3478320"/>
            <a:ext cx="28843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79280" y="836640"/>
            <a:ext cx="2880000" cy="1800000"/>
            <a:chOff x="179280" y="836640"/>
            <a:chExt cx="2880000" cy="1800000"/>
          </a:xfrm>
        </p:grpSpPr>
        <p:pic>
          <p:nvPicPr>
            <p:cNvPr id="239" name="Picture 7" descr="yaxianwei2"/>
            <p:cNvPicPr/>
            <p:nvPr/>
          </p:nvPicPr>
          <p:blipFill>
            <a:blip r:embed="rId5"/>
            <a:srcRect l="36547" t="0" r="18154" b="66121"/>
            <a:stretch/>
          </p:blipFill>
          <p:spPr>
            <a:xfrm>
              <a:off x="179280" y="836640"/>
              <a:ext cx="288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344520" y="945360"/>
              <a:ext cx="876240" cy="31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yaxianwei2"/>
          <p:cNvPicPr/>
          <p:nvPr/>
        </p:nvPicPr>
        <p:blipFill>
          <a:blip r:embed="rId6"/>
          <a:srcRect l="66369" t="68974" r="1068" b="6806"/>
          <a:stretch/>
        </p:blipFill>
        <p:spPr>
          <a:xfrm>
            <a:off x="3203640" y="836640"/>
            <a:ext cx="30970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yaxianwei2"/>
          <p:cNvPicPr/>
          <p:nvPr/>
        </p:nvPicPr>
        <p:blipFill>
          <a:blip r:embed="rId7"/>
          <a:srcRect l="21464" t="33669" r="61266" b="35653"/>
          <a:stretch/>
        </p:blipFill>
        <p:spPr>
          <a:xfrm>
            <a:off x="287280" y="3429000"/>
            <a:ext cx="1908360" cy="2158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39528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70836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80400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661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06072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659640" y="566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826920" y="2705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28292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153200" y="27050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690480" y="56610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780000" y="5589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糖体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内质网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7236000" y="5661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6721t02-010"/>
          <p:cNvPicPr/>
          <p:nvPr/>
        </p:nvPicPr>
        <p:blipFill>
          <a:blip r:embed="rId2"/>
          <a:stretch/>
        </p:blipFill>
        <p:spPr>
          <a:xfrm>
            <a:off x="0" y="2492280"/>
            <a:ext cx="2627280" cy="4365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6721t02-009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6721t02-019"/>
          <p:cNvPicPr/>
          <p:nvPr/>
        </p:nvPicPr>
        <p:blipFill>
          <a:blip r:embed="rId4"/>
          <a:stretch/>
        </p:blipFill>
        <p:spPr>
          <a:xfrm>
            <a:off x="4932360" y="422604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250920" y="18900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细胞器之间的分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934920" y="907920"/>
            <a:ext cx="6445440" cy="379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探究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飞翔鸟类胸肌细胞中线粒体的数量比不飞翔鸟类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动员肌细胞线粒体的数量比缺乏锻练的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体外培养细胞时，新生细胞比衰老或病变细胞的 线粒体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线粒体集中分布在细胞内新陈代谢旺盛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述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547640" y="3403440"/>
            <a:ext cx="5869080" cy="10688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线粒体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细胞进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氧呼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主要场所。细胞生命活动所需能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自线粒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1692360" y="1628640"/>
            <a:ext cx="56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粒体的功能是：为细胞的生命活动提供能量，是细胞内的“动力车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6721t02-013"/>
          <p:cNvPicPr/>
          <p:nvPr/>
        </p:nvPicPr>
        <p:blipFill>
          <a:blip r:embed="rId2"/>
          <a:stretch/>
        </p:blipFill>
        <p:spPr>
          <a:xfrm>
            <a:off x="5940360" y="2852640"/>
            <a:ext cx="2540160" cy="400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6721t02-020"/>
          <p:cNvPicPr/>
          <p:nvPr/>
        </p:nvPicPr>
        <p:blipFill>
          <a:blip r:embed="rId3"/>
          <a:stretch/>
        </p:blipFill>
        <p:spPr>
          <a:xfrm>
            <a:off x="0" y="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yeluti"/>
          <p:cNvPicPr/>
          <p:nvPr/>
        </p:nvPicPr>
        <p:blipFill>
          <a:blip r:embed="rId4"/>
          <a:stretch/>
        </p:blipFill>
        <p:spPr>
          <a:xfrm>
            <a:off x="0" y="3268800"/>
            <a:ext cx="4211640" cy="3544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276720" y="142920"/>
            <a:ext cx="5867280" cy="17398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叶绿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绿色植物细胞进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光合作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场所，是植物细胞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养料制造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量转换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2700360" y="321300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25892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叶绿体主要存在于绿色植物的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2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9:04Z</dcterms:created>
  <dc:creator>trance46</dc:creator>
  <dc:description/>
  <dc:language>en-US</dc:language>
  <cp:lastModifiedBy>微软用户</cp:lastModifiedBy>
  <cp:lastPrinted>1899-12-30T00:00:00Z</cp:lastPrinted>
  <dcterms:modified xsi:type="dcterms:W3CDTF">2011-10-15T03:3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