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jpeg" ContentType="image/jpeg"/>
  <Override PartName="/ppt/media/image11.jpeg" ContentType="image/jpeg"/>
  <Override PartName="/ppt/media/image7.jpeg" ContentType="image/jpeg"/>
  <Override PartName="/ppt/media/image6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46948-F7EC-44CA-B194-850C06A2D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B9049-1343-40F8-B156-A697E19D3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EA857-63D4-433F-AAF0-8CCE8525B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158C5-CED5-4260-ACC0-E9512EE64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ED342-A670-4FF8-9720-F680F4081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972C7-A841-468E-A71E-8662B9462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1D222-E091-4CFD-B205-25231BA90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723E5-02D8-44E9-8A81-380C9215C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18DFA-5E3D-4BC6-B3D1-B1AC1797E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7C6A3-E61F-44CC-BF52-C2CAA2EB6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04F22-3F47-4178-BAC1-1F25843AF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0F4F4-9975-473B-ADB9-D3D788544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05042-9193-4EEE-99D5-F4D5198A8A5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mysweetmoon.taobao.com/" TargetMode="External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rcRect l="2362" t="1730" r="2344" b="-639"/>
          <a:stretch/>
        </p:blipFill>
        <p:spPr>
          <a:xfrm>
            <a:off x="0" y="1190520"/>
            <a:ext cx="9144000" cy="438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-34920" y="1339920"/>
            <a:ext cx="9144000" cy="422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34920" y="1339920"/>
            <a:ext cx="9144000" cy="422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0" y="1268280"/>
          <a:ext cx="9144000" cy="4205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68280"/>
                    <a:ext cx="9144000" cy="420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rcRect l="0" t="1729" r="0" b="4474"/>
          <a:stretch/>
        </p:blipFill>
        <p:spPr>
          <a:xfrm>
            <a:off x="0" y="1397160"/>
            <a:ext cx="9178920" cy="39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rcRect l="0" t="1729" r="0" b="0"/>
          <a:stretch/>
        </p:blipFill>
        <p:spPr>
          <a:xfrm>
            <a:off x="34920" y="1413000"/>
            <a:ext cx="9144000" cy="41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rcRect l="4740" t="1729" r="6285" b="6203"/>
          <a:stretch/>
        </p:blipFill>
        <p:spPr>
          <a:xfrm>
            <a:off x="0" y="1125360"/>
            <a:ext cx="9144000" cy="43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rcRect l="4740" t="1730" r="6285" b="7895"/>
          <a:stretch/>
        </p:blipFill>
        <p:spPr>
          <a:xfrm>
            <a:off x="0" y="1268280"/>
            <a:ext cx="9144000" cy="428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5521" t="1729" r="382" b="1089"/>
          <a:stretch/>
        </p:blipFill>
        <p:spPr>
          <a:xfrm>
            <a:off x="0" y="1197000"/>
            <a:ext cx="9144000" cy="43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>
            <a:hlinkClick r:id="rId1"/>
          </p:cNvPr>
          <p:cNvPicPr/>
          <p:nvPr/>
        </p:nvPicPr>
        <p:blipFill>
          <a:blip r:embed="rId2"/>
          <a:srcRect l="5521" t="1729" r="4704" b="1089"/>
          <a:stretch/>
        </p:blipFill>
        <p:spPr>
          <a:xfrm>
            <a:off x="0" y="1125360"/>
            <a:ext cx="9144000" cy="457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rcRect l="4740" t="0" r="3125" b="0"/>
          <a:stretch/>
        </p:blipFill>
        <p:spPr>
          <a:xfrm>
            <a:off x="0" y="979560"/>
            <a:ext cx="9144000" cy="458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1341360"/>
            <a:ext cx="9144000" cy="422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0" y="1413000"/>
          <a:ext cx="9144000" cy="409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413000"/>
                    <a:ext cx="9144000" cy="409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1341360"/>
            <a:ext cx="9144000" cy="422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1341360"/>
            <a:ext cx="9144000" cy="422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1341360"/>
            <a:ext cx="9144000" cy="422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1341360"/>
            <a:ext cx="9144000" cy="422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rcRect l="0" t="0" r="0" b="6203"/>
          <a:stretch/>
        </p:blipFill>
        <p:spPr>
          <a:xfrm>
            <a:off x="34920" y="1339920"/>
            <a:ext cx="914400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6T11:03:24Z</dcterms:created>
  <dc:creator>ppsbook.com</dc:creator>
  <dc:description/>
  <cp:keywords/>
  <dc:language>en-US</dc:language>
  <cp:lastModifiedBy>user</cp:lastModifiedBy>
  <cp:lastPrinted>1899-12-30T00:00:00Z</cp:lastPrinted>
  <dcterms:modified xsi:type="dcterms:W3CDTF">2011-04-24T12:17:40Z</dcterms:modified>
  <cp:revision>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699</vt:lpwstr>
  </property>
</Properties>
</file>