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DD8-1F69-4549-A72E-702BEBE1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B1AC-E180-407E-9FD5-03CBECE9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3FD-6EEC-4E69-BFFF-0B940C9D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A77-7B74-48DD-8E86-0812211D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A31D-855D-4185-9792-FC54D5A9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FC4D-C87C-45E7-87A1-7112C270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AFC-BEF1-4059-AFEA-C226A848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B29-CBFF-44C6-96F0-B50D6D5B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52D-2E81-4D61-B972-3AFAE8CA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1C01-63A8-4359-9FE2-CC5EB672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E49-8E18-4521-9CED-0AB583CA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A641-6F8F-498C-AF07-6B691944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CEA1-5EC8-41B9-A327-5F334B0386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mysweetmoon.taobao.com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2362" t="1730" r="2344" b="-639"/>
          <a:stretch/>
        </p:blipFill>
        <p:spPr>
          <a:xfrm>
            <a:off x="0" y="1190520"/>
            <a:ext cx="91440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4920" y="133992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133992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268280"/>
          <a:ext cx="9144000" cy="42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42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1729" r="0" b="4474"/>
          <a:stretch/>
        </p:blipFill>
        <p:spPr>
          <a:xfrm>
            <a:off x="0" y="1397160"/>
            <a:ext cx="91789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1729" r="0" b="0"/>
          <a:stretch/>
        </p:blipFill>
        <p:spPr>
          <a:xfrm>
            <a:off x="34920" y="1413000"/>
            <a:ext cx="9144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4740" t="1729" r="6285" b="6203"/>
          <a:stretch/>
        </p:blipFill>
        <p:spPr>
          <a:xfrm>
            <a:off x="0" y="1125360"/>
            <a:ext cx="91440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4740" t="1730" r="6285" b="7895"/>
          <a:stretch/>
        </p:blipFill>
        <p:spPr>
          <a:xfrm>
            <a:off x="0" y="1268280"/>
            <a:ext cx="914400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5521" t="1729" r="382" b="1089"/>
          <a:stretch/>
        </p:blipFill>
        <p:spPr>
          <a:xfrm>
            <a:off x="0" y="1197000"/>
            <a:ext cx="914400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rcRect l="5521" t="1729" r="4704" b="1089"/>
          <a:stretch/>
        </p:blipFill>
        <p:spPr>
          <a:xfrm>
            <a:off x="0" y="1125360"/>
            <a:ext cx="91440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4740" t="0" r="3125" b="0"/>
          <a:stretch/>
        </p:blipFill>
        <p:spPr>
          <a:xfrm>
            <a:off x="0" y="979560"/>
            <a:ext cx="91440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413000"/>
          <a:ext cx="914400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0" b="6203"/>
          <a:stretch/>
        </p:blipFill>
        <p:spPr>
          <a:xfrm>
            <a:off x="34920" y="1339920"/>
            <a:ext cx="9144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11:03:24Z</dcterms:created>
  <dc:creator>ppsbook.com</dc:creator>
  <dc:description/>
  <cp:keywords/>
  <dc:language>en-US</dc:language>
  <cp:lastModifiedBy>user</cp:lastModifiedBy>
  <cp:lastPrinted>1899-12-30T00:00:00Z</cp:lastPrinted>
  <dcterms:modified xsi:type="dcterms:W3CDTF">2011-04-24T12:17:40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