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9D6E-7D21-48BF-9ABA-244676979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95AB-194C-4CBC-B9D3-12822ABC6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B5C8-12FB-42D0-BE63-018252921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F51E-D31C-41EA-B3CB-30232C5AF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4ED9-B34F-484D-9032-F822767CA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1A72-8056-434D-A19C-8BB917B17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A19A-C2D4-4538-8DEA-CD8C397DE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A8DF-410C-4B50-964D-74A3C2139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E513-0027-4B87-A12F-1F3996A30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1610-3EA9-4A28-8A01-62283274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570F-086C-48E8-BE82-56358280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4BA2-7C35-480B-97F1-85751CC5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A298E-8730-4129-90C3-EEF9B24E2F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15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wmf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56000" y="1844640"/>
            <a:ext cx="446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5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我的房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900000" y="1871640"/>
            <a:ext cx="7056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是，想完了所有的之后，我最最喜欢的还是——我自己现在的房间。在这里，我可以读书，可以幻想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332000" y="239328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说一说：我最喜欢（         ），因为（            ）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187280" y="198900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请你展开想象，说说你希望自己拥有一间怎样的房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692360" y="1197000"/>
            <a:ext cx="576108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间魔术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（    ）潜水艇       一（    ）轮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（    ）学校           一（    ）翅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（    ）橘子汽水    一（    ）饼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191628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51640" y="191628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11280" y="256536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724360" y="25653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11280" y="321300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24360" y="321300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>
            <a:hlinkClick r:id="rId2" action="ppaction://hlinksldjump"/>
          </p:cNvPr>
          <p:cNvSpPr/>
          <p:nvPr/>
        </p:nvSpPr>
        <p:spPr>
          <a:xfrm>
            <a:off x="755640" y="1844640"/>
            <a:ext cx="756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zǎi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z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i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00360" y="2133720"/>
            <a:ext cx="360360" cy="1368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1690560" y="1557360"/>
            <a:ext cx="5977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       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  饼   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       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48000" y="270828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3280" y="2708280"/>
            <a:ext cx="64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3419640" y="3068640"/>
            <a:ext cx="57600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500720" y="1915920"/>
            <a:ext cx="720720" cy="50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3068640"/>
            <a:ext cx="71928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19640" y="1916280"/>
            <a:ext cx="576000" cy="50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187280" y="836640"/>
            <a:ext cx="705816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自学要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读准字音，自学生字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并且为课文标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节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思考：“我有一间怎样的房间？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用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线划出有关句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>
            <a:lum bright="24000"/>
          </a:blip>
          <a:srcRect l="3544" t="3798" r="5118" b="5902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11280" y="1957320"/>
            <a:ext cx="7561080" cy="17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翅   膀   墙   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3" action="ppaction://hlinksldjump"/>
              </a:rPr>
              <a:t>饼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克   司   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" action="ppaction://hlinksldjump"/>
              </a:rPr>
              <a:t>载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幻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116000" y="1989000"/>
            <a:ext cx="69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功课    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翅膀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墙壁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饼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巧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力  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司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机    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载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重    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幻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042920" y="1557360"/>
            <a:ext cx="691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有一间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屋子。我的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都放 在那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42920" y="981000"/>
            <a:ext cx="6913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很喜欢我的房间。可是，有时候，我希望我的房子跟现在不一样。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71640" y="2276640"/>
            <a:ext cx="7056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是，想完了所有的之后，我最最喜欢的还是——我自己现在的房间。在这里，我可以读书，可以幻想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258920" y="1905120"/>
            <a:ext cx="669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轻声朗读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—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节，思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对我的房间有什么幻想？为什么会有这些幻想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1116000" y="620640"/>
            <a:ext cx="2063880" cy="1521000"/>
            <a:chOff x="1116000" y="620640"/>
            <a:chExt cx="2063880" cy="1521000"/>
          </a:xfrm>
        </p:grpSpPr>
        <p:sp>
          <p:nvSpPr>
            <p:cNvPr id="55" name=""/>
            <p:cNvSpPr/>
            <p:nvPr/>
          </p:nvSpPr>
          <p:spPr>
            <a:xfrm>
              <a:off x="2468880" y="1732680"/>
              <a:ext cx="322560" cy="30924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71480" y="1822680"/>
              <a:ext cx="129240" cy="123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1116000" y="620640"/>
              <a:ext cx="2063880" cy="15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1502280" y="1795320"/>
              <a:ext cx="322560" cy="30924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604880" y="1885320"/>
              <a:ext cx="129240" cy="123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18520" y="1795320"/>
              <a:ext cx="322560" cy="30924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120760" y="1885320"/>
              <a:ext cx="129240" cy="123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1619280" y="2205000"/>
            <a:ext cx="2784240" cy="1449360"/>
            <a:chOff x="1619280" y="2205000"/>
            <a:chExt cx="2784240" cy="1449360"/>
          </a:xfrm>
        </p:grpSpPr>
        <p:graphicFrame>
          <p:nvGraphicFramePr>
            <p:cNvPr id="63" name=""/>
            <p:cNvGraphicFramePr/>
            <p:nvPr/>
          </p:nvGraphicFramePr>
          <p:xfrm>
            <a:off x="1619280" y="2390040"/>
            <a:ext cx="893520" cy="1020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19280" y="2390040"/>
                      <a:ext cx="893520" cy="102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65" name="" descr=""/>
            <p:cNvPicPr/>
            <p:nvPr/>
          </p:nvPicPr>
          <p:blipFill>
            <a:blip r:embed="rId4"/>
            <a:stretch/>
          </p:blipFill>
          <p:spPr>
            <a:xfrm>
              <a:off x="2060640" y="2205000"/>
              <a:ext cx="1933560" cy="14493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66" name=""/>
            <p:cNvGraphicFramePr/>
            <p:nvPr/>
          </p:nvGraphicFramePr>
          <p:xfrm>
            <a:off x="3608280" y="2452680"/>
            <a:ext cx="795240" cy="954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608280" y="2452680"/>
                      <a:ext cx="795240" cy="95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68" name="" descr=""/>
          <p:cNvPicPr/>
          <p:nvPr/>
        </p:nvPicPr>
        <p:blipFill>
          <a:blip r:embed="rId7"/>
          <a:stretch/>
        </p:blipFill>
        <p:spPr>
          <a:xfrm>
            <a:off x="5651640" y="549360"/>
            <a:ext cx="2233440" cy="17222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8"/>
          <a:stretch/>
        </p:blipFill>
        <p:spPr>
          <a:xfrm>
            <a:off x="3419640" y="549360"/>
            <a:ext cx="1742760" cy="1536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9"/>
          <a:stretch/>
        </p:blipFill>
        <p:spPr>
          <a:xfrm>
            <a:off x="5076720" y="2349360"/>
            <a:ext cx="1954440" cy="1324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836720" y="37893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希望有轮子可以开着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22480" y="5950080"/>
            <a:ext cx="5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句子中为什么要加上更、也、特别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53160" y="602136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Arial"/>
              </a:rPr>
              <a:t>从这些幻想中，可以看出我是一个怎样的孩子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92720" y="4221000"/>
            <a:ext cx="188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希望房间可以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64720" y="46530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希望房子是潜水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67640" y="501336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特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希望自己的房间是一间魔术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720" y="544500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希望自己的房间变成学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116000" y="2407680"/>
            <a:ext cx="668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最喜欢哪一节？说说你的理由，试着背一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0T00:19:53Z</dcterms:created>
  <dc:creator>kay</dc:creator>
  <dc:description/>
  <dc:language>en-US</dc:language>
  <cp:lastModifiedBy>微软用户</cp:lastModifiedBy>
  <dcterms:modified xsi:type="dcterms:W3CDTF">2012-02-13T12:18:00Z</dcterms:modified>
  <cp:revision>7</cp:revision>
  <dc:subject/>
  <dc:title>幻灯片 1</dc:title>
</cp:coreProperties>
</file>