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0862-0FF5-4C70-A4EE-662647F2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D537-FA00-4018-B1D6-9494ECE0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2D2-A6C6-4185-A8B2-6E873067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BDDA-D46A-4594-B284-34B5B494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404F-5512-47EC-ADF1-B4C5884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E91-4E4F-41A1-A988-991B0E8E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0DB-4344-45EE-8F41-C38270F1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757-69D9-40E3-8362-984B839E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057-72A1-4E39-9F51-507D18F9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161-260E-4B29-B6AE-8A0EF25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050-7EEB-4CC4-91A6-BCAF39B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AC8-1D67-4BA2-8BD8-7E706027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F46-2303-485D-B49C-9B41B188B0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56000" y="1844640"/>
            <a:ext cx="44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5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的房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00000" y="1871640"/>
            <a:ext cx="705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2393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一说：我最喜欢（         ），因为（      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你展开想象，说说你希望自己拥有一间怎样的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92360" y="1197000"/>
            <a:ext cx="57610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间魔术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潜水艇       一（    ）轮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学校           一（    ）翅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（    ）橘子汽水    一（    ）饼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916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191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56536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256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213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755640" y="184464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ǎ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i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2133720"/>
            <a:ext cx="360360" cy="1368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1690560" y="1557360"/>
            <a:ext cx="5977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饼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2708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19640" y="3068640"/>
            <a:ext cx="57600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00720" y="1915920"/>
            <a:ext cx="72072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068640"/>
            <a:ext cx="71928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916280"/>
            <a:ext cx="576000" cy="50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836640"/>
            <a:ext cx="70581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读准字音，自学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为课文标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节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思考：“我有一间怎样的房间？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线划出有关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24000"/>
          </a:blip>
          <a:srcRect l="3544" t="3798" r="5118" b="590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957320"/>
            <a:ext cx="756108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   膀   墙   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饼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克   司   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幻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98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课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翅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墙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饼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力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155736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有一间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屋子。我的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都放 在那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981000"/>
            <a:ext cx="6913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很喜欢我的房间。可是，有时候，我希望我的房子跟现在不一样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705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是，想完了所有的之后，我最最喜欢的还是——我自己现在的房间。在这里，我可以读书，可以幻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58920" y="1905120"/>
            <a:ext cx="66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轻声朗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—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对我的房间有什么幻想？为什么会有这些幻想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116000" y="620640"/>
            <a:ext cx="2063880" cy="1521000"/>
            <a:chOff x="1116000" y="620640"/>
            <a:chExt cx="2063880" cy="1521000"/>
          </a:xfrm>
        </p:grpSpPr>
        <p:sp>
          <p:nvSpPr>
            <p:cNvPr id="55" name=""/>
            <p:cNvSpPr/>
            <p:nvPr/>
          </p:nvSpPr>
          <p:spPr>
            <a:xfrm>
              <a:off x="2468880" y="173268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1480" y="182268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116000" y="620640"/>
              <a:ext cx="206388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50228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0488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8520" y="1795320"/>
              <a:ext cx="322560" cy="309240"/>
            </a:xfrm>
            <a:prstGeom prst="ellipse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0760" y="1885320"/>
              <a:ext cx="129240" cy="123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619280" y="2205000"/>
            <a:ext cx="2784240" cy="1449360"/>
            <a:chOff x="1619280" y="2205000"/>
            <a:chExt cx="2784240" cy="1449360"/>
          </a:xfrm>
        </p:grpSpPr>
        <p:graphicFrame>
          <p:nvGraphicFramePr>
            <p:cNvPr id="63" name=""/>
            <p:cNvGraphicFramePr/>
            <p:nvPr/>
          </p:nvGraphicFramePr>
          <p:xfrm>
            <a:off x="1619280" y="2390040"/>
            <a:ext cx="893520" cy="102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19280" y="2390040"/>
                      <a:ext cx="893520" cy="102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2060640" y="2205000"/>
              <a:ext cx="1933560" cy="1449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6" name=""/>
            <p:cNvGraphicFramePr/>
            <p:nvPr/>
          </p:nvGraphicFramePr>
          <p:xfrm>
            <a:off x="3608280" y="2452680"/>
            <a:ext cx="795240" cy="954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08280" y="2452680"/>
                      <a:ext cx="795240" cy="95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5651640" y="549360"/>
            <a:ext cx="2233440" cy="172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3419640" y="549360"/>
            <a:ext cx="1742760" cy="1536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5076720" y="2349360"/>
            <a:ext cx="1954440" cy="1324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836720" y="37893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有轮子可以开着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22480" y="59500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句子中为什么要加上更、也、特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3160" y="60213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从这些幻想中，可以看出我是一个怎样的孩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92720" y="422100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间可以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64720" y="4653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房子是潜水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764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特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是一间魔术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720" y="5445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自己的房间变成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16000" y="2407680"/>
            <a:ext cx="668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最喜欢哪一节？说说你的理由，试着背一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0T00:19:53Z</dcterms:created>
  <dc:creator>kay</dc:creator>
  <dc:description/>
  <dc:language>en-US</dc:language>
  <cp:lastModifiedBy>微软用户</cp:lastModifiedBy>
  <dcterms:modified xsi:type="dcterms:W3CDTF">2012-02-13T12:18:00Z</dcterms:modified>
  <cp:revision>7</cp:revision>
  <dc:subject/>
  <dc:title>幻灯片 1</dc:title>
</cp:coreProperties>
</file>