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BD4-5A63-4B7C-86AB-DC9CD944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F140-780E-431F-A71D-773D8410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2AA-2C5F-4200-A9FA-F0AFE362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4ED-1C96-4ECE-9F85-3CFAC763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9C0-9526-42E7-978C-7E43F6D5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A53C-0891-410E-9DC0-04BD114B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50D-D45A-48CA-A701-38774CBC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C8D-CA18-4C45-B07C-CB6F0E91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006-67D2-4EB2-89BD-ACDB0539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18F-4BEF-49A5-B24F-352F3276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D12-438F-42C3-89AE-CAD35ACC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E9BB-C5D0-4B2B-BF61-AFA32297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77B2-702C-4235-8A0A-DD3B30D543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56000" y="1844640"/>
            <a:ext cx="44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5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的房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00000" y="1871640"/>
            <a:ext cx="705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想完了所有的之后，我最最喜欢的还是——我自己现在的房间。在这里，我可以读书，可以幻想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32000" y="2393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一说：我最喜欢（         ），因为（      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87280" y="1989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你展开想象，说说你希望自己拥有一间怎样的房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92360" y="1197000"/>
            <a:ext cx="57610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间魔术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潜水艇       一（    ）轮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学校           一（    ）翅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橘子汽水    一（    ）饼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19162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1640" y="191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25653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256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321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21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755640" y="184464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zǎi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i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2133720"/>
            <a:ext cx="360360" cy="1368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1690560" y="1557360"/>
            <a:ext cx="5977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 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饼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 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2708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270828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19640" y="3068640"/>
            <a:ext cx="57600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500720" y="1915920"/>
            <a:ext cx="72072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068640"/>
            <a:ext cx="71928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916280"/>
            <a:ext cx="57600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836640"/>
            <a:ext cx="70581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自学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准字音，自学生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且为课文标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节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思考：“我有一间怎样的房间？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线划出有关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>
            <a:lum bright="24000"/>
          </a:blip>
          <a:srcRect l="3544" t="3798" r="5118" b="590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1957320"/>
            <a:ext cx="756108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翅   膀   墙   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饼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克   司 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载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幻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16000" y="198900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课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翅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墙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巧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155736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有一间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屋子。我的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都放 在那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981000"/>
            <a:ext cx="691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很喜欢我的房间。可是，有时候，我希望我的房子跟现在不一样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276640"/>
            <a:ext cx="705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想完了所有的之后，我最最喜欢的还是——我自己现在的房间。在这里，我可以读书，可以幻想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58920" y="1905120"/>
            <a:ext cx="66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轻声朗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—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节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对我的房间有什么幻想？为什么会有这些幻想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116000" y="620640"/>
            <a:ext cx="2063880" cy="1521000"/>
            <a:chOff x="1116000" y="620640"/>
            <a:chExt cx="2063880" cy="1521000"/>
          </a:xfrm>
        </p:grpSpPr>
        <p:sp>
          <p:nvSpPr>
            <p:cNvPr id="55" name=""/>
            <p:cNvSpPr/>
            <p:nvPr/>
          </p:nvSpPr>
          <p:spPr>
            <a:xfrm>
              <a:off x="2468880" y="173268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71480" y="182268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1116000" y="620640"/>
              <a:ext cx="2063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502280" y="179532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04880" y="188532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18520" y="179532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20760" y="188532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619280" y="2205000"/>
            <a:ext cx="2784240" cy="1449360"/>
            <a:chOff x="1619280" y="2205000"/>
            <a:chExt cx="2784240" cy="1449360"/>
          </a:xfrm>
        </p:grpSpPr>
        <p:graphicFrame>
          <p:nvGraphicFramePr>
            <p:cNvPr id="63" name=""/>
            <p:cNvGraphicFramePr/>
            <p:nvPr/>
          </p:nvGraphicFramePr>
          <p:xfrm>
            <a:off x="1619280" y="2390040"/>
            <a:ext cx="893520" cy="102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2390040"/>
                      <a:ext cx="893520" cy="102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2060640" y="2205000"/>
              <a:ext cx="1933560" cy="1449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6" name=""/>
            <p:cNvGraphicFramePr/>
            <p:nvPr/>
          </p:nvGraphicFramePr>
          <p:xfrm>
            <a:off x="3608280" y="2452680"/>
            <a:ext cx="795240" cy="954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08280" y="2452680"/>
                      <a:ext cx="795240" cy="95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5651640" y="549360"/>
            <a:ext cx="2233440" cy="1722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3419640" y="549360"/>
            <a:ext cx="1742760" cy="1536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5076720" y="2349360"/>
            <a:ext cx="1954440" cy="1324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36720" y="3789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有轮子可以开着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22480" y="595008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句子中为什么要加上更、也、特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3160" y="60213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从这些幻想中，可以看出我是一个怎样的孩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92720" y="4221000"/>
            <a:ext cx="18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房间可以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4720" y="4653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房子是潜水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7640" y="50133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特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自己的房间是一间魔术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720" y="5445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自己的房间变成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16000" y="2407680"/>
            <a:ext cx="66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最喜欢哪一节？说说你的理由，试着背一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00:19:53Z</dcterms:created>
  <dc:creator>kay</dc:creator>
  <dc:description/>
  <dc:language>en-US</dc:language>
  <cp:lastModifiedBy>微软用户</cp:lastModifiedBy>
  <dcterms:modified xsi:type="dcterms:W3CDTF">2012-02-13T12:18:00Z</dcterms:modified>
  <cp:revision>7</cp:revision>
  <dc:subject/>
  <dc:title>幻灯片 1</dc:title>
</cp:coreProperties>
</file>