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64A-372E-4CDF-816C-53B8894A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0CC-93AD-4AC1-9587-4C43266E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A05-C7C7-450F-9466-EF1D2860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E77-EA5C-413F-AD63-9712A9E7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6B0-685C-4223-B43D-4838560C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B86-7249-4D6E-9C60-DA4132FE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0BF-E52A-4EF4-9310-CD4231C1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8EA-A069-4932-B649-80D6E3F9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4A4-9A4C-421D-B3B0-CDFBE35B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9F4-FD46-422D-89AD-7FAEA5E1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31C-45D6-423B-8D71-4A7D9EEA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51F-61B5-46FC-BB59-10C8DFA8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0AED-73A3-4D11-A231-0F5AF27BD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184464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房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1871640"/>
            <a:ext cx="705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2393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一说：我最喜欢（         ），因为（    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展开想象，说说你希望自己拥有一间怎样的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197000"/>
            <a:ext cx="5761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间魔术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潜水艇       一（    ）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学校           一（    ）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橘子汽水    一（    ）饼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9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9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2565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56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55640" y="1844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ǎ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13372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1690560" y="1557360"/>
            <a:ext cx="597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饼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7082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19640" y="306864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00720" y="1915920"/>
            <a:ext cx="72072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068640"/>
            <a:ext cx="7192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916280"/>
            <a:ext cx="57600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836640"/>
            <a:ext cx="7058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准字音，自学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为课文标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节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“我有一间怎样的房间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线划出有关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24000"/>
          </a:blip>
          <a:srcRect l="3544" t="3798" r="5118" b="590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957320"/>
            <a:ext cx="756108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   膀   墙   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克   司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98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课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翅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墙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557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有一间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屋子。我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放 在那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981000"/>
            <a:ext cx="691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很喜欢我的房间。可是，有时候，我希望我的房子跟现在不一样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276640"/>
            <a:ext cx="705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90512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声朗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—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节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对我的房间有什么幻想？为什么会有这些幻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116000" y="620640"/>
            <a:ext cx="2063880" cy="1521000"/>
            <a:chOff x="1116000" y="620640"/>
            <a:chExt cx="2063880" cy="1521000"/>
          </a:xfrm>
        </p:grpSpPr>
        <p:sp>
          <p:nvSpPr>
            <p:cNvPr id="55" name=""/>
            <p:cNvSpPr/>
            <p:nvPr/>
          </p:nvSpPr>
          <p:spPr>
            <a:xfrm>
              <a:off x="2468880" y="173268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1480" y="182268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116000" y="620640"/>
              <a:ext cx="2063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50228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488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852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076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19280" y="2205000"/>
            <a:ext cx="2784240" cy="1449360"/>
            <a:chOff x="1619280" y="2205000"/>
            <a:chExt cx="2784240" cy="1449360"/>
          </a:xfrm>
        </p:grpSpPr>
        <p:graphicFrame>
          <p:nvGraphicFramePr>
            <p:cNvPr id="63" name=""/>
            <p:cNvGraphicFramePr/>
            <p:nvPr/>
          </p:nvGraphicFramePr>
          <p:xfrm>
            <a:off x="1619280" y="2390040"/>
            <a:ext cx="893520" cy="102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2390040"/>
                      <a:ext cx="893520" cy="10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2060640" y="2205000"/>
              <a:ext cx="1933560" cy="1449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" name=""/>
            <p:cNvGraphicFramePr/>
            <p:nvPr/>
          </p:nvGraphicFramePr>
          <p:xfrm>
            <a:off x="3608280" y="2452680"/>
            <a:ext cx="795240" cy="95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8280" y="2452680"/>
                      <a:ext cx="795240" cy="95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651640" y="549360"/>
            <a:ext cx="2233440" cy="172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419640" y="549360"/>
            <a:ext cx="1742760" cy="153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5076720" y="2349360"/>
            <a:ext cx="1954440" cy="132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6720" y="378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有轮子可以开着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22480" y="59500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句子中为什么要加上更、也、特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3160" y="6021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从这些幻想中，可以看出我是一个怎样的孩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720" y="422100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间可以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4720" y="465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子是潜水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7640" y="5013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特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是一间魔术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720" y="544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变成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2407680"/>
            <a:ext cx="66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喜欢哪一节？说说你的理由，试着背一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0:19:53Z</dcterms:created>
  <dc:creator>kay</dc:creator>
  <dc:description/>
  <dc:language>en-US</dc:language>
  <cp:lastModifiedBy>微软用户</cp:lastModifiedBy>
  <dcterms:modified xsi:type="dcterms:W3CDTF">2012-02-13T12:18:00Z</dcterms:modified>
  <cp:revision>7</cp:revision>
  <dc:subject/>
  <dc:title>幻灯片 1</dc:title>
</cp:coreProperties>
</file>