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6BF-C656-401F-A4CC-69EDEBB1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C0C-904E-4BA8-A49E-2212483C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B86-ADF1-4C15-9B50-D92ADC2E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AE7-C0FC-4996-A18F-305D8CD5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807-4F8A-498E-ABA8-10D2AAB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0F3-8B91-4678-94C1-FEBC9A54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609-83AB-45A7-B851-760479C4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A8F-34C9-4CC5-934D-B8A9566C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912-A596-4875-92CC-5853E644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F06-6000-4EE6-BCF5-71C6B14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7F4-566E-4713-BFA3-6DF9C7B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F46-6624-4CA1-8BEA-701CC335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C09A-8EEA-4E14-A8BF-7CAC23E1EF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8446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房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1871640"/>
            <a:ext cx="705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2393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一说：我最喜欢（         ），因为（    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展开想象，说说你希望自己拥有一间怎样的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197000"/>
            <a:ext cx="5761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间魔术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潜水艇       一（    ）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学校           一（    ）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橘子汽水    一（    ）饼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9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565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56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55640" y="1844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ǎ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13372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1690560" y="1557360"/>
            <a:ext cx="597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饼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708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306864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00720" y="1915920"/>
            <a:ext cx="72072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068640"/>
            <a:ext cx="7192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916280"/>
            <a:ext cx="57600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83664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字音，自学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为课文标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“我有一间怎样的房间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线划出有关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rcRect l="3544" t="3798" r="5118" b="590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957320"/>
            <a:ext cx="75610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   膀   墙   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克   司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98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课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翅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墙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557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有一间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屋子。我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放 在那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81000"/>
            <a:ext cx="69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很喜欢我的房间。可是，有时候，我希望我的房子跟现在不一样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705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90512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声朗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—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对我的房间有什么幻想？为什么会有这些幻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16000" y="620640"/>
            <a:ext cx="2063880" cy="1521000"/>
            <a:chOff x="1116000" y="620640"/>
            <a:chExt cx="2063880" cy="1521000"/>
          </a:xfrm>
        </p:grpSpPr>
        <p:sp>
          <p:nvSpPr>
            <p:cNvPr id="55" name=""/>
            <p:cNvSpPr/>
            <p:nvPr/>
          </p:nvSpPr>
          <p:spPr>
            <a:xfrm>
              <a:off x="2468880" y="173268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1480" y="182268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16000" y="620640"/>
              <a:ext cx="2063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0228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488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852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2205000"/>
            <a:ext cx="2784240" cy="1449360"/>
            <a:chOff x="1619280" y="2205000"/>
            <a:chExt cx="2784240" cy="1449360"/>
          </a:xfrm>
        </p:grpSpPr>
        <p:graphicFrame>
          <p:nvGraphicFramePr>
            <p:cNvPr id="63" name=""/>
            <p:cNvGraphicFramePr/>
            <p:nvPr/>
          </p:nvGraphicFramePr>
          <p:xfrm>
            <a:off x="1619280" y="2390040"/>
            <a:ext cx="893520" cy="102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2390040"/>
                      <a:ext cx="89352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2060640" y="2205000"/>
              <a:ext cx="1933560" cy="1449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3608280" y="2452680"/>
            <a:ext cx="795240" cy="95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8280" y="2452680"/>
                      <a:ext cx="79524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651640" y="549360"/>
            <a:ext cx="2233440" cy="172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419640" y="549360"/>
            <a:ext cx="1742760" cy="153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5076720" y="2349360"/>
            <a:ext cx="1954440" cy="13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6720" y="378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有轮子可以开着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22480" y="5950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句子中为什么要加上更、也、特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3160" y="602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从这些幻想中，可以看出我是一个怎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720" y="42210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间可以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4720" y="465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子是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764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是一间魔术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720" y="544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变成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2407680"/>
            <a:ext cx="66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哪一节？说说你的理由，试着背一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0:19:53Z</dcterms:created>
  <dc:creator>kay</dc:creator>
  <dc:description/>
  <dc:language>en-US</dc:language>
  <cp:lastModifiedBy>微软用户</cp:lastModifiedBy>
  <dcterms:modified xsi:type="dcterms:W3CDTF">2012-02-13T12:18:00Z</dcterms:modified>
  <cp:revision>7</cp:revision>
  <dc:subject/>
  <dc:title>幻灯片 1</dc:title>
</cp:coreProperties>
</file>