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png" ContentType="image/png"/>
  <Override PartName="/ppt/media/image9.wmf" ContentType="image/x-wmf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969A-AAC4-4316-A62B-501446B8D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D1BB-6686-4BF9-A849-E3B2BF139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8C16-1FA4-48DD-B86C-CFCC99A25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7E59-5967-43D8-B84D-32DFB1CBB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CE69-9D7E-4F27-8D7E-C827E6CD1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2F59-4838-49B5-B695-A1F0A4A78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68BD-25B9-484C-9BFB-0F0CDD084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072B-8FF0-484F-9D6E-06F39275C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704B-FE60-4FEE-8C61-783D1401A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E0CB-2590-41F5-B3CE-40BE7DAA3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A590-137E-4625-A1F2-6E49B148E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0189-1AFF-439E-9944-38631D3D9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73020-C720-4E65-AAB2-F911B08AD05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" Target="slide15.xml"/><Relationship Id="rId4" Type="http://schemas.openxmlformats.org/officeDocument/2006/relationships/slide" Target="slide14.xml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image" Target="../media/image8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9.wmf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556000" y="1844640"/>
            <a:ext cx="446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5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我的房间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900000" y="1871640"/>
            <a:ext cx="70567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可是，想完了所有的之后，我最最喜欢的还是——我自己现在的房间。在这里，我可以读书，可以幻想。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332000" y="239328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说一说：我最喜欢（         ），因为（            ）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187280" y="1989000"/>
            <a:ext cx="62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请你展开想象，说说你希望自己拥有一间怎样的房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692360" y="1197000"/>
            <a:ext cx="5761080" cy="25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间魔术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（    ）潜水艇       一（    ）轮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（    ）学校           一（    ）翅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（    ）橘子汽水    一（    ）饼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1916280"/>
            <a:ext cx="9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651640" y="191628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411280" y="2565360"/>
            <a:ext cx="6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724360" y="256536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411280" y="321300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724360" y="321300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>
            <a:hlinkClick r:id="rId2" action="ppaction://hlinksldjump"/>
          </p:cNvPr>
          <p:cNvSpPr/>
          <p:nvPr/>
        </p:nvSpPr>
        <p:spPr>
          <a:xfrm>
            <a:off x="755640" y="1844640"/>
            <a:ext cx="7561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zǎi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 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z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à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i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 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700360" y="2133720"/>
            <a:ext cx="360360" cy="1368360"/>
          </a:xfrm>
          <a:custGeom>
            <a:avLst/>
            <a:gdLst>
              <a:gd name="textAreaLeft" fmla="*/ 230400 w 360360"/>
              <a:gd name="textAreaRight" fmla="*/ 360720 w 36036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>
            <a:hlinkClick r:id="rId2" action="ppaction://hlinksldjump"/>
          </p:cNvPr>
          <p:cNvSpPr/>
          <p:nvPr/>
        </p:nvSpPr>
        <p:spPr>
          <a:xfrm>
            <a:off x="1690560" y="1557360"/>
            <a:ext cx="59770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）       （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）  饼   （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）       （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348000" y="2708280"/>
            <a:ext cx="647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643280" y="2708280"/>
            <a:ext cx="64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3419640" y="3068640"/>
            <a:ext cx="576000" cy="503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500720" y="1915920"/>
            <a:ext cx="720720" cy="502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72000" y="3068640"/>
            <a:ext cx="719280" cy="503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419640" y="1916280"/>
            <a:ext cx="576000" cy="502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187280" y="836640"/>
            <a:ext cx="705816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自学要求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读准字音，自学生字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并且为课文标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节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思考：“我有一间怎样的房间？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用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线划出有关句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>
            <a:lum bright="24000"/>
          </a:blip>
          <a:srcRect l="3544" t="3798" r="5118" b="5902"/>
          <a:stretch/>
        </p:blipFill>
        <p:spPr>
          <a:xfrm>
            <a:off x="0" y="-15840"/>
            <a:ext cx="9144000" cy="68738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11280" y="1957320"/>
            <a:ext cx="7561080" cy="17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翅   膀   墙   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3" action="ppaction://hlinksldjump"/>
              </a:rPr>
              <a:t>饼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克   司   </a:t>
            </a:r>
            <a:r>
              <a:rPr b="0" lang="zh-CN" sz="40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4" action="ppaction://hlinksldjump"/>
              </a:rPr>
              <a:t>载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幻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116000" y="1989000"/>
            <a:ext cx="691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功课    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翅膀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墙壁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饼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巧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克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力  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司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机    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载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重    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幻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042920" y="1557360"/>
            <a:ext cx="691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我有一间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______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_____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_____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屋子。我的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______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_____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都放 在那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042920" y="981000"/>
            <a:ext cx="69138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很喜欢我的房间。可是，有时候，我希望我的房子跟现在不一样。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71640" y="2276640"/>
            <a:ext cx="70563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可是，想完了所有的之后，我最最喜欢的还是——我自己现在的房间。在这里，我可以读书，可以幻想。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258920" y="1905120"/>
            <a:ext cx="6697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轻声朗读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3—8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节，思考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对我的房间有什么幻想？为什么会有这些幻想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1116000" y="620640"/>
            <a:ext cx="2063880" cy="1521000"/>
            <a:chOff x="1116000" y="620640"/>
            <a:chExt cx="2063880" cy="1521000"/>
          </a:xfrm>
        </p:grpSpPr>
        <p:sp>
          <p:nvSpPr>
            <p:cNvPr id="55" name=""/>
            <p:cNvSpPr/>
            <p:nvPr/>
          </p:nvSpPr>
          <p:spPr>
            <a:xfrm>
              <a:off x="2468880" y="1732680"/>
              <a:ext cx="322560" cy="309240"/>
            </a:xfrm>
            <a:prstGeom prst="ellipse">
              <a:avLst/>
            </a:prstGeom>
            <a:solidFill>
              <a:srgbClr val="a5002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571480" y="1822680"/>
              <a:ext cx="129240" cy="123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" name="" descr=""/>
            <p:cNvPicPr/>
            <p:nvPr/>
          </p:nvPicPr>
          <p:blipFill>
            <a:blip r:embed="rId1"/>
            <a:stretch/>
          </p:blipFill>
          <p:spPr>
            <a:xfrm>
              <a:off x="1116000" y="620640"/>
              <a:ext cx="2063880" cy="152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1502280" y="1795320"/>
              <a:ext cx="322560" cy="309240"/>
            </a:xfrm>
            <a:prstGeom prst="ellipse">
              <a:avLst/>
            </a:prstGeom>
            <a:solidFill>
              <a:srgbClr val="a5002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604880" y="1885320"/>
              <a:ext cx="129240" cy="123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18520" y="1795320"/>
              <a:ext cx="322560" cy="309240"/>
            </a:xfrm>
            <a:prstGeom prst="ellipse">
              <a:avLst/>
            </a:prstGeom>
            <a:solidFill>
              <a:srgbClr val="a5002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120760" y="1885320"/>
              <a:ext cx="129240" cy="123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1619280" y="2205000"/>
            <a:ext cx="2784240" cy="1449360"/>
            <a:chOff x="1619280" y="2205000"/>
            <a:chExt cx="2784240" cy="1449360"/>
          </a:xfrm>
        </p:grpSpPr>
        <p:graphicFrame>
          <p:nvGraphicFramePr>
            <p:cNvPr id="63" name=""/>
            <p:cNvGraphicFramePr/>
            <p:nvPr/>
          </p:nvGraphicFramePr>
          <p:xfrm>
            <a:off x="1619280" y="2390040"/>
            <a:ext cx="893520" cy="10206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6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619280" y="2390040"/>
                      <a:ext cx="893520" cy="1020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65" name="" descr=""/>
            <p:cNvPicPr/>
            <p:nvPr/>
          </p:nvPicPr>
          <p:blipFill>
            <a:blip r:embed="rId4"/>
            <a:stretch/>
          </p:blipFill>
          <p:spPr>
            <a:xfrm>
              <a:off x="2060640" y="2205000"/>
              <a:ext cx="1933560" cy="144936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66" name=""/>
            <p:cNvGraphicFramePr/>
            <p:nvPr/>
          </p:nvGraphicFramePr>
          <p:xfrm>
            <a:off x="3608280" y="2452680"/>
            <a:ext cx="795240" cy="9540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608280" y="2452680"/>
                      <a:ext cx="795240" cy="954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68" name="" descr=""/>
          <p:cNvPicPr/>
          <p:nvPr/>
        </p:nvPicPr>
        <p:blipFill>
          <a:blip r:embed="rId7"/>
          <a:stretch/>
        </p:blipFill>
        <p:spPr>
          <a:xfrm>
            <a:off x="5651640" y="549360"/>
            <a:ext cx="2233440" cy="17222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8"/>
          <a:stretch/>
        </p:blipFill>
        <p:spPr>
          <a:xfrm>
            <a:off x="3419640" y="549360"/>
            <a:ext cx="1742760" cy="15364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9"/>
          <a:stretch/>
        </p:blipFill>
        <p:spPr>
          <a:xfrm>
            <a:off x="5076720" y="2349360"/>
            <a:ext cx="1954440" cy="13240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836720" y="378936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希望有轮子可以开着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822480" y="5950080"/>
            <a:ext cx="55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99"/>
                </a:solidFill>
                <a:latin typeface="Arial"/>
              </a:rPr>
              <a:t>句子中为什么要加上更、也、特别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953160" y="602136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9999"/>
                </a:solidFill>
                <a:latin typeface="Arial"/>
              </a:rPr>
              <a:t>从这些幻想中，可以看出我是一个怎样的孩子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692720" y="4221000"/>
            <a:ext cx="188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希望房间可以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64720" y="465300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也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希望房子是潜水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267640" y="501336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特别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希望自己的房间是一间魔术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08720" y="544500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希望自己的房间变成学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116000" y="2407680"/>
            <a:ext cx="668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你最喜欢哪一节？说说你的理由，试着背一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0T00:19:53Z</dcterms:created>
  <dc:creator>kay</dc:creator>
  <dc:description/>
  <dc:language>en-US</dc:language>
  <cp:lastModifiedBy>微软用户</cp:lastModifiedBy>
  <dcterms:modified xsi:type="dcterms:W3CDTF">2012-02-13T12:18:00Z</dcterms:modified>
  <cp:revision>7</cp:revision>
  <dc:subject/>
  <dc:title>幻灯片 1</dc:title>
</cp:coreProperties>
</file>