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4.jpeg" ContentType="image/jpeg"/>
  <Override PartName="/ppt/media/image19.jpeg" ContentType="image/jpeg"/>
  <Override PartName="/ppt/media/image1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5.jpeg" ContentType="image/jpeg"/>
  <Override PartName="/ppt/media/image16.png" ContentType="image/png"/>
  <Override PartName="/ppt/media/chimes.wav" ContentType="audio/x-wav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459D-027A-484A-8A38-5205ADCDA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ECEF-EF36-4CB4-B459-225065198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这短短的六句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作者已把母性的光辉表现得淋漓尽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们只要体会出这番意境、 把感恩之心付诸行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就不枉费诗人的一番苦心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谁言寸草心，报得三春晖，我们感受父母的恩情似海，我们也要尝试去回报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8C52-3159-4694-8AED-0176502C3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得刚才有好多同学都没有给父母过过生日，那么我们就试着设计给我们的父母过一次生日，让他们明白我们对他们的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5B10-913C-4014-B50A-98422AAE9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当中难免有些迂腐的地方，但孝子的一些言行能够让我们有所启示和感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9356-FDCE-47B5-8B9B-74628AC2E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们古代孝敬父母的例子还有很多，下面的这个同学们一定熟悉，谁来说一说她是如何孝顺父母的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5A8A-0227-4294-A91C-DFAFDCF7F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老一辈的无产阶级革命家也非常孝敬自己的父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7D38-4E59-4C55-A496-F66A4A6F4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正因为父母养我们，教我们，对我们有养育之恩，因此社会都把孝敬父母看作是美德，我国也有孝敬父母的优良传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395A-CAD9-4725-990A-1711E9CB9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9088-A3A6-4E1C-849A-0725F76E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07A0-0DDA-4609-8DEC-6E8952152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A0DE-8843-4588-AC1C-8453AFC76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6681-49B0-433F-A15D-51C69F96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F1C5-3FC2-4592-9E1E-E2FDB857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EB1F-0042-44F8-AE33-91E1D380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50F5-1DC7-42E3-9CF8-3A71A612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20C5-FC66-4FEA-9E22-03F47899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E774-FE0C-4059-B40E-CD89620F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8D3E-C0EF-4BAD-A21F-4D6C095B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6574-70B1-48E7-B311-D3101C5B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8469-F01F-4F3B-B475-200B6BB3C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canonfans.com/showlist.php?thumbid=570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&#12298;&#20013;&#21326;&#24503;&#32946;&#25925;&#20107;&#12299;&#23389;&#31687;-&#20271;&#24840;&#27875;&#26454;.swf" TargetMode="Externa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6002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初二（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）班主题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1676520" y="1143000"/>
            <a:ext cx="5715000" cy="17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为了父母的微笑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50" name="Picture 6" descr="http://www.chyi.edu.sh.cn/cbsxd/img/xiaojing.gif"/>
          <p:cNvPicPr/>
          <p:nvPr/>
        </p:nvPicPr>
        <p:blipFill>
          <a:blip r:embed="rId3"/>
          <a:srcRect l="9289" t="13965" r="9289" b="9289"/>
          <a:stretch/>
        </p:blipFill>
        <p:spPr>
          <a:xfrm>
            <a:off x="6172200" y="4038480"/>
            <a:ext cx="2666880" cy="25146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914400" y="56386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授课者：阳江市实验中学    施贤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304920" y="5335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给你买下彩色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涂了满墙的抽象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228600" y="25909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给你买既漂亮又贵的衣服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穿着它到泥坑里玩耍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380880" y="48769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给你买了球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用球打破了邻居的玻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228600" y="5335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付了很多钱给你辅导钢琴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常常旷课并不去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04920" y="2362320"/>
            <a:ext cx="830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陪你还有你的朋友们去看电影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让她坐另一排去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04920" y="4648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建议你去把头发剪了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说她不懂什么是现在的时髦发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228600" y="5335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付了你一个月的夏令营费用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却整一个月没有打一个电话给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28600" y="2590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下班回家想拥抱你一下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转身进屋把门插上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57200" y="472428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在等一个重要的电话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抱着电话和你的朋友聊了一晚上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228600" y="53352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为你高中毕业感动得流下眼泪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跟朋友在外聚会到天亮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228600" y="25909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付了你的大学费用又送你到学校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要求她在远点下车怕同学看见笑话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57200" y="4724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问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整天去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回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不想象你一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28600" y="5335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给你买家具布置你的新家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对朋友说她买的家具真糟糕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28600" y="25909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对怎样照顾小孩提出劝告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对她说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妈 时代不同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57200" y="47242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给你打电话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说亲戚过生日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回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妈 我很忙 没时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228600" y="53352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50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常患病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需要你的看护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却在家读一本关于父母在孩子家寄身的书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228600" y="25909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终于有一天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去世了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突然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.....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想起了所有从来没做过的事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它们象榔头痛击着你的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457200" y="4724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哭了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……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"/>
          <p:cNvSpPr/>
          <p:nvPr/>
        </p:nvSpPr>
        <p:spPr>
          <a:xfrm>
            <a:off x="304920" y="0"/>
            <a:ext cx="3352680" cy="1295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学会感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孝顺父母，我们应该这样做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F2004111516114500000"/>
          <p:cNvPicPr/>
          <p:nvPr/>
        </p:nvPicPr>
        <p:blipFill>
          <a:blip r:embed="rId1"/>
          <a:stretch/>
        </p:blipFill>
        <p:spPr>
          <a:xfrm>
            <a:off x="0" y="1900080"/>
            <a:ext cx="5029200" cy="49579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5257800" y="1143000"/>
            <a:ext cx="3124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关心父母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　　一句问候，一个亲吻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　　一束鲜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一个拥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甚至一句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304920" y="0"/>
            <a:ext cx="3352680" cy="1295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学会感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5181480" y="49528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说一句感恩的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026"/>
          <p:cNvSpPr/>
          <p:nvPr/>
        </p:nvSpPr>
        <p:spPr>
          <a:xfrm>
            <a:off x="1752480" y="1066680"/>
            <a:ext cx="5562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五月的第二个星期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六月的第三个星期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27"/>
          <p:cNvSpPr/>
          <p:nvPr/>
        </p:nvSpPr>
        <p:spPr>
          <a:xfrm>
            <a:off x="3048120" y="198108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母亲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28"/>
          <p:cNvSpPr/>
          <p:nvPr/>
        </p:nvSpPr>
        <p:spPr>
          <a:xfrm>
            <a:off x="3124080" y="45720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父亲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后作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给父母写一封信，对父母表示感激并表表你回报父母的决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这个双休日为父母服务一天，体会父母的辛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http://www.21gabf.com/images/040607102052.gif"/>
          <p:cNvPicPr/>
          <p:nvPr/>
        </p:nvPicPr>
        <p:blipFill>
          <a:blip r:embed="rId1">
            <a:lum bright="18000"/>
          </a:blip>
          <a:srcRect l="0" t="0" r="0" b="1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0"/>
          <p:cNvSpPr/>
          <p:nvPr/>
        </p:nvSpPr>
        <p:spPr>
          <a:xfrm>
            <a:off x="609480" y="99072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世上有一部永远也写不完的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那便是父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1981080" y="1066680"/>
            <a:ext cx="50292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谢谢！</a:t>
            </a:r>
            <a:endParaRPr b="1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030" descr="D:\lihui\课件素材\68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29" descr="http://www.canonfans.com/memberthumb/userid3/uploads_z/userid34564time20040712185428.jpg">
            <a:hlinkClick r:id="rId2"/>
          </p:cNvPr>
          <p:cNvPicPr/>
          <p:nvPr/>
        </p:nvPicPr>
        <p:blipFill>
          <a:blip r:embed="rId3"/>
          <a:srcRect l="0" t="0" r="25" b="47"/>
          <a:stretch/>
        </p:blipFill>
        <p:spPr>
          <a:xfrm>
            <a:off x="5715000" y="228600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5410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6cfa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无论你身在何地，有一个人，她永远占据在你心中最柔软的地方，你愿用自己的一生去爱她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有一种爱，它让你肆意索取，享用，却不要你任何回报</a:t>
            </a:r>
            <a:r>
              <a:rPr b="1" lang="en-US" sz="3200" spc="-1" strike="noStrike">
                <a:solidFill>
                  <a:srgbClr val="876cfa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6cfa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这个人，叫</a:t>
            </a:r>
            <a:r>
              <a:rPr b="1" lang="zh-CN" sz="3200" spc="-1" strike="noStrike">
                <a:solidFill>
                  <a:srgbClr val="876cfa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母亲</a:t>
            </a:r>
            <a:r>
              <a:rPr b="1" lang="zh-CN" sz="3200" spc="-1" strike="noStrike">
                <a:solidFill>
                  <a:srgbClr val="876cfa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，这种爱叫</a:t>
            </a:r>
            <a:r>
              <a:rPr b="1" lang="zh-CN" sz="3200" spc="-1" strike="noStrike">
                <a:solidFill>
                  <a:srgbClr val="876cfa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母爱</a:t>
            </a:r>
            <a:r>
              <a:rPr b="1" lang="zh-CN" sz="3200" spc="-1" strike="noStrike">
                <a:solidFill>
                  <a:srgbClr val="876cfa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876cf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031"/>
          <p:cNvSpPr/>
          <p:nvPr/>
        </p:nvSpPr>
        <p:spPr>
          <a:xfrm>
            <a:off x="304920" y="0"/>
            <a:ext cx="3581280" cy="1295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5050"/>
              </a:gs>
              <a:gs pos="50000">
                <a:srgbClr val="ffffff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感受父母的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33" descr="杨"/>
          <p:cNvPicPr/>
          <p:nvPr/>
        </p:nvPicPr>
        <p:blipFill>
          <a:blip r:embed="rId4"/>
          <a:stretch/>
        </p:blipFill>
        <p:spPr>
          <a:xfrm>
            <a:off x="5715000" y="0"/>
            <a:ext cx="3429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C:\WINDOWS\Desktop\背影2\善.bmp"/>
          <p:cNvPicPr/>
          <p:nvPr/>
        </p:nvPicPr>
        <p:blipFill>
          <a:blip r:embed="rId1"/>
          <a:srcRect l="0" t="0" r="-44" b="0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80520" y="18288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父爱是山，无论你有多大的困难，他总是你依靠的屏障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父爱是路，无论你走到哪里，他都伴你延伸，为你指点迷津，护你一路走好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http://smile.eguo.com/images/fatherday/2004/memooffather/memo4b.gif"/>
          <p:cNvPicPr/>
          <p:nvPr/>
        </p:nvPicPr>
        <p:blipFill>
          <a:blip r:embed="rId2"/>
          <a:stretch/>
        </p:blipFill>
        <p:spPr>
          <a:xfrm>
            <a:off x="6245280" y="0"/>
            <a:ext cx="2898720" cy="4038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http://edu.sina.com.cn/literature/wene/42-33-188_photoqian.jpg"/>
          <p:cNvPicPr/>
          <p:nvPr/>
        </p:nvPicPr>
        <p:blipFill>
          <a:blip r:embed="rId3"/>
          <a:stretch/>
        </p:blipFill>
        <p:spPr>
          <a:xfrm>
            <a:off x="6238800" y="2960640"/>
            <a:ext cx="2905200" cy="389736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11"/>
          <p:cNvSpPr/>
          <p:nvPr/>
        </p:nvSpPr>
        <p:spPr>
          <a:xfrm>
            <a:off x="5334120" y="6095880"/>
            <a:ext cx="228600" cy="533520"/>
          </a:xfrm>
          <a:custGeom>
            <a:avLst/>
            <a:gdLst>
              <a:gd name="textAreaLeft" fmla="*/ 30600 w 228600"/>
              <a:gd name="textAreaRight" fmla="*/ 198000 w 22860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380880" y="1905120"/>
            <a:ext cx="8153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要体贴关心父母，在家要尽力承担一些家务劳动，减轻父母负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要尊敬和爱戴父母，听从父母的正确教导，不可当面顶撞父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碰到一些比较重要的事情，一定要和父母商量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尤其是升学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就业等大事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一定要征求和认真考虑父母的意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在生活上要艰苦朴素、勤俭节约，不向父母提过分要求，不纠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当父母年迈时，在物质上要赡养父母，在精神上要关心父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E:\课件图片素材\背景素材\BJ_025.JPG"/>
          <p:cNvPicPr/>
          <p:nvPr/>
        </p:nvPicPr>
        <p:blipFill>
          <a:blip r:embed="rId1"/>
          <a:srcRect l="0" t="0" r="-30" b="-66"/>
          <a:stretch/>
        </p:blipFill>
        <p:spPr>
          <a:xfrm>
            <a:off x="4876920" y="4243320"/>
            <a:ext cx="4267080" cy="26146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609480" y="22096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0" y="1219320"/>
            <a:ext cx="9220320" cy="17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有一位成绩优秀的学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父母对他的期望很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自己对自己的要求也很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天一回家就马上学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近学校开展孝敬父母的活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求学生在家能帮助父母承担一些家务劳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林不屑地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习成绩优秀就是孝敬父母，其他都是多余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小刚是一名初二学生，在学校里活泼开朗，可回到家却不愿和父母讲在学校的事，有什么心事也不愿和父母讲，总是一个人独自呆在屋里。问他为什么，他说：“父母只会唠叨，和他们没什么好说的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在课堂上，老师批评现在社会上一些不赡养父母的错误行为。小明说：“我以后工作后，每月都会给父母生活费。”每月给父母生活费就是孝敬父母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52280" y="57150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660066"/>
                </a:solidFill>
                <a:latin typeface="Times New Roman"/>
              </a:rPr>
              <a:t>以上三人的说法对吗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04920" y="0"/>
            <a:ext cx="2819160" cy="1295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走进心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tmdjt.mp3" descr=""/>
          <p:cNvPicPr/>
          <p:nvPr/>
        </p:nvPicPr>
        <p:blipFill>
          <a:blip r:embed="rId1"/>
          <a:stretch/>
        </p:blipFill>
        <p:spPr>
          <a:xfrm>
            <a:off x="8305920" y="640080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028"/>
          <p:cNvSpPr/>
          <p:nvPr/>
        </p:nvSpPr>
        <p:spPr>
          <a:xfrm>
            <a:off x="1066680" y="69840"/>
            <a:ext cx="6400800" cy="66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 们──给父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没有他们，便没有我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是他们，哺育了我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是他们，拓开了道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没有他们，我们的世界是残缺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没有他们，我们的生活是跛脚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他们的存在，使我们的世界完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他们的存在，使我们的生命鲜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有了他们，我们才可以超越历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有了他们，我们才可以赢获明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因此，我爱他们，我们爱他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他们给我们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我们也可以一样给他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片蓝天白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轮明月朝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双眼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座家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颗赤子之心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  <p:sndAc>
      <p:stSnd>
        <p:snd r:embed="rId2" name="chimes.wav"/>
      </p:stSnd>
    </p:sndAc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210034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3" descr="http://www.twgbr.org.tw/jubilee/images/002-3/01b.jpg"/>
          <p:cNvPicPr/>
          <p:nvPr/>
        </p:nvPicPr>
        <p:blipFill>
          <a:blip r:embed="rId1"/>
          <a:stretch/>
        </p:blipFill>
        <p:spPr>
          <a:xfrm>
            <a:off x="2590920" y="0"/>
            <a:ext cx="655308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2"/>
          <p:cNvSpPr/>
          <p:nvPr/>
        </p:nvSpPr>
        <p:spPr>
          <a:xfrm>
            <a:off x="2858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0"/>
          <p:cNvSpPr/>
          <p:nvPr/>
        </p:nvSpPr>
        <p:spPr>
          <a:xfrm>
            <a:off x="533520" y="2286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bbe0e3"/>
                </a:solidFill>
                <a:latin typeface="宋体"/>
              </a:rPr>
              <a:t>2004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bbe0e3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月，</a:t>
            </a:r>
            <a:r>
              <a:rPr b="1" lang="en-US" sz="2800" spc="-1" strike="noStrike">
                <a:solidFill>
                  <a:srgbClr val="bbe0e3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岁的男孩童童掉进鲨鱼池。</a:t>
            </a:r>
            <a:r>
              <a:rPr b="1" lang="en-US" sz="2800" spc="-1" strike="noStrike">
                <a:solidFill>
                  <a:srgbClr val="bbe0e3"/>
                </a:solidFill>
                <a:latin typeface="宋体"/>
              </a:rPr>
              <a:t>35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岁的母亲刘燕带着相机、背着鼓囊囊的背包，啥也没想</a:t>
            </a:r>
            <a:r>
              <a:rPr b="1" lang="zh-CN" sz="2800" spc="-1" strike="noStrike">
                <a:solidFill>
                  <a:srgbClr val="bbe0e3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咚</a:t>
            </a:r>
            <a:r>
              <a:rPr b="1" lang="zh-CN" sz="2800" spc="-1" strike="noStrike">
                <a:solidFill>
                  <a:srgbClr val="bbe0e3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的一声跳了下去。把孩子抱在胸前的一瞬间，童童流着眼泪说：</a:t>
            </a:r>
            <a:r>
              <a:rPr b="1" lang="zh-CN" sz="2800" spc="-1" strike="noStrike">
                <a:solidFill>
                  <a:srgbClr val="bbe0e3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妈，我以为我死了呢。</a:t>
            </a:r>
            <a:r>
              <a:rPr b="1" lang="zh-CN" sz="2800" spc="-1" strike="noStrike">
                <a:solidFill>
                  <a:srgbClr val="bbe0e3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刘燕眼泪倏地流下来，</a:t>
            </a:r>
            <a:r>
              <a:rPr b="1" lang="zh-CN" sz="2800" spc="-1" strike="noStrike">
                <a:solidFill>
                  <a:srgbClr val="bbe0e3"/>
                </a:solidFill>
                <a:latin typeface="Arial"/>
              </a:rPr>
              <a:t>“</a:t>
            </a:r>
            <a:r>
              <a:rPr b="1" lang="zh-CN" sz="2800" spc="-1" strike="noStrike" u="sng">
                <a:solidFill>
                  <a:srgbClr val="bbe0e3"/>
                </a:solidFill>
                <a:uFillTx/>
                <a:latin typeface="宋体"/>
              </a:rPr>
              <a:t>儿子，你是妈妈的全部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bbe0e3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1"/>
          <p:cNvSpPr/>
          <p:nvPr/>
        </p:nvSpPr>
        <p:spPr>
          <a:xfrm>
            <a:off x="609480" y="29718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ff99ff"/>
                </a:solidFill>
                <a:latin typeface="宋体"/>
              </a:rPr>
              <a:t>2003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ff99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月，</a:t>
            </a:r>
            <a:r>
              <a:rPr b="1" lang="en-US" sz="2800" spc="-1" strike="noStrike">
                <a:solidFill>
                  <a:srgbClr val="ff99ff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岁的父亲胡介甫将自己的肾脏移植给了患</a:t>
            </a:r>
            <a:r>
              <a:rPr b="1" lang="zh-CN" sz="2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尿毒症</a:t>
            </a:r>
            <a:r>
              <a:rPr b="1" lang="zh-CN" sz="2800" spc="-1" strike="noStrike">
                <a:solidFill>
                  <a:srgbClr val="ff99ff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的儿子，固执的父亲不容拒绝地告诉胡立新：</a:t>
            </a:r>
            <a:r>
              <a:rPr b="1" lang="zh-CN" sz="2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1" lang="zh-CN" sz="2800" spc="-1" strike="noStrike" u="sng">
                <a:solidFill>
                  <a:srgbClr val="ff99ff"/>
                </a:solidFill>
                <a:uFillTx/>
                <a:latin typeface="宋体"/>
              </a:rPr>
              <a:t>什么比你的命还重要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？我宁可自己没命，也不能看着你死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http://www.jkdb.net/image/zy_1.jp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762120" y="3733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f8c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2f8c"/>
                </a:solidFill>
                <a:latin typeface="宋体"/>
              </a:rPr>
              <a:t>2005</a:t>
            </a:r>
            <a:r>
              <a:rPr b="1" lang="zh-CN" sz="2800" spc="-1" strike="noStrike">
                <a:solidFill>
                  <a:srgbClr val="002f8c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002f8c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2f8c"/>
                </a:solidFill>
                <a:latin typeface="宋体"/>
              </a:rPr>
              <a:t>月，成都生意人黎文钢一家四口乘坐的出租车冲进东风渠。绝望的挣扎中，黎文钢艰难地打碎了窗玻璃，准备拉着爸爸妈妈逃生。濒临死亡时，父母使劲地掰开儿子的手，把他推出车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685800" y="6094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2004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月，抚顺劳动公园内，陶女士一抬头，突然发现儿子的右手已在黑熊的嘴里，把孩子手拽回来已经来不及了！陶女士猛地把双手伸进了黑熊的嘴里，一只手代替儿子的小手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喂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给黑熊，另一只手护住儿子的小手，拼命地从黑熊的嘴中往外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1143000"/>
            <a:ext cx="6400800" cy="304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00"/>
                </a:solidFill>
                <a:latin typeface="Arial"/>
              </a:rPr>
              <a:t>请你设计给你的父母过下一次生日，讨论一下应该怎么安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6" descr="http://www.china-nurse.com/UploadFiles/200511214456734.jpg"/>
          <p:cNvPicPr/>
          <p:nvPr/>
        </p:nvPicPr>
        <p:blipFill>
          <a:blip r:embed="rId1"/>
          <a:stretch/>
        </p:blipFill>
        <p:spPr>
          <a:xfrm>
            <a:off x="4572000" y="3645000"/>
            <a:ext cx="4572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971640" y="476280"/>
            <a:ext cx="698508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一、百德孝为先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914400" y="2514600"/>
            <a:ext cx="6481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、讲亲情故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">
            <a:hlinkClick r:id="rId3"/>
          </p:cNvPr>
          <p:cNvSpPr/>
          <p:nvPr/>
        </p:nvSpPr>
        <p:spPr>
          <a:xfrm>
            <a:off x="7740720" y="580536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7301"/>
                </a:moveTo>
                <a:lnTo>
                  <a:pt x="20895" y="7301"/>
                </a:lnTo>
                <a:lnTo>
                  <a:pt x="21278" y="7667"/>
                </a:lnTo>
                <a:lnTo>
                  <a:pt x="30486" y="7667"/>
                </a:lnTo>
                <a:lnTo>
                  <a:pt x="31043" y="8224"/>
                </a:lnTo>
                <a:lnTo>
                  <a:pt x="31043" y="8772"/>
                </a:lnTo>
                <a:lnTo>
                  <a:pt x="32888" y="8772"/>
                </a:lnTo>
                <a:lnTo>
                  <a:pt x="33254" y="8224"/>
                </a:lnTo>
                <a:lnTo>
                  <a:pt x="33994" y="8224"/>
                </a:lnTo>
                <a:lnTo>
                  <a:pt x="33994" y="13376"/>
                </a:lnTo>
                <a:lnTo>
                  <a:pt x="33254" y="13376"/>
                </a:lnTo>
                <a:lnTo>
                  <a:pt x="32888" y="12828"/>
                </a:lnTo>
                <a:lnTo>
                  <a:pt x="31043" y="12828"/>
                </a:lnTo>
                <a:lnTo>
                  <a:pt x="31043" y="14107"/>
                </a:lnTo>
                <a:lnTo>
                  <a:pt x="21460" y="14107"/>
                </a:lnTo>
                <a:lnTo>
                  <a:pt x="21460" y="9877"/>
                </a:lnTo>
                <a:lnTo>
                  <a:pt x="21278" y="9877"/>
                </a:lnTo>
                <a:lnTo>
                  <a:pt x="20895" y="10243"/>
                </a:lnTo>
                <a:lnTo>
                  <a:pt x="19981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7740720" y="515772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8406"/>
                </a:moveTo>
                <a:lnTo>
                  <a:pt x="24437" y="8406"/>
                </a:lnTo>
                <a:lnTo>
                  <a:pt x="28859" y="3794"/>
                </a:lnTo>
                <a:lnTo>
                  <a:pt x="28859" y="17806"/>
                </a:lnTo>
                <a:lnTo>
                  <a:pt x="24437" y="13194"/>
                </a:lnTo>
                <a:lnTo>
                  <a:pt x="20007" y="13194"/>
                </a:lnTo>
                <a:close/>
              </a:path>
              <a:path fill="darken" w="54027" h="21600">
                <a:moveTo>
                  <a:pt x="30512" y="10800"/>
                </a:moveTo>
                <a:lnTo>
                  <a:pt x="34020" y="10800"/>
                </a:lnTo>
              </a:path>
              <a:path fill="darken" w="54027" h="21600">
                <a:moveTo>
                  <a:pt x="30512" y="8406"/>
                </a:moveTo>
                <a:lnTo>
                  <a:pt x="34020" y="5639"/>
                </a:lnTo>
              </a:path>
              <a:path fill="darken" w="54027" h="21600">
                <a:moveTo>
                  <a:pt x="30512" y="13194"/>
                </a:moveTo>
                <a:lnTo>
                  <a:pt x="34020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914400" y="3657600"/>
            <a:ext cx="5410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、歌曲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念亲恩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985040" y="4724280"/>
            <a:ext cx="42231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、观看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Flash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伯俞泣杖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26"/>
          <p:cNvSpPr/>
          <p:nvPr/>
        </p:nvSpPr>
        <p:spPr>
          <a:xfrm>
            <a:off x="1440" y="118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27"/>
          <p:cNvSpPr/>
          <p:nvPr/>
        </p:nvSpPr>
        <p:spPr>
          <a:xfrm>
            <a:off x="2057400" y="990720"/>
            <a:ext cx="64450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走近父母的方法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向父母表达你爱他们。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动承担家务；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纪念日、节日送点小礼物；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遇特别情况写一封信表达感激；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适时为父母倒杯茶、削个水果。 </a:t>
            </a:r>
            <a:br>
              <a:rPr sz="2800"/>
            </a:br>
            <a:br>
              <a:rPr sz="1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4495680" y="28810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10000"/>
                </a:solidFill>
                <a:latin typeface="方正仿宋简体"/>
                <a:ea typeface="方正仿宋简体"/>
              </a:rPr>
              <a:t>汉朝时，大梁有个叫韩伯愈的人，本性纯正，孝敬父母，是一位著名的孝子。他的母亲对他管教很严格，稍微有点过失，就举杖挥打。有一天伯愈在挨打时，竟然伤心哭泣。他母亲觉得奇怪，问道：</a:t>
            </a:r>
            <a:r>
              <a:rPr b="1" lang="zh-CN" sz="2400" spc="-1" strike="noStrike">
                <a:solidFill>
                  <a:srgbClr val="010000"/>
                </a:solidFill>
                <a:latin typeface="Arial"/>
                <a:ea typeface="方正仿宋简体"/>
              </a:rPr>
              <a:t>“</a:t>
            </a:r>
            <a:r>
              <a:rPr b="1" lang="zh-CN" sz="2400" spc="-1" strike="noStrike">
                <a:solidFill>
                  <a:srgbClr val="010000"/>
                </a:solidFill>
                <a:latin typeface="方正仿宋简体"/>
                <a:ea typeface="方正仿宋简体"/>
              </a:rPr>
              <a:t>往常打你时，你都能接受，今天为什么哭泣？</a:t>
            </a:r>
            <a:r>
              <a:rPr b="1" lang="zh-CN" sz="2400" spc="-1" strike="noStrike">
                <a:solidFill>
                  <a:srgbClr val="010000"/>
                </a:solidFill>
                <a:latin typeface="Arial"/>
                <a:ea typeface="方正仿宋简体"/>
              </a:rPr>
              <a:t>”</a:t>
            </a:r>
            <a:r>
              <a:rPr b="1" lang="zh-CN" sz="2400" spc="-1" strike="noStrike">
                <a:solidFill>
                  <a:srgbClr val="010000"/>
                </a:solidFill>
                <a:latin typeface="方正仿宋简体"/>
                <a:ea typeface="方正仿宋简体"/>
              </a:rPr>
              <a:t>伯愈回答道：</a:t>
            </a:r>
            <a:r>
              <a:rPr b="1" lang="zh-CN" sz="2400" spc="-1" strike="noStrike">
                <a:solidFill>
                  <a:srgbClr val="010000"/>
                </a:solidFill>
                <a:latin typeface="Arial"/>
                <a:ea typeface="方正仿宋简体"/>
              </a:rPr>
              <a:t>“</a:t>
            </a:r>
            <a:r>
              <a:rPr b="1" lang="zh-CN" sz="2400" spc="-1" strike="noStrike">
                <a:solidFill>
                  <a:srgbClr val="010000"/>
                </a:solidFill>
                <a:latin typeface="方正仿宋简体"/>
                <a:ea typeface="方正仿宋简体"/>
              </a:rPr>
              <a:t>往常打我我觉得疼痛，知道母亲还有力气，身体健康，但是今天感觉不到疼痛，知道母亲身体衰退，体力微弱。所以伤心禁不住流下了泪水。并不是疼痛不甘心忍受。</a:t>
            </a:r>
            <a:r>
              <a:rPr b="1" lang="zh-CN" sz="2400" spc="-1" strike="noStrike">
                <a:solidFill>
                  <a:srgbClr val="010000"/>
                </a:solidFill>
                <a:latin typeface="Arial"/>
                <a:ea typeface="方正仿宋简体"/>
              </a:rPr>
              <a:t>”</a:t>
            </a:r>
            <a:r>
              <a:rPr b="1" lang="zh-CN" sz="2400" spc="-1" strike="noStrike">
                <a:solidFill>
                  <a:srgbClr val="010000"/>
                </a:solidFill>
                <a:latin typeface="方正仿宋简体"/>
                <a:ea typeface="方正仿宋简体"/>
              </a:rPr>
              <a:t>说明了他非常孝敬母亲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7"/>
          <p:cNvPicPr/>
          <p:nvPr/>
        </p:nvPicPr>
        <p:blipFill>
          <a:blip r:embed="rId1"/>
          <a:stretch/>
        </p:blipFill>
        <p:spPr>
          <a:xfrm>
            <a:off x="152280" y="1447920"/>
            <a:ext cx="441972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457200" y="2590920"/>
            <a:ext cx="82296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父母有分歧时学会换位思考，站在父母的角度上去想一想。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应让父母感觉你相信他们，多交流并经常给予赞美。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向父母说说自己的情况，自己的愿望；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倾听父母的话；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遇上烦恼，告诉父母，寻求父母的帮助。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回家和外出主动给父母打招呼。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时紧记，父母只会爱孩子，决不会害孩子。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要能理解、孝敬、尊重父母，你就和父母走近了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rcRect l="0" t="0" r="-34" b="-34"/>
          <a:stretch/>
        </p:blipFill>
        <p:spPr>
          <a:xfrm>
            <a:off x="228600" y="380880"/>
            <a:ext cx="5105520" cy="38484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5562720" y="2286000"/>
            <a:ext cx="32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Arial"/>
                <a:ea typeface="华文隶书"/>
              </a:rPr>
              <a:t>花木兰孝敬父母，女扮男装，代替父亲出征打仗。奋战沙场十二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1"/>
          <p:cNvSpPr/>
          <p:nvPr/>
        </p:nvSpPr>
        <p:spPr>
          <a:xfrm>
            <a:off x="3048120" y="5335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_x000b__x000c_"/>
              </a:rPr>
              <a:t>200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_x000b__x000c_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_x000b__x000c_"/>
              </a:rPr>
              <a:t>月底，在深圳一家律师事务所工作的田世国得知母亲刘玉环患尿毒症后，偷偷跑到上海中山医院作了血样检查；配型成功后，瞒着母亲，毅然将自己的一个肾脏移植给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4" descr="http://cimg.163.com/news/2004/12/28/200412281225436bd73.jpg"/>
          <p:cNvPicPr/>
          <p:nvPr/>
        </p:nvPicPr>
        <p:blipFill>
          <a:blip r:embed="rId1"/>
          <a:stretch/>
        </p:blipFill>
        <p:spPr>
          <a:xfrm>
            <a:off x="380880" y="3200400"/>
            <a:ext cx="381024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4140360" y="404640"/>
            <a:ext cx="5003640" cy="3699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3"/>
          <p:cNvSpPr/>
          <p:nvPr/>
        </p:nvSpPr>
        <p:spPr>
          <a:xfrm>
            <a:off x="0" y="2276640"/>
            <a:ext cx="428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朱德对母亲非常敬爱，在他的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《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母亲的回忆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》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中感谢母亲教给他的生产的知识和革命的意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5" descr="20041214173804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282600" y="2732040"/>
            <a:ext cx="8572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4"/>
          <p:cNvGrpSpPr/>
          <p:nvPr/>
        </p:nvGrpSpPr>
        <p:grpSpPr>
          <a:xfrm>
            <a:off x="282600" y="2732040"/>
            <a:ext cx="8572320" cy="360"/>
            <a:chOff x="282600" y="2732040"/>
            <a:chExt cx="8572320" cy="360"/>
          </a:xfrm>
        </p:grpSpPr>
        <p:sp>
          <p:nvSpPr>
            <p:cNvPr id="63" name="Rectangle 6"/>
            <p:cNvSpPr/>
            <p:nvPr/>
          </p:nvSpPr>
          <p:spPr>
            <a:xfrm>
              <a:off x="282600" y="2732040"/>
              <a:ext cx="8572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7"/>
            <p:cNvSpPr/>
            <p:nvPr/>
          </p:nvSpPr>
          <p:spPr>
            <a:xfrm>
              <a:off x="282600" y="2732040"/>
              <a:ext cx="8572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6"/>
          <p:cNvSpPr/>
          <p:nvPr/>
        </p:nvSpPr>
        <p:spPr>
          <a:xfrm>
            <a:off x="755640" y="0"/>
            <a:ext cx="7777080" cy="2232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二、我与父母的故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7"/>
          <p:cNvSpPr/>
          <p:nvPr/>
        </p:nvSpPr>
        <p:spPr>
          <a:xfrm>
            <a:off x="609480" y="2514600"/>
            <a:ext cx="2819520" cy="1295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66ff"/>
              </a:gs>
              <a:gs pos="50000">
                <a:srgbClr val="ffffff"/>
              </a:gs>
              <a:gs pos="100000">
                <a:srgbClr val="cc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回忆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900000" y="4581360"/>
            <a:ext cx="7632720" cy="8251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说说你的父母在你成长中对你关爱，令你难忘的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28" descr="20041214173804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026"/>
          <p:cNvSpPr/>
          <p:nvPr/>
        </p:nvSpPr>
        <p:spPr>
          <a:xfrm>
            <a:off x="900000" y="4365720"/>
            <a:ext cx="7561440" cy="10083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我与父母闹矛盾的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030"/>
          <p:cNvSpPr/>
          <p:nvPr/>
        </p:nvSpPr>
        <p:spPr>
          <a:xfrm>
            <a:off x="826920" y="1125360"/>
            <a:ext cx="2907000" cy="1295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66ff"/>
              </a:gs>
              <a:gs pos="50000">
                <a:srgbClr val="ffffff"/>
              </a:gs>
              <a:gs pos="100000">
                <a:srgbClr val="cc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回忆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e7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D:\lihui\课件素材\My Pictures\E1500.jpg"/>
          <p:cNvPicPr/>
          <p:nvPr/>
        </p:nvPicPr>
        <p:blipFill>
          <a:blip r:embed="rId1"/>
          <a:srcRect l="0" t="0" r="0" b="53"/>
          <a:stretch/>
        </p:blipFill>
        <p:spPr>
          <a:xfrm>
            <a:off x="0" y="2819520"/>
            <a:ext cx="9144000" cy="40561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457200" y="0"/>
            <a:ext cx="8153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仿宋_GB2312"/>
                <a:ea typeface="仿宋_GB2312"/>
              </a:rPr>
              <a:t>在亲情的观念里，磨难显得是那么的微不足道，那么的不可怕。爱的道路有时只有一个理念，那就是：让我们爱着的人幸福</a:t>
            </a: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2"/>
          <p:cNvSpPr/>
          <p:nvPr/>
        </p:nvSpPr>
        <p:spPr>
          <a:xfrm>
            <a:off x="304920" y="0"/>
            <a:ext cx="2971800" cy="1295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父母的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523880" y="259092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最开心的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781800" y="3733920"/>
            <a:ext cx="130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致青春期儿子的一封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755640" y="4648320"/>
            <a:ext cx="747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把父母为你做的事和你为父母做的事列举出来，作为砝码放在天平的两端，看看你的天平是否倾斜得太厉害？如果是，请你加重砝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18-01"/>
          <p:cNvPicPr/>
          <p:nvPr/>
        </p:nvPicPr>
        <p:blipFill>
          <a:blip r:embed="rId1"/>
          <a:stretch/>
        </p:blipFill>
        <p:spPr>
          <a:xfrm>
            <a:off x="2556000" y="1125360"/>
            <a:ext cx="3276360" cy="3086280"/>
          </a:xfrm>
          <a:prstGeom prst="rect">
            <a:avLst/>
          </a:prstGeom>
          <a:ln w="0">
            <a:noFill/>
          </a:ln>
        </p:spPr>
      </p:pic>
      <p:sp>
        <p:nvSpPr>
          <p:cNvPr id="78" name="WordArt 8"/>
          <p:cNvSpPr txBox="1"/>
          <p:nvPr/>
        </p:nvSpPr>
        <p:spPr>
          <a:xfrm>
            <a:off x="609480" y="533520"/>
            <a:ext cx="22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爱的天平</a:t>
            </a:r>
            <a:endParaRPr b="1" lang="en-US" sz="1800" spc="1" strike="noStrike">
              <a:ln w="1260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1600200" y="299736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为父母做的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4859280" y="3933720"/>
            <a:ext cx="23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父母为我做的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>
            <a:off x="815328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8406"/>
                </a:moveTo>
                <a:lnTo>
                  <a:pt x="12548" y="8406"/>
                </a:lnTo>
                <a:lnTo>
                  <a:pt x="16969" y="3794"/>
                </a:lnTo>
                <a:lnTo>
                  <a:pt x="16969" y="17806"/>
                </a:lnTo>
                <a:lnTo>
                  <a:pt x="12548" y="13194"/>
                </a:lnTo>
                <a:lnTo>
                  <a:pt x="8118" y="13194"/>
                </a:lnTo>
                <a:close/>
              </a:path>
              <a:path fill="darken" w="30248" h="21600">
                <a:moveTo>
                  <a:pt x="18623" y="10800"/>
                </a:moveTo>
                <a:lnTo>
                  <a:pt x="22131" y="10800"/>
                </a:lnTo>
              </a:path>
              <a:path fill="darken" w="30248" h="21600">
                <a:moveTo>
                  <a:pt x="18623" y="8406"/>
                </a:moveTo>
                <a:lnTo>
                  <a:pt x="22131" y="5639"/>
                </a:lnTo>
              </a:path>
              <a:path fill="darken" w="30248" h="21600">
                <a:moveTo>
                  <a:pt x="18623" y="13194"/>
                </a:moveTo>
                <a:lnTo>
                  <a:pt x="22131" y="1596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2"/>
          <p:cNvSpPr/>
          <p:nvPr/>
        </p:nvSpPr>
        <p:spPr>
          <a:xfrm>
            <a:off x="3581280" y="0"/>
            <a:ext cx="5410440" cy="990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舒体"/>
              </a:rPr>
              <a:t>走进心灵的驿站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方正舒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舒体"/>
              </a:rPr>
              <a:t>学会感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Oval 1026"/>
          <p:cNvSpPr/>
          <p:nvPr/>
        </p:nvSpPr>
        <p:spPr>
          <a:xfrm>
            <a:off x="152280" y="990720"/>
            <a:ext cx="8763120" cy="586728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36"/>
          <p:cNvSpPr/>
          <p:nvPr/>
        </p:nvSpPr>
        <p:spPr>
          <a:xfrm>
            <a:off x="609480" y="216216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喂你吃奶并给你洗澡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整晚的哭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37"/>
          <p:cNvSpPr/>
          <p:nvPr/>
        </p:nvSpPr>
        <p:spPr>
          <a:xfrm>
            <a:off x="609480" y="437184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怜爱的为你做菜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把一盘她做的菜扔在地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1038"/>
          <p:cNvSpPr txBox="1"/>
          <p:nvPr/>
        </p:nvSpPr>
        <p:spPr>
          <a:xfrm>
            <a:off x="2971800" y="228600"/>
            <a:ext cx="2819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一生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7" name="AutoShape 1040"/>
          <p:cNvSpPr/>
          <p:nvPr/>
        </p:nvSpPr>
        <p:spPr>
          <a:xfrm>
            <a:off x="228600" y="0"/>
            <a:ext cx="2438280" cy="990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66ff"/>
              </a:gs>
              <a:gs pos="50000">
                <a:srgbClr val="ffffff"/>
              </a:gs>
              <a:gs pos="100000">
                <a:srgbClr val="cc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诗歌朗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01:57:57Z</dcterms:created>
  <dc:creator>lihui</dc:creator>
  <dc:description/>
  <dc:language>en-US</dc:language>
  <cp:lastModifiedBy>User</cp:lastModifiedBy>
  <dcterms:modified xsi:type="dcterms:W3CDTF">2014-03-01T14:38:32Z</dcterms:modified>
  <cp:revision>64</cp:revision>
  <dc:subject/>
  <dc:title>孝敬教育班会</dc:title>
</cp:coreProperties>
</file>