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chimes.wav" ContentType="audio/x-wav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5BB4-DE1E-444C-BB0E-CA3A21302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445-2578-454D-B33C-11F04D20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短短的六句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已把母性的光辉表现得淋漓尽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只要体会出这番意境、 把感恩之心付诸行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就不枉费诗人的一番苦心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谁言寸草心，报得三春晖，我们感受父母的恩情似海，我们也要尝试去回报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B0F7-2BA6-42D6-920B-E522E7DF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得刚才有好多同学都没有给父母过过生日，那么我们就试着设计给我们的父母过一次生日，让他们明白我们对他们的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D43D-E201-4E57-A351-C78FA4999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中难免有些迂腐的地方，但孝子的一些言行能够让我们有所启示和感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08FA-A162-45C6-B525-3C180615C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古代孝敬父母的例子还有很多，下面的这个同学们一定熟悉，谁来说一说她是如何孝顺父母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D5E5-CC50-4628-A348-C13A5D930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一辈的无产阶级革命家也非常孝敬自己的父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8CCF-B931-4255-8121-96F256BD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正因为父母养我们，教我们，对我们有养育之恩，因此社会都把孝敬父母看作是美德，我国也有孝敬父母的优良传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D5D-ADEB-4E96-8ADE-7FA32FEC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254-F6C5-4FE7-A329-B1BA1772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361-2073-4B37-A859-73B454BC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3A1-C6FA-4E14-B331-AE6F8CDE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FF4-B009-450E-A010-86D69287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3AB-CC0B-4AF4-B3FA-3136F234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1FB-6D37-4607-927E-CF492D82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0DF-AC8B-428C-9B63-6D5E9465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27C-212D-4434-8EAA-E6F15690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542-4564-411C-9620-9EB234BD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20B-D91B-453B-9989-92895AE4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0FD-80BF-4EB3-BF52-83B63C7F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7A97-196F-482B-B164-6D4F76CB3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anonfans.com/showlist.php?thumbid=570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&#12298;&#20013;&#21326;&#24503;&#32946;&#25925;&#20107;&#12299;&#23389;&#31687;-&#20271;&#24840;&#27875;&#26454;.swf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初二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1143000"/>
            <a:ext cx="57150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为了父母的微笑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" name="Picture 6" descr="http://www.chyi.edu.sh.cn/cbsxd/img/xiaojing.gif"/>
          <p:cNvPicPr/>
          <p:nvPr/>
        </p:nvPicPr>
        <p:blipFill>
          <a:blip r:embed="rId3"/>
          <a:srcRect l="9289" t="13965" r="9289" b="9289"/>
          <a:stretch/>
        </p:blipFill>
        <p:spPr>
          <a:xfrm>
            <a:off x="6172200" y="403848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914400" y="5638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授课者：阳江市实验中学    施贤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533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下彩色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涂了满墙的抽象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既漂亮又贵的衣服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穿着它到泥坑里玩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4876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了球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用球打破了邻居的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很多钱给你辅导钢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常常旷课并不去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04920" y="23623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陪你还有你的朋友们去看电影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让她坐另一排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0492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建议你去把头发剪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说她不懂什么是现在的时髦发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8600" y="533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一个月的夏令营费用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整一个月没有打一个电话给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2590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下班回家想拥抱你一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转身进屋把门插上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47242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在等一个重要的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抱着电话和你的朋友聊了一晚上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28600" y="533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为你高中毕业感动得流下眼泪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跟朋友在外聚会到天亮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的大学费用又送你到学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要求她在远点下车怕同学看见笑话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问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天去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不想象你一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家具布置你的新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朋友说她买的家具真糟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对怎样照顾小孩提出劝告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她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时代不同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472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打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亲戚过生日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我很忙 没时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533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常患病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要你的看护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在家读一本关于父母在孩子家寄身的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终于有一天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去世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突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...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想起了所有从来没做过的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们象榔头痛击着你的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哭了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孝顺父母，我们应该这样做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2004111516114500000"/>
          <p:cNvPicPr/>
          <p:nvPr/>
        </p:nvPicPr>
        <p:blipFill>
          <a:blip r:embed="rId1"/>
          <a:stretch/>
        </p:blipFill>
        <p:spPr>
          <a:xfrm>
            <a:off x="0" y="1900080"/>
            <a:ext cx="5029200" cy="4957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257800" y="1143000"/>
            <a:ext cx="312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关心父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句问候，一个亲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束鲜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个拥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甚至一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181480" y="4952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一句感恩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6"/>
          <p:cNvSpPr/>
          <p:nvPr/>
        </p:nvSpPr>
        <p:spPr>
          <a:xfrm>
            <a:off x="1752480" y="1066680"/>
            <a:ext cx="556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月的第二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六月的第三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7"/>
          <p:cNvSpPr/>
          <p:nvPr/>
        </p:nvSpPr>
        <p:spPr>
          <a:xfrm>
            <a:off x="3048120" y="1981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母亲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31240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父亲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父母写一封信，对父母表示感激并表表你回报父母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个双休日为父母服务一天，体会父母的辛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21gabf.com/images/040607102052.gif"/>
          <p:cNvPicPr/>
          <p:nvPr/>
        </p:nvPicPr>
        <p:blipFill>
          <a:blip r:embed="rId1">
            <a:lum bright="18000"/>
          </a:blip>
          <a:srcRect l="0" t="0" r="0" b="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609480" y="990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那便是父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981080" y="106668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0" descr="D:\lihui\课件素材\6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29" descr="http://www.canonfans.com/memberthumb/userid3/uploads_z/userid34564time20040712185428.jpg">
            <a:hlinkClick r:id="rId2"/>
          </p:cNvPr>
          <p:cNvPicPr/>
          <p:nvPr/>
        </p:nvPicPr>
        <p:blipFill>
          <a:blip r:embed="rId3"/>
          <a:srcRect l="0" t="0" r="25" b="47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无论你身在何地，有一个人，她永远占据在你心中最柔软的地方，你愿用自己的一生去爱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有一种爱，它让你肆意索取，享用，却不要你任何回报</a:t>
            </a:r>
            <a:r>
              <a:rPr b="1" lang="en-US" sz="3200" spc="-1" strike="noStrike">
                <a:solidFill>
                  <a:srgbClr val="876cfa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这个人，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亲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，这种爱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爱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876cf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1"/>
          <p:cNvSpPr/>
          <p:nvPr/>
        </p:nvSpPr>
        <p:spPr>
          <a:xfrm>
            <a:off x="304920" y="0"/>
            <a:ext cx="35812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受父母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33" descr="杨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:\WINDOWS\Desktop\背影2\善.bmp"/>
          <p:cNvPicPr/>
          <p:nvPr/>
        </p:nvPicPr>
        <p:blipFill>
          <a:blip r:embed="rId1"/>
          <a:srcRect l="0" t="0" r="-44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山，无论你有多大的困难，他总是你依靠的屏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路，无论你走到哪里，他都伴你延伸，为你指点迷津，护你一路走好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smile.eguo.com/images/fatherday/2004/memooffather/memo4b.gif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403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edu.sina.com.cn/literature/wene/42-33-188_photoqian.jpg"/>
          <p:cNvPicPr/>
          <p:nvPr/>
        </p:nvPicPr>
        <p:blipFill>
          <a:blip r:embed="rId3"/>
          <a:stretch/>
        </p:blipFill>
        <p:spPr>
          <a:xfrm>
            <a:off x="6238800" y="2960640"/>
            <a:ext cx="2905200" cy="3897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5334120" y="60958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80880" y="190512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体贴关心父母，在家要尽力承担一些家务劳动，减轻父母负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尊敬和爱戴父母，听从父母的正确教导，不可当面顶撞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碰到一些比较重要的事情，一定要和父母商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尤其是升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就业等大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一定要征求和认真考虑父母的意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在生活上要艰苦朴素、勤俭节约，不向父母提过分要求，不纠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当父母年迈时，在物质上要赡养父母，在精神上要关心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课件图片素材\背景素材\BJ_025.JPG"/>
          <p:cNvPicPr/>
          <p:nvPr/>
        </p:nvPicPr>
        <p:blipFill>
          <a:blip r:embed="rId1"/>
          <a:srcRect l="0" t="0" r="-30" b="-66"/>
          <a:stretch/>
        </p:blipFill>
        <p:spPr>
          <a:xfrm>
            <a:off x="4876920" y="4243320"/>
            <a:ext cx="4267080" cy="2614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0948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219320"/>
            <a:ext cx="92203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一位成绩优秀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父母对他的期望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自己对自己的要求也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天一回家就马上学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近学校开展孝敬父母的活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求学生在家能帮助父母承担一些家务劳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林不屑地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成绩优秀就是孝敬父母，其他都是多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小刚是一名初二学生，在学校里活泼开朗，可回到家却不愿和父母讲在学校的事，有什么心事也不愿和父母讲，总是一个人独自呆在屋里。问他为什么，他说：“父母只会唠叨，和他们没什么好说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课堂上，老师批评现在社会上一些不赡养父母的错误行为。小明说：“我以后工作后，每月都会给父母生活费。”每月给父母生活费就是孝敬父母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280" y="57150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以上三人的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04920" y="0"/>
            <a:ext cx="281916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走进心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mdjt.mp3" descr=""/>
          <p:cNvPicPr/>
          <p:nvPr/>
        </p:nvPicPr>
        <p:blipFill>
          <a:blip r:embed="rId1"/>
          <a:stretch/>
        </p:blipFill>
        <p:spPr>
          <a:xfrm>
            <a:off x="8305920" y="6400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28"/>
          <p:cNvSpPr/>
          <p:nvPr/>
        </p:nvSpPr>
        <p:spPr>
          <a:xfrm>
            <a:off x="1066680" y="69840"/>
            <a:ext cx="6400800" cy="66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 们──给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便没有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哺育了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拓开了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世界是残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生活是跛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世界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生命鲜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超越历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赢获明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此，我爱他们，我们爱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给我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也可以一样给他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片蓝天白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轮明月朝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双眼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座家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颗赤子之心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10034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3" descr="http://www.twgbr.org.tw/jubilee/images/002-3/01b.jpg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2858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男孩童童掉进鲨鱼池。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母亲刘燕带着相机、背着鼓囊囊的背包，啥也没想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的一声跳了下去。把孩子抱在胸前的一瞬间，童童流着眼泪说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妈，我以为我死了呢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刘燕眼泪倏地流下来，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bbe0e3"/>
                </a:solidFill>
                <a:uFillTx/>
                <a:latin typeface="宋体"/>
              </a:rPr>
              <a:t>儿子，你是妈妈的全部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09480" y="2971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岁的父亲胡介甫将自己的肾脏移植给了患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尿毒症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的儿子，固执的父亲不容拒绝地告诉胡立新：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宋体"/>
              </a:rPr>
              <a:t>什么比你的命还重要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？我宁可自己没命，也不能看着你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://www.jkdb.net/image/zy_1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762120" y="3733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005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月，成都生意人黎文钢一家四口乘坐的出租车冲进东风渠。绝望的挣扎中，黎文钢艰难地打碎了窗玻璃，准备拉着爸爸妈妈逃生。濒临死亡时，父母使劲地掰开儿子的手，把他推出车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68580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月，抚顺劳动公园内，陶女士一抬头，突然发现儿子的右手已在黑熊的嘴里，把孩子手拽回来已经来不及了！陶女士猛地把双手伸进了黑熊的嘴里，一只手代替儿子的小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给黑熊，另一只手护住儿子的小手，拼命地从黑熊的嘴中往外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6400800" cy="30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</a:rPr>
              <a:t>请你设计给你的父母过下一次生日，讨论一下应该怎么安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http://www.china-nurse.com/UploadFiles/200511214456734.jpg"/>
          <p:cNvPicPr/>
          <p:nvPr/>
        </p:nvPicPr>
        <p:blipFill>
          <a:blip r:embed="rId1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971640" y="476280"/>
            <a:ext cx="6985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一、百德孝为先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14400" y="2514600"/>
            <a:ext cx="6481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讲亲情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>
            <a:hlinkClick r:id="rId3"/>
          </p:cNvPr>
          <p:cNvSpPr/>
          <p:nvPr/>
        </p:nvSpPr>
        <p:spPr>
          <a:xfrm>
            <a:off x="7740720" y="580536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301"/>
                </a:moveTo>
                <a:lnTo>
                  <a:pt x="20895" y="7301"/>
                </a:lnTo>
                <a:lnTo>
                  <a:pt x="21278" y="7667"/>
                </a:lnTo>
                <a:lnTo>
                  <a:pt x="30486" y="7667"/>
                </a:lnTo>
                <a:lnTo>
                  <a:pt x="31043" y="8224"/>
                </a:lnTo>
                <a:lnTo>
                  <a:pt x="31043" y="8772"/>
                </a:lnTo>
                <a:lnTo>
                  <a:pt x="32888" y="8772"/>
                </a:lnTo>
                <a:lnTo>
                  <a:pt x="33254" y="8224"/>
                </a:lnTo>
                <a:lnTo>
                  <a:pt x="33994" y="8224"/>
                </a:lnTo>
                <a:lnTo>
                  <a:pt x="33994" y="13376"/>
                </a:lnTo>
                <a:lnTo>
                  <a:pt x="33254" y="13376"/>
                </a:lnTo>
                <a:lnTo>
                  <a:pt x="32888" y="12828"/>
                </a:lnTo>
                <a:lnTo>
                  <a:pt x="31043" y="12828"/>
                </a:lnTo>
                <a:lnTo>
                  <a:pt x="31043" y="14107"/>
                </a:lnTo>
                <a:lnTo>
                  <a:pt x="21460" y="14107"/>
                </a:lnTo>
                <a:lnTo>
                  <a:pt x="21460" y="9877"/>
                </a:lnTo>
                <a:lnTo>
                  <a:pt x="21278" y="9877"/>
                </a:lnTo>
                <a:lnTo>
                  <a:pt x="20895" y="10243"/>
                </a:lnTo>
                <a:lnTo>
                  <a:pt x="1998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7740720" y="5157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8406"/>
                </a:moveTo>
                <a:lnTo>
                  <a:pt x="24437" y="8406"/>
                </a:lnTo>
                <a:lnTo>
                  <a:pt x="28859" y="3794"/>
                </a:lnTo>
                <a:lnTo>
                  <a:pt x="28859" y="17806"/>
                </a:lnTo>
                <a:lnTo>
                  <a:pt x="24437" y="13194"/>
                </a:lnTo>
                <a:lnTo>
                  <a:pt x="20007" y="13194"/>
                </a:lnTo>
                <a:close/>
              </a:path>
              <a:path fill="darken" w="54027" h="21600">
                <a:moveTo>
                  <a:pt x="30512" y="10800"/>
                </a:moveTo>
                <a:lnTo>
                  <a:pt x="34020" y="10800"/>
                </a:lnTo>
              </a:path>
              <a:path fill="darken" w="54027" h="21600">
                <a:moveTo>
                  <a:pt x="30512" y="8406"/>
                </a:moveTo>
                <a:lnTo>
                  <a:pt x="34020" y="5639"/>
                </a:lnTo>
              </a:path>
              <a:path fill="darken" w="54027" h="21600">
                <a:moveTo>
                  <a:pt x="30512" y="13194"/>
                </a:moveTo>
                <a:lnTo>
                  <a:pt x="3402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914400" y="3657600"/>
            <a:ext cx="5410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歌曲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念亲恩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85040" y="4724280"/>
            <a:ext cx="42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观看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ash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伯俞泣杖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6"/>
          <p:cNvSpPr/>
          <p:nvPr/>
        </p:nvSpPr>
        <p:spPr>
          <a:xfrm>
            <a:off x="144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27"/>
          <p:cNvSpPr/>
          <p:nvPr/>
        </p:nvSpPr>
        <p:spPr>
          <a:xfrm>
            <a:off x="2057400" y="990720"/>
            <a:ext cx="64450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近父母的方法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向父母表达你爱他们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承担家务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念日、节日送点小礼物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遇特别情况写一封信表达感激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时为父母倒杯茶、削个水果。 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495680" y="2881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汉朝时，大梁有个叫韩伯愈的人，本性纯正，孝敬父母，是一位著名的孝子。他的母亲对他管教很严格，稍微有点过失，就举杖挥打。有一天伯愈在挨打时，竟然伤心哭泣。他母亲觉得奇怪，问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你时，你都能接受，今天为什么哭泣？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伯愈回答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我我觉得疼痛，知道母亲还有力气，身体健康，但是今天感觉不到疼痛，知道母亲身体衰退，体力微弱。所以伤心禁不住流下了泪水。并不是疼痛不甘心忍受。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说明了他非常孝敬母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7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457200" y="259092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父母有分歧时学会换位思考，站在父母的角度上去想一想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让父母感觉你相信他们，多交流并经常给予赞美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向父母说说自己的情况，自己的愿望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倾听父母的话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上烦恼，告诉父母，寻求父母的帮助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家和外出主动给父母打招呼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时紧记，父母只会爱孩子，决不会害孩子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能理解、孝敬、尊重父母，你就和父母走近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rcRect l="0" t="0" r="-34" b="-34"/>
          <a:stretch/>
        </p:blipFill>
        <p:spPr>
          <a:xfrm>
            <a:off x="228600" y="380880"/>
            <a:ext cx="5105520" cy="3848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5562720" y="2286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花木兰孝敬父母，女扮男装，代替父亲出征打仗。奋战沙场十二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304812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月底，在深圳一家律师事务所工作的田世国得知母亲刘玉环患尿毒症后，偷偷跑到上海中山医院作了血样检查；配型成功后，瞒着母亲，毅然将自己的一个肾脏移植给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http://cimg.163.com/news/2004/12/28/200412281225436bd73.jpg"/>
          <p:cNvPicPr/>
          <p:nvPr/>
        </p:nvPicPr>
        <p:blipFill>
          <a:blip r:embed="rId1"/>
          <a:stretch/>
        </p:blipFill>
        <p:spPr>
          <a:xfrm>
            <a:off x="380880" y="3200400"/>
            <a:ext cx="3810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5003640" cy="3699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2276640"/>
            <a:ext cx="42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朱德对母亲非常敬爱，在他的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母亲的回忆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中感谢母亲教给他的生产的知识和革命的意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82600" y="2732040"/>
            <a:ext cx="8572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282600" y="2732040"/>
            <a:ext cx="8572320" cy="360"/>
            <a:chOff x="282600" y="2732040"/>
            <a:chExt cx="8572320" cy="360"/>
          </a:xfrm>
        </p:grpSpPr>
        <p:sp>
          <p:nvSpPr>
            <p:cNvPr id="63" name="Rectangle 6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6"/>
          <p:cNvSpPr/>
          <p:nvPr/>
        </p:nvSpPr>
        <p:spPr>
          <a:xfrm>
            <a:off x="755640" y="0"/>
            <a:ext cx="7777080" cy="223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二、我与父母的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609480" y="2514600"/>
            <a:ext cx="281952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900000" y="4581360"/>
            <a:ext cx="7632720" cy="825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说说你的父母在你成长中对你关爱，令你难忘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8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26"/>
          <p:cNvSpPr/>
          <p:nvPr/>
        </p:nvSpPr>
        <p:spPr>
          <a:xfrm>
            <a:off x="900000" y="4365720"/>
            <a:ext cx="7561440" cy="1008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我与父母闹矛盾的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30"/>
          <p:cNvSpPr/>
          <p:nvPr/>
        </p:nvSpPr>
        <p:spPr>
          <a:xfrm>
            <a:off x="826920" y="1125360"/>
            <a:ext cx="2907000" cy="1295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lihui\课件素材\My Pictures\E1500.jpg"/>
          <p:cNvPicPr/>
          <p:nvPr/>
        </p:nvPicPr>
        <p:blipFill>
          <a:blip r:embed="rId1"/>
          <a:srcRect l="0" t="0" r="0" b="53"/>
          <a:stretch/>
        </p:blipFill>
        <p:spPr>
          <a:xfrm>
            <a:off x="0" y="2819520"/>
            <a:ext cx="9144000" cy="4056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457200" y="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在亲情的观念里，磨难显得是那么的微不足道，那么的不可怕。爱的道路有时只有一个理念，那就是：让我们爱着的人幸福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304920" y="0"/>
            <a:ext cx="297180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父母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23880" y="25909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最开心的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781800" y="373392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致青春期儿子的一封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55640" y="464832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8-01"/>
          <p:cNvPicPr/>
          <p:nvPr/>
        </p:nvPicPr>
        <p:blipFill>
          <a:blip r:embed="rId1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8"/>
          <p:cNvSpPr txBox="1"/>
          <p:nvPr/>
        </p:nvSpPr>
        <p:spPr>
          <a:xfrm>
            <a:off x="60948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600200" y="2997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为父母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859280" y="3933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为我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81532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8406"/>
                </a:moveTo>
                <a:lnTo>
                  <a:pt x="12548" y="8406"/>
                </a:lnTo>
                <a:lnTo>
                  <a:pt x="16969" y="3794"/>
                </a:lnTo>
                <a:lnTo>
                  <a:pt x="16969" y="17806"/>
                </a:lnTo>
                <a:lnTo>
                  <a:pt x="12548" y="13194"/>
                </a:lnTo>
                <a:lnTo>
                  <a:pt x="8118" y="13194"/>
                </a:lnTo>
                <a:close/>
              </a:path>
              <a:path fill="darken" w="30248" h="21600">
                <a:moveTo>
                  <a:pt x="18623" y="10800"/>
                </a:moveTo>
                <a:lnTo>
                  <a:pt x="22131" y="10800"/>
                </a:lnTo>
              </a:path>
              <a:path fill="darken" w="30248" h="21600">
                <a:moveTo>
                  <a:pt x="18623" y="8406"/>
                </a:moveTo>
                <a:lnTo>
                  <a:pt x="22131" y="5639"/>
                </a:lnTo>
              </a:path>
              <a:path fill="darken" w="30248" h="21600">
                <a:moveTo>
                  <a:pt x="18623" y="13194"/>
                </a:moveTo>
                <a:lnTo>
                  <a:pt x="22131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3581280" y="0"/>
            <a:ext cx="541044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走进心灵的驿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学会感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1026"/>
          <p:cNvSpPr/>
          <p:nvPr/>
        </p:nvSpPr>
        <p:spPr>
          <a:xfrm>
            <a:off x="152280" y="990720"/>
            <a:ext cx="8763120" cy="5867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36"/>
          <p:cNvSpPr/>
          <p:nvPr/>
        </p:nvSpPr>
        <p:spPr>
          <a:xfrm>
            <a:off x="609480" y="21621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喂你吃奶并给你洗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晚的哭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37"/>
          <p:cNvSpPr/>
          <p:nvPr/>
        </p:nvSpPr>
        <p:spPr>
          <a:xfrm>
            <a:off x="609480" y="4371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怜爱的为你做菜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把一盘她做的菜扔在地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38"/>
          <p:cNvSpPr txBox="1"/>
          <p:nvPr/>
        </p:nvSpPr>
        <p:spPr>
          <a:xfrm>
            <a:off x="2971800" y="228600"/>
            <a:ext cx="2819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生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" name="AutoShape 1040"/>
          <p:cNvSpPr/>
          <p:nvPr/>
        </p:nvSpPr>
        <p:spPr>
          <a:xfrm>
            <a:off x="228600" y="0"/>
            <a:ext cx="243828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歌朗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1:57:57Z</dcterms:created>
  <dc:creator>lihui</dc:creator>
  <dc:description/>
  <dc:language>en-US</dc:language>
  <cp:lastModifiedBy>User</cp:lastModifiedBy>
  <dcterms:modified xsi:type="dcterms:W3CDTF">2014-03-01T14:38:32Z</dcterms:modified>
  <cp:revision>64</cp:revision>
  <dc:subject/>
  <dc:title>孝敬教育班会</dc:title>
</cp:coreProperties>
</file>