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15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D32-FA79-4D2C-9F27-C60ABB05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C4C-C2DC-4972-815E-C1F3A337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380-DE75-4ED4-946C-03D18F49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6DD-779C-444A-9725-F4F83EB7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523C-6838-423E-BDD3-9965B1D0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D189-1071-4189-8090-F8E05CE7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63F0-D319-4D58-8605-8DF6948C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AE8E-4C75-4146-8EC5-94685B6A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2073-BD44-4EEA-B544-451FB112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273C-E2D7-4850-8099-154E3C58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3C13-D107-4E42-BF09-2B84661C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BC5-A471-4FEF-A23B-C6498B9E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299E-F211-4A69-B358-7425B48D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9E93-B23C-404B-9308-5E808023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1E32-D083-4A76-BE9B-7E45921F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D4C9-5ABB-47AA-9003-9BB69386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4EC3-4DE3-431E-9B55-07FD3630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F12-04B2-4ECE-B2E9-989D99A1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C66-ADE6-494E-84B1-F2A0DB4C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473-CB32-450F-ABDA-C36276C6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8A7-C9B4-48B5-8849-D6548074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A09-8266-44B2-A8E0-C26010D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F09-B121-4D97-99F5-3675B1DC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83F-11F3-457F-B5F9-B913AAF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A9DB-0273-44FF-B4CA-017564633A6E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3171-1336-4B0A-BC4D-DFB6A1742D8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团结合作</a:t>
            </a:r>
            <a:br>
              <a:rPr sz="8800"/>
            </a:b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主题班会</a:t>
            </a:r>
            <a:br>
              <a:rPr sz="8800"/>
            </a:br>
            <a:br>
              <a:rPr sz="8000"/>
            </a:br>
            <a:endParaRPr b="1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18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这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位聋哑舞蹈演员，为了春节晚会上短短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钟的表演，她们和自己的伙伴、编导老师、指导老师、手语指挥互相合作，在中央电视台春晚的排练大厅里共同度过了无数个艰辛的日日夜夜，她们的成功正是许许多多人的心血、汗水凝聚成的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创造了奇迹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事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——《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千手观音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》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701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承载着中国载人航天工程首次交会对接使命的神舟八号飞船，于今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时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0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秒从酒泉卫星发射中心点火升空，开始追逐天宫一号的漫漫行程。从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到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，每一次成功地发射，它不仅是我国科学家数年来不断探求、不断创新，呕心沥血的结晶。更是无数航天人精诚团结、紧密合作的体现，才实现了中华儿女数千年来的飞天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实现了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团结合作事例</a:t>
            </a:r>
            <a:r>
              <a:rPr b="1" lang="en-US" sz="3600" spc="-1" strike="noStrike">
                <a:solidFill>
                  <a:srgbClr val="e41202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神舟八号”成功发射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63700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游戏规则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人一组，用各自的后背将球夹住，往返路线运到终点，先运完者为胜。注意事项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运球过程中，不能用手扶球。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比赛过程中，如果球掉了，须回到起点重新开始。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双人夹球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1125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同舟共济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游戏规则：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地上摆四张报纸。第一步，打开报纸，要求组内同学站在上面，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而且脚不能踏出报纸。第二步，将报纸对折，组内每个同学仍要站在报纸上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但脚绝对不能踏出报纸。如果脚踏出去，就得出局。由其他组继续进行挑战。依次类推，站最多人、最有办法坚持下去的组将会胜出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1905120"/>
            <a:ext cx="6019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合作要有统一的目标，共同努力，讲究方法。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836640"/>
            <a:ext cx="53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宋体"/>
              </a:rPr>
              <a:t>胜利感言一：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0297800" cy="856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80880"/>
            <a:ext cx="77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胜利感言二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宋体"/>
              </a:rPr>
              <a:t>　　</a:t>
            </a:r>
            <a:r>
              <a:rPr b="1" lang="zh-CN" sz="5400" spc="-1" strike="noStrike">
                <a:solidFill>
                  <a:srgbClr val="e41202"/>
                </a:solidFill>
                <a:latin typeface="Arial"/>
                <a:ea typeface="宋体"/>
              </a:rPr>
              <a:t>成功的关键除了要有统一的目标以外，还需要相互信任，乐于奉献，心中有他人的精神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7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836640"/>
            <a:ext cx="468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胜利感言三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这个游戏的胜利说明合作需要有明确的分工，每个人都做好自己分内的事。顾全大局，听从指挥，还要学会与人沟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团结合作要领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统一目标齐努力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相互信任讲奉献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顾全大局听指挥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讲究方法和沟通。</a:t>
            </a:r>
            <a:r>
              <a:rPr b="1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打架风波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094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038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感悟：做好本分，宽厚待人，理智处理矛盾；当同学遇到困难时，要及时伸出援手，帮助同学渡过难关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14400"/>
            <a:ext cx="8839080" cy="192240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为了共同的目标，大家团结合作，共同努力、互相配合，才能把事情做好。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3600" y="-311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隶书"/>
                <a:ea typeface="隶书"/>
              </a:rPr>
              <a:t>感知主题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487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762120"/>
            <a:ext cx="74102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直面现实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针对我们班级的现状，你觉得我们这个集体在哪些方面还欠缺团体精神和合作意识呢？应该如何改进的呢？你对同学或自己有什么期望？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损害集体、不团结合作的行为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上学迟到，忘戴校卡等违纪给班级带来损失，班里的名气不好了，结果是大家的名誉扫地。班里的风气不好了，结果是大家都变得散漫，最后无心向学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在教室里，该值日的同学不履行义务，教室的脏乱差就来了；在寝室里，该休息时，你还在说话、玩手机，大家都得不到好的睡眠，宿舍管理员的通报批评也来了，最终大家都受到了损失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相信有了今天的经历和体验，在以后的生活中，我们每个人一定会运用好“团结合作”这把打开成功之门的钥匙，让自己的人生走得更精彩！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最后，老师要送给大家一句话：一滴水，只有汇入海洋，与浩瀚的大海融为一个集体，它才会永不干涸。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8195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我相信你们，请你们也相信自己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作离不开团结合作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数控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101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班共有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9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参加顶岗实训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全部属于普通员工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7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的工作是铰链安装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女同学的工作是豪华轨安装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片段一：铰链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MVI_1812.AVI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片段二：豪华轨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MVI_1810.AVI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73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1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48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Sky123.Org</cp:lastModifiedBy>
  <dcterms:modified xsi:type="dcterms:W3CDTF">2015-10-08T02:42:54Z</dcterms:modified>
  <cp:revision>166</cp:revision>
  <dc:subject/>
  <dc:title>PowerPoint Template</dc:title>
</cp:coreProperties>
</file>