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15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591-0B6D-4EB1-B9C2-2A4720ED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35E-A91A-4398-BF93-66B6F304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F11-B2D5-418C-ACF1-23D70BF7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922-F8DF-4C01-BF64-729FAE14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107D-C59B-4BBA-B7F5-9C22AE61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7918-F10C-42ED-B3F8-438B12B0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9CDC-29BE-45A4-8E3A-A1E0C3B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3B2A-BCF6-40B7-89EA-33BE6479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C6A-0FE4-4DBB-A5F2-82EC658E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112D-35E7-4F33-9B65-17846DD2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928E-DAC4-4E8B-8A84-8F2BCD38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E88-2073-4E43-B3AF-E6192712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B5B7-7C0A-4A62-A25B-85ED4BE0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1F55-B8F2-4634-B9E2-CD2B0309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D1E5-0591-4551-A04E-BC475264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F852-3D56-4F8D-86E4-89F84D33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0A4A-480C-421C-83DD-B5A551BF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AB7-C8F3-456F-8686-1C4A9CB6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8D6-9B75-47C7-865A-1B89DCA3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7E7-A2BF-4894-BABB-57081A0C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235-E494-40C7-9CAC-9CCFF75A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2AF-B4BC-4F5B-B035-8E68C7B1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2CD-4BE0-453F-9414-48C1651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74C-D94D-4355-A1C9-464CBAD3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830-A980-4EF9-9DC0-A39D0DA708D0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62E7-70DB-4C08-ADC9-287E5EC4C75C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团结合作</a:t>
            </a:r>
            <a:br>
              <a:rPr sz="8800"/>
            </a:b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主题班会</a:t>
            </a:r>
            <a:br>
              <a:rPr sz="8800"/>
            </a:br>
            <a:br>
              <a:rPr sz="8000"/>
            </a:br>
            <a:endParaRPr b="1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18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这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位聋哑舞蹈演员，为了春节晚会上短短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钟的表演，她们和自己的伙伴、编导老师、指导老师、手语指挥互相合作，在中央电视台春晚的排练大厅里共同度过了无数个艰辛的日日夜夜，她们的成功正是许许多多人的心血、汗水凝聚成的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创造了奇迹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事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——《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千手观音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》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701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承载着中国载人航天工程首次交会对接使命的神舟八号飞船，于今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时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0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秒从酒泉卫星发射中心点火升空，开始追逐天宫一号的漫漫行程。从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到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，每一次成功地发射，它不仅是我国科学家数年来不断探求、不断创新，呕心沥血的结晶。更是无数航天人精诚团结、紧密合作的体现，才实现了中华儿女数千年来的飞天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实现了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团结合作事例</a:t>
            </a:r>
            <a:r>
              <a:rPr b="1" lang="en-US" sz="3600" spc="-1" strike="noStrike">
                <a:solidFill>
                  <a:srgbClr val="e41202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神舟八号”成功发射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63700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游戏规则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人一组，用各自的后背将球夹住，往返路线运到终点，先运完者为胜。注意事项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运球过程中，不能用手扶球。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比赛过程中，如果球掉了，须回到起点重新开始。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双人夹球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1125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同舟共济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游戏规则：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地上摆四张报纸。第一步，打开报纸，要求组内同学站在上面，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而且脚不能踏出报纸。第二步，将报纸对折，组内每个同学仍要站在报纸上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但脚绝对不能踏出报纸。如果脚踏出去，就得出局。由其他组继续进行挑战。依次类推，站最多人、最有办法坚持下去的组将会胜出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1905120"/>
            <a:ext cx="6019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合作要有统一的目标，共同努力，讲究方法。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836640"/>
            <a:ext cx="53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宋体"/>
              </a:rPr>
              <a:t>胜利感言一：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0297800" cy="856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80880"/>
            <a:ext cx="77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胜利感言二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宋体"/>
              </a:rPr>
              <a:t>　　</a:t>
            </a:r>
            <a:r>
              <a:rPr b="1" lang="zh-CN" sz="5400" spc="-1" strike="noStrike">
                <a:solidFill>
                  <a:srgbClr val="e41202"/>
                </a:solidFill>
                <a:latin typeface="Arial"/>
                <a:ea typeface="宋体"/>
              </a:rPr>
              <a:t>成功的关键除了要有统一的目标以外，还需要相互信任，乐于奉献，心中有他人的精神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7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836640"/>
            <a:ext cx="468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胜利感言三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这个游戏的胜利说明合作需要有明确的分工，每个人都做好自己分内的事。顾全大局，听从指挥，还要学会与人沟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团结合作要领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统一目标齐努力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相互信任讲奉献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顾全大局听指挥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讲究方法和沟通。</a:t>
            </a:r>
            <a:r>
              <a:rPr b="1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打架风波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094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038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感悟：做好本分，宽厚待人，理智处理矛盾；当同学遇到困难时，要及时伸出援手，帮助同学渡过难关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14400"/>
            <a:ext cx="8839080" cy="192240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为了共同的目标，大家团结合作，共同努力、互相配合，才能把事情做好。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3600" y="-311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隶书"/>
                <a:ea typeface="隶书"/>
              </a:rPr>
              <a:t>感知主题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487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762120"/>
            <a:ext cx="74102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直面现实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针对我们班级的现状，你觉得我们这个集体在哪些方面还欠缺团体精神和合作意识呢？应该如何改进的呢？你对同学或自己有什么期望？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损害集体、不团结合作的行为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上学迟到，忘戴校卡等违纪给班级带来损失，班里的名气不好了，结果是大家的名誉扫地。班里的风气不好了，结果是大家都变得散漫，最后无心向学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在教室里，该值日的同学不履行义务，教室的脏乱差就来了；在寝室里，该休息时，你还在说话、玩手机，大家都得不到好的睡眠，宿舍管理员的通报批评也来了，最终大家都受到了损失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相信有了今天的经历和体验，在以后的生活中，我们每个人一定会运用好“团结合作”这把打开成功之门的钥匙，让自己的人生走得更精彩！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最后，老师要送给大家一句话：一滴水，只有汇入海洋，与浩瀚的大海融为一个集体，它才会永不干涸。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8195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我相信你们，请你们也相信自己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作离不开团结合作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数控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101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班共有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9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参加顶岗实训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全部属于普通员工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7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的工作是铰链安装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女同学的工作是豪华轨安装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片段一：铰链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MVI_1812.AVI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片段二：豪华轨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MVI_1810.AVI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73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1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48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Sky123.Org</cp:lastModifiedBy>
  <dcterms:modified xsi:type="dcterms:W3CDTF">2015-10-08T02:42:54Z</dcterms:modified>
  <cp:revision>166</cp:revision>
  <dc:subject/>
  <dc:title>PowerPoint Template</dc:title>
</cp:coreProperties>
</file>