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image17.png" ContentType="image/png"/>
  <Override PartName="/ppt/media/image15.jpeg" ContentType="image/jpeg"/>
  <Override PartName="/ppt/media/image2.jpeg" ContentType="image/jpeg"/>
  <Override PartName="/ppt/media/image1.jpeg" ContentType="image/jpeg"/>
  <Override PartName="/ppt/media/image7.png" ContentType="image/png"/>
  <Override PartName="/ppt/media/image16.jpeg" ContentType="image/jpeg"/>
  <Override PartName="/ppt/media/chimes.wav" ContentType="audio/x-wav"/>
  <Override PartName="/ppt/media/image8.png" ContentType="image/png"/>
  <Override PartName="/ppt/media/image14.jpeg" ContentType="image/jpeg"/>
  <Override PartName="/ppt/media/image4.png" ContentType="image/png"/>
  <Override PartName="/ppt/media/image3.gif" ContentType="image/gif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69AE-A5CC-4937-9BBF-545FDBC98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240" y="545688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040A-99DA-43C0-8924-9BEA519C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6820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2C98-C6E9-45A5-AEBD-20583F792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296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5432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24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296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5432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BAB6-CA8B-47F1-B996-76BCAB307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CEDE-9ECC-47A8-9284-19092A6C9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240" y="52578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64DC-114C-411E-A942-685E61A9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F800-2056-4CD7-9F00-6ECB56A4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C00E-A421-40AC-9D29-A0091664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0C57-70A8-4D2B-AFEE-427A5A4C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2133720"/>
            <a:ext cx="845820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3C2E-829E-4F1D-9A5C-991A786E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FB29-9684-4D15-9CF5-5E982507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240" y="52578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4E78-7C46-448F-A0CD-0D6477BC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6820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5B66-00B4-49F3-9E64-1433EB34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804F-B4F2-4AF3-955A-0480AD9D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240" y="545688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716E-1A2C-4805-995B-DD89FDD7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6820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E26A-54CE-4355-AF94-A28E714A0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1296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5432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24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1296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5432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1430-2B96-4A90-8A78-6A7240E10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2349-4864-4985-A504-E1A3BA35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1A91-1B9B-4105-B996-5A934740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AA77-7FE9-4E8A-AE3F-8B9DD96F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133720"/>
            <a:ext cx="845820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46B4-3447-4E7D-A069-82F12631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A31E-FE44-44F7-85FF-CA8B4277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6820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62F1-8944-416C-BD39-3AFF6F46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B87C-F99B-42CB-89AF-7C2C97E6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160" y="5661000"/>
            <a:ext cx="9132840" cy="1224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bd4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847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bd46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228600" y="6474960"/>
            <a:ext cx="26668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  <a:ea typeface="宋体"/>
              </a:rPr>
              <a:t>www.themegaller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943240" y="648612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  <a:ea typeface="宋体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3276720" y="6480000"/>
            <a:ext cx="2133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6579-CC78-45DB-A86E-7658C57911E1}" type="slidenum">
              <a:rPr b="0" lang="zh-CN" sz="1400" spc="-1" strike="noStrike">
                <a:solidFill>
                  <a:srgbClr val="0033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563880"/>
            <a:ext cx="2133720" cy="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53580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9DD6-964A-494D-8D3C-7EB1F06EB095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0360" y="334800"/>
            <a:ext cx="13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e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914400"/>
            <a:ext cx="8458200" cy="3657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Arial"/>
                <a:ea typeface="宋体"/>
              </a:rPr>
              <a:t>团结合作</a:t>
            </a:r>
            <a:br>
              <a:rPr sz="8800"/>
            </a:br>
            <a:r>
              <a:rPr b="1" lang="zh-CN" sz="8800" spc="-1" strike="noStrike">
                <a:solidFill>
                  <a:srgbClr val="ff3300"/>
                </a:solidFill>
                <a:latin typeface="Arial"/>
                <a:ea typeface="宋体"/>
              </a:rPr>
              <a:t>主题班会</a:t>
            </a:r>
            <a:br>
              <a:rPr sz="8800"/>
            </a:br>
            <a:br>
              <a:rPr sz="8000"/>
            </a:br>
            <a:endParaRPr b="1" lang="en-US" sz="8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5181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8600" y="1143000"/>
            <a:ext cx="79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这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2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位聋哑舞蹈演员，为了春节晚会上短短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6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分钟的表演，她们和自己的伙伴、编导老师、指导老师、手语指挥互相合作，在中央电视台春晚的排练大厅里共同度过了无数个艰辛的日日夜夜，她们的成功正是许许多多人的心血、汗水凝聚成的。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　　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隶书"/>
              </a:rPr>
              <a:t>团结合作创造了奇迹！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华文隶书"/>
              </a:rPr>
              <a:t>团结合作事例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  <a:ea typeface="华文隶书"/>
              </a:rPr>
              <a:t>——《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华文隶书"/>
              </a:rPr>
              <a:t>千手观音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  <a:ea typeface="华文隶书"/>
              </a:rPr>
              <a:t>》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105520" y="4191120"/>
            <a:ext cx="3733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315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8592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8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914400"/>
            <a:ext cx="70102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承载着中国载人航天工程首次交会对接使命的神舟八号飞船，于今年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月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日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5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时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58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分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07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秒从酒泉卫星发射中心点火升空，开始追逐天宫一号的漫漫行程。从神舟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号到神舟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8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号，每一次成功地发射，它不仅是我国科学家数年来不断探求、不断创新，呕心沥血的结晶。更是无数航天人精诚团结、紧密合作的体现，才实现了中华儿女数千年来的飞天梦想！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　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隶书"/>
              </a:rPr>
              <a:t>团结合作实现了梦想！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1202"/>
                </a:solidFill>
                <a:latin typeface="Arial"/>
                <a:ea typeface="华文隶书"/>
              </a:rPr>
              <a:t>团结合作事例</a:t>
            </a:r>
            <a:r>
              <a:rPr b="1" lang="en-US" sz="3600" spc="-1" strike="noStrike">
                <a:solidFill>
                  <a:srgbClr val="e41202"/>
                </a:solidFill>
                <a:latin typeface="Arial"/>
                <a:ea typeface="华文隶书"/>
              </a:rPr>
              <a:t>——“</a:t>
            </a:r>
            <a:r>
              <a:rPr b="1" lang="zh-CN" sz="3600" spc="-1" strike="noStrike">
                <a:solidFill>
                  <a:srgbClr val="e41202"/>
                </a:solidFill>
                <a:latin typeface="Arial"/>
                <a:ea typeface="华文隶书"/>
              </a:rPr>
              <a:t>神舟八号”成功发射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58000" y="1600200"/>
            <a:ext cx="2286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87280" y="2637000"/>
            <a:ext cx="70567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宋体"/>
                <a:ea typeface="宋体"/>
              </a:rPr>
              <a:t>游戏规则：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两人一组，用各自的后背将球夹住，往返路线运到终点，先运完者为胜。注意事项：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）运球过程中，不能用手扶球。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）比赛过程中，如果球掉了，须回到起点重新开始。）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143000"/>
            <a:ext cx="60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00"/>
                </a:solidFill>
                <a:latin typeface="Arial"/>
                <a:ea typeface="宋体"/>
              </a:rPr>
              <a:t>　　</a:t>
            </a:r>
            <a:r>
              <a:rPr b="1" lang="zh-CN" sz="6600" spc="-1" strike="noStrike">
                <a:solidFill>
                  <a:srgbClr val="003300"/>
                </a:solidFill>
                <a:latin typeface="Arial"/>
                <a:ea typeface="宋体"/>
              </a:rPr>
              <a:t>双人夹球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290520" y="0"/>
            <a:ext cx="943452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332000" y="1125360"/>
            <a:ext cx="691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00"/>
                </a:solidFill>
                <a:latin typeface="Arial"/>
                <a:ea typeface="宋体"/>
              </a:rPr>
              <a:t>同舟共济</a:t>
            </a: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6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宋体"/>
              </a:rPr>
              <a:t>游戏规则：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在地上摆四张报纸。第一步，打开报纸，要求组内同学站在上面，坚持倒数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0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到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，而且脚不能踏出报纸。第二步，将报纸对折，组内每个同学仍要站在报纸上坚持倒数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0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到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，但脚绝对不能踏出报纸。如果脚踏出去，就得出局。由其他组继续进行挑战。依次类推，站最多人、最有办法坚持下去的组将会胜出。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676520" y="1905120"/>
            <a:ext cx="60195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1202"/>
                </a:solidFill>
                <a:latin typeface="Arial"/>
                <a:ea typeface="宋体"/>
              </a:rPr>
              <a:t>      </a:t>
            </a:r>
            <a:r>
              <a:rPr b="1" lang="zh-CN" sz="4800" spc="-1" strike="noStrike">
                <a:solidFill>
                  <a:srgbClr val="e41202"/>
                </a:solidFill>
                <a:latin typeface="Arial"/>
                <a:ea typeface="宋体"/>
              </a:rPr>
              <a:t>合作要有统一的目标，共同努力，讲究方法。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76360" y="836640"/>
            <a:ext cx="538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00"/>
                </a:solidFill>
                <a:latin typeface="Arial"/>
                <a:ea typeface="宋体"/>
              </a:rPr>
              <a:t>胜利感言一：</a:t>
            </a:r>
            <a:endParaRPr b="0" lang="en-US" sz="6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757080" y="-963720"/>
            <a:ext cx="10297800" cy="8569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52280" y="380880"/>
            <a:ext cx="7777440" cy="22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Arial"/>
                <a:ea typeface="宋体"/>
              </a:rPr>
              <a:t>胜利感言二：</a:t>
            </a: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Arial"/>
                <a:ea typeface="宋体"/>
              </a:rPr>
              <a:t>　　</a:t>
            </a:r>
            <a:r>
              <a:rPr b="1" lang="zh-CN" sz="5400" spc="-1" strike="noStrike">
                <a:solidFill>
                  <a:srgbClr val="e41202"/>
                </a:solidFill>
                <a:latin typeface="Arial"/>
                <a:ea typeface="宋体"/>
              </a:rPr>
              <a:t>成功的关键除了要有统一的目标以外，还需要相互信任，乐于奉献，心中有他人的精神。</a:t>
            </a:r>
            <a:endParaRPr b="0" lang="en-US" sz="5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10188720" cy="6792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84360" y="836640"/>
            <a:ext cx="46814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00"/>
                </a:solidFill>
                <a:latin typeface="Arial"/>
                <a:ea typeface="宋体"/>
              </a:rPr>
              <a:t>胜利感言三：</a:t>
            </a: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2276640"/>
            <a:ext cx="69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1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这个游戏的胜利说明合作需要有明确的分工，每个人都做好自己分内的事。顾全大局，听从指挥，还要学会与人沟通。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团结合作要领</a:t>
            </a: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07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1e1e"/>
                </a:solidFill>
                <a:latin typeface="Verdana"/>
                <a:ea typeface="宋体"/>
              </a:rPr>
              <a:t>                    </a:t>
            </a: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统一目标齐努力，</a:t>
            </a:r>
            <a:endParaRPr b="1" lang="en-US" sz="4400" spc="-1" strike="noStrike">
              <a:solidFill>
                <a:srgbClr val="541e1e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             </a:t>
            </a: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相互信任讲奉献，</a:t>
            </a:r>
            <a:endParaRPr b="1" lang="en-US" sz="4400" spc="-1" strike="noStrike">
              <a:solidFill>
                <a:srgbClr val="541e1e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             </a:t>
            </a: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顾全大局听指挥，</a:t>
            </a:r>
            <a:endParaRPr b="1" lang="en-US" sz="4400" spc="-1" strike="noStrike">
              <a:solidFill>
                <a:srgbClr val="541e1e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             </a:t>
            </a: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讲究方法和沟通。</a:t>
            </a:r>
            <a:r>
              <a:rPr b="1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 </a:t>
            </a:r>
            <a:endParaRPr b="1" lang="en-US" sz="4400" spc="-1" strike="noStrike">
              <a:solidFill>
                <a:srgbClr val="541e1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2819520"/>
            <a:ext cx="2895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9718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、打架风波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828800" y="609480"/>
            <a:ext cx="5105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学生表演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40384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、感悟：做好本分，宽厚待人，理智处理矛盾；当同学遇到困难时，要及时伸出援手，帮助同学渡过难关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476360" y="1628640"/>
            <a:ext cx="6120000" cy="76428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914400"/>
            <a:ext cx="8839080" cy="1922400"/>
          </a:xfrm>
          <a:prstGeom prst="rect">
            <a:avLst/>
          </a:prstGeom>
          <a:noFill/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宋体"/>
              </a:rPr>
              <a:t>为了共同的目标，大家团结合作，共同努力、互相配合，才能把事情做好。</a:t>
            </a:r>
            <a:r>
              <a:rPr b="0" lang="zh-CN" sz="66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83600" y="-3110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00"/>
                </a:solidFill>
                <a:latin typeface="隶书"/>
                <a:ea typeface="隶书"/>
              </a:rPr>
              <a:t>感知主题</a:t>
            </a:r>
            <a:endParaRPr b="0" lang="en-US" sz="5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986120"/>
            <a:ext cx="9144000" cy="4871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90720" y="762120"/>
            <a:ext cx="7410240" cy="26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Arial"/>
                <a:ea typeface="宋体"/>
              </a:rPr>
              <a:t>直面现实</a:t>
            </a:r>
            <a:r>
              <a:rPr b="1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  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针对我们班级的现状，你觉得我们这个集体在哪些方面还欠缺团体精神和合作意识呢？应该如何改进的呢？你对同学或自己有什么期望？。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29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隶书"/>
                <a:ea typeface="隶书"/>
              </a:rPr>
              <a:t>      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  <a:ea typeface="宋体"/>
              </a:rPr>
              <a:t>损害集体、不团结合作的行为：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  <a:ea typeface="宋体"/>
              </a:rPr>
              <a:t>   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  <a:ea typeface="宋体"/>
              </a:rPr>
              <a:t>上学迟到，忘戴校卡等违纪给班级带来损失，班里的名气不好了，结果是大家的名誉扫地。班里的风气不好了，结果是大家都变得散漫，最后无心向学。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  <a:ea typeface="宋体"/>
              </a:rPr>
              <a:t>在教室里，该值日的同学不履行义务，教室的脏乱差就来了；在寝室里，该休息时，你还在说话、玩手机，大家都得不到好的睡眠，宿舍管理员的通报批评也来了，最终大家都受到了损失。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      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00720" y="3357720"/>
            <a:ext cx="142560" cy="14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活动小结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1e1e"/>
                </a:solidFill>
                <a:latin typeface="Verdana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541e1e"/>
                </a:solidFill>
                <a:latin typeface="Verdana"/>
                <a:ea typeface="宋体"/>
              </a:rPr>
              <a:t>相信有了今天的经历和体验，在以后的生活中，我们每个人一定会运用好“团结合作”这把打开成功之门的钥匙，让自己的人生走得更精彩！</a:t>
            </a:r>
            <a:endParaRPr b="1" lang="en-US" sz="36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1e1e"/>
                </a:solidFill>
                <a:latin typeface="Verdana"/>
                <a:ea typeface="宋体"/>
              </a:rPr>
              <a:t>     </a:t>
            </a:r>
            <a:r>
              <a:rPr b="1" lang="zh-CN" sz="3600" spc="-1" strike="noStrike">
                <a:solidFill>
                  <a:srgbClr val="541e1e"/>
                </a:solidFill>
                <a:latin typeface="Verdana"/>
                <a:ea typeface="宋体"/>
              </a:rPr>
              <a:t>最后，老师要送给大家一句话：一滴水，只有汇入海洋，与浩瀚的大海融为一个集体，它才会永不干涸。</a:t>
            </a:r>
            <a:endParaRPr b="1" lang="en-US" sz="3600" spc="-1" strike="noStrike">
              <a:solidFill>
                <a:srgbClr val="541e1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762120" y="2819520"/>
            <a:ext cx="78483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bd463"/>
                    </a:gs>
                    <a:gs pos="100000">
                      <a:srgbClr val="541e1e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3300">
                      <a:alpha val="50000"/>
                    </a:srgbClr>
                  </a:outerShdw>
                </a:effectLst>
                <a:latin typeface="Arial"/>
              </a:rPr>
              <a:t>我相信你们，请你们也相信自己！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bd463"/>
                  </a:gs>
                  <a:gs pos="100000">
                    <a:srgbClr val="541e1e"/>
                  </a:gs>
                </a:gsLst>
                <a:lin ang="10800000"/>
              </a:gradFill>
              <a:effectLst>
                <a:outerShdw dist="53966" dir="2700000" blurRad="0" rotWithShape="0">
                  <a:srgbClr val="0033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工作离不开团结合作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数控</a:t>
            </a:r>
            <a:r>
              <a:rPr b="1" lang="en-US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101</a:t>
            </a: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班共有</a:t>
            </a:r>
            <a:r>
              <a:rPr b="1" lang="en-US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49</a:t>
            </a: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位同学参加顶岗实训。</a:t>
            </a:r>
            <a:endParaRPr b="1" lang="en-US" sz="40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全部属于普通员工；</a:t>
            </a:r>
            <a:endParaRPr b="1" lang="en-US" sz="40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47</a:t>
            </a: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位同学的工作是铰链安装；</a:t>
            </a:r>
            <a:endParaRPr b="1" lang="en-US" sz="40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2</a:t>
            </a: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位女同学的工作是豪华轨安装。</a:t>
            </a:r>
            <a:endParaRPr b="1" lang="en-US" sz="4000" spc="-1" strike="noStrike">
              <a:solidFill>
                <a:srgbClr val="541e1e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0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片段一：铰链安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MVI_1812.AVI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片段二：豪华轨安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" name="MVI_1810.AVI" descr=""/>
          <p:cNvPicPr/>
          <p:nvPr/>
        </p:nvPicPr>
        <p:blipFill>
          <a:blip r:embed="rId1"/>
          <a:stretch/>
        </p:blipFill>
        <p:spPr>
          <a:xfrm>
            <a:off x="533520" y="800280"/>
            <a:ext cx="8076960" cy="60577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75733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8500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3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61267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00100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5488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5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张贵琴</dc:creator>
  <dc:description/>
  <dc:language>en-US</dc:language>
  <cp:lastModifiedBy>Sky123.Org</cp:lastModifiedBy>
  <dcterms:modified xsi:type="dcterms:W3CDTF">2015-10-08T02:42:54Z</dcterms:modified>
  <cp:revision>166</cp:revision>
  <dc:subject/>
  <dc:title>PowerPoint Template</dc:title>
</cp:coreProperties>
</file>