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17.png" ContentType="image/png"/>
  <Override PartName="/ppt/media/image15.jpeg" ContentType="image/jpeg"/>
  <Override PartName="/ppt/media/image2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A481-A659-4A9E-B7D9-D2332D9C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4B6E-A46A-4E6D-AE21-57B46509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3659-46D5-42AD-BF15-A51961B32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412-E0EA-4C32-9501-FC93D50B9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79D3-09BA-40CB-8FF8-6125A6799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B5712-DA64-486E-9898-A480F801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4242-BD22-4E20-86AA-A9CBA3A7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2462-5AD4-41C5-8227-19F1828F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C3B1-968A-4318-9818-28FE0C2D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90BA-BAE9-4949-8C85-989473FB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B486-425E-4578-8FF4-5544C398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279-1A5B-45D4-A307-BFB5EB1D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F87E9-1DCA-4860-96B6-B94BECCE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B957-EB94-4581-BFDD-8EE426F8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2CBA-6B4B-42FB-A5A4-B52A2FCCB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0C47-8A91-41E9-80D7-24B93C5D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C7F4-8DA5-4536-9F3F-4188F28A3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C92B-957D-4F5A-A19B-929CCBAEB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80A8-0424-4922-8ED0-E05D18F0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8BD5-B8F5-4F9A-827B-BF3A59C19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EAC-CE08-45E3-B39B-36F7F869D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35F9-6AAC-4510-BB21-39118F1C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6CF8-EF9C-4B47-8DCF-77B99B3B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DF6A-393E-4436-B906-ECB03023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5661000"/>
            <a:ext cx="913284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bd4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2D40-8064-45B3-B7AA-F562BEF0FE9C}" type="slidenum">
              <a: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B694-17BC-4BA7-8D40-0EE3ADF634B4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334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458200" cy="3657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团结合作</a:t>
            </a:r>
            <a:br>
              <a:rPr sz="8800"/>
            </a:br>
            <a:r>
              <a:rPr b="1" lang="zh-CN" sz="8800" spc="-1" strike="noStrike">
                <a:solidFill>
                  <a:srgbClr val="ff3300"/>
                </a:solidFill>
                <a:latin typeface="Arial"/>
                <a:ea typeface="宋体"/>
              </a:rPr>
              <a:t>主题班会</a:t>
            </a:r>
            <a:br>
              <a:rPr sz="8800"/>
            </a:br>
            <a:br>
              <a:rPr sz="8000"/>
            </a:br>
            <a:endParaRPr b="1" lang="en-US" sz="8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51814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1143000"/>
            <a:ext cx="799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这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位聋哑舞蹈演员，为了春节晚会上短短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钟的表演，她们和自己的伙伴、编导老师、指导老师、手语指挥互相合作，在中央电视台春晚的排练大厅里共同度过了无数个艰辛的日日夜夜，她们的成功正是许许多多人的心血、汗水凝聚成的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创造了奇迹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事例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——《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华文隶书"/>
              </a:rPr>
              <a:t>千手观音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华文隶书"/>
              </a:rPr>
              <a:t>》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373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90720" y="609480"/>
            <a:ext cx="7315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592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914400"/>
            <a:ext cx="7010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承载着中国载人航天工程首次交会对接使命的神舟八号飞船，于今年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月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日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时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5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分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07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秒从酒泉卫星发射中心点火升空，开始追逐天宫一号的漫漫行程。从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到神舟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号，每一次成功地发射，它不仅是我国科学家数年来不断探求、不断创新，呕心沥血的结晶。更是无数航天人精诚团结、紧密合作的体现，才实现了中华儿女数千年来的飞天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　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华文隶书"/>
              </a:rPr>
              <a:t>团结合作实现了梦想！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团结合作事例</a:t>
            </a:r>
            <a:r>
              <a:rPr b="1" lang="en-US" sz="3600" spc="-1" strike="noStrike">
                <a:solidFill>
                  <a:srgbClr val="e41202"/>
                </a:solidFill>
                <a:latin typeface="Arial"/>
                <a:ea typeface="华文隶书"/>
              </a:rPr>
              <a:t>——“</a:t>
            </a:r>
            <a:r>
              <a:rPr b="1" lang="zh-CN" sz="3600" spc="-1" strike="noStrike">
                <a:solidFill>
                  <a:srgbClr val="e41202"/>
                </a:solidFill>
                <a:latin typeface="Arial"/>
                <a:ea typeface="华文隶书"/>
              </a:rPr>
              <a:t>神舟八号”成功发射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0" y="1600200"/>
            <a:ext cx="2286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87280" y="263700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宋体"/>
                <a:ea typeface="宋体"/>
              </a:rPr>
              <a:t>游戏规则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两人一组，用各自的后背将球夹住，往返路线运到终点，先运完者为胜。注意事项：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运球过程中，不能用手扶球。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）比赛过程中，如果球掉了，须回到起点重新开始。）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14300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　　</a:t>
            </a: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双人夹球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290520" y="0"/>
            <a:ext cx="943452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32000" y="1125360"/>
            <a:ext cx="691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14400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同舟共济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游戏规则：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地上摆四张报纸。第一步，打开报纸，要求组内同学站在上面，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而且脚不能踏出报纸。第二步，将报纸对折，组内每个同学仍要站在报纸上坚持倒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，但脚绝对不能踏出报纸。如果脚踏出去，就得出局。由其他组继续进行挑战。依次类推，站最多人、最有办法坚持下去的组将会胜出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676520" y="1905120"/>
            <a:ext cx="60195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      </a:t>
            </a:r>
            <a:r>
              <a:rPr b="1" lang="zh-CN" sz="4800" spc="-1" strike="noStrike">
                <a:solidFill>
                  <a:srgbClr val="e41202"/>
                </a:solidFill>
                <a:latin typeface="Arial"/>
                <a:ea typeface="宋体"/>
              </a:rPr>
              <a:t>合作要有统一的目标，共同努力，讲究方法。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836640"/>
            <a:ext cx="538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宋体"/>
              </a:rPr>
              <a:t>胜利感言一：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757080" y="-963720"/>
            <a:ext cx="10297800" cy="856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380880"/>
            <a:ext cx="777744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Arial"/>
                <a:ea typeface="宋体"/>
              </a:rPr>
              <a:t>胜利感言二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Arial"/>
                <a:ea typeface="宋体"/>
              </a:rPr>
              <a:t>　　</a:t>
            </a:r>
            <a:r>
              <a:rPr b="1" lang="zh-CN" sz="5400" spc="-1" strike="noStrike">
                <a:solidFill>
                  <a:srgbClr val="e41202"/>
                </a:solidFill>
                <a:latin typeface="Arial"/>
                <a:ea typeface="宋体"/>
              </a:rPr>
              <a:t>成功的关键除了要有统一的目标以外，还需要相互信任，乐于奉献，心中有他人的精神。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10188720" cy="6792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84360" y="836640"/>
            <a:ext cx="4681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Arial"/>
                <a:ea typeface="宋体"/>
              </a:rPr>
              <a:t>胜利感言三：</a:t>
            </a: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227664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这个游戏的胜利说明合作需要有明确的分工，每个人都做好自己分内的事。顾全大局，听从指挥，还要学会与人沟通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Verdana"/>
                <a:ea typeface="宋体"/>
              </a:rPr>
              <a:t>团结合作要领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074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统一目标齐努力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相互信任讲奉献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顾全大局听指挥，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            </a:t>
            </a:r>
            <a:r>
              <a:rPr b="0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讲究方法和沟通。</a:t>
            </a:r>
            <a:r>
              <a:rPr b="1" lang="zh-CN" sz="4400" spc="-1" strike="noStrike">
                <a:solidFill>
                  <a:srgbClr val="541e1e"/>
                </a:solidFill>
                <a:latin typeface="Verdana"/>
                <a:ea typeface="宋体"/>
              </a:rPr>
              <a:t> </a:t>
            </a:r>
            <a:endParaRPr b="1" lang="en-US" sz="44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8195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9718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打架风波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828800" y="609480"/>
            <a:ext cx="5105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生表演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40384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、感悟：做好本分，宽厚待人，理智处理矛盾；当同学遇到困难时，要及时伸出援手，帮助同学渡过难关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476360" y="1628640"/>
            <a:ext cx="6120000" cy="7642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914400"/>
            <a:ext cx="8839080" cy="1922400"/>
          </a:xfrm>
          <a:prstGeom prst="rect">
            <a:avLst/>
          </a:pr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  <a:ea typeface="宋体"/>
              </a:rPr>
              <a:t>为了共同的目标，大家团结合作，共同努力、互相配合，才能把事情做好。</a:t>
            </a:r>
            <a:r>
              <a:rPr b="0" lang="zh-CN" sz="6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83600" y="-3110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隶书"/>
                <a:ea typeface="隶书"/>
              </a:rPr>
              <a:t>感知主题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986120"/>
            <a:ext cx="9144000" cy="48718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90720" y="762120"/>
            <a:ext cx="7410240" cy="26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宋体"/>
              </a:rPr>
              <a:t>直面现实</a:t>
            </a: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 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针对我们班级的现状，你觉得我们这个集体在哪些方面还欠缺团体精神和合作意识呢？应该如何改进的呢？你对同学或自己有什么期望？。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9144000" cy="29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隶书"/>
                <a:ea typeface="隶书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宋体"/>
              </a:rPr>
              <a:t>损害集体、不团结合作的行为：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上学迟到，忘戴校卡等违纪给班级带来损失，班里的名气不好了，结果是大家的名誉扫地。班里的风气不好了，结果是大家都变得散漫，最后无心向学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  <a:ea typeface="宋体"/>
              </a:rPr>
              <a:t>在教室里，该值日的同学不履行义务，教室的脏乱差就来了；在寝室里，该休息时，你还在说话、玩手机，大家都得不到好的睡眠，宿舍管理员的通报批评也来了，最终大家都受到了损失。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隶书"/>
                <a:ea typeface="隶书"/>
              </a:rPr>
              <a:t>      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活动小结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相信有了今天的经历和体验，在以后的生活中，我们每个人一定会运用好“团结合作”这把打开成功之门的钥匙，让自己的人生走得更精彩！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     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最后，老师要送给大家一句话：一滴水，只有汇入海洋，与浩瀚的大海融为一个集体，它才会永不干涸。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62120" y="2819520"/>
            <a:ext cx="784836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bd463"/>
                    </a:gs>
                    <a:gs pos="100000">
                      <a:srgbClr val="541e1e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00">
                      <a:alpha val="50000"/>
                    </a:srgbClr>
                  </a:outerShdw>
                </a:effectLst>
                <a:latin typeface="Arial"/>
              </a:rPr>
              <a:t>我相信你们，请你们也相信自己！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bd463"/>
                  </a:gs>
                  <a:gs pos="100000">
                    <a:srgbClr val="541e1e"/>
                  </a:gs>
                </a:gsLst>
                <a:lin ang="10800000"/>
              </a:gradFill>
              <a:effectLst>
                <a:outerShdw dist="53966" dir="2700000" blurRad="0" rotWithShape="0">
                  <a:srgbClr val="0033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工作离不开团结合作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数控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101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班共有</a:t>
            </a: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9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参加顶岗实训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全部属于普通员工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47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同学的工作是铰链安装；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2</a:t>
            </a:r>
            <a:r>
              <a:rPr b="1" lang="zh-CN" sz="4000" spc="-1" strike="noStrike">
                <a:solidFill>
                  <a:srgbClr val="541e1e"/>
                </a:solidFill>
                <a:latin typeface="华文中宋"/>
                <a:ea typeface="华文中宋"/>
              </a:rPr>
              <a:t>位女同学的工作是豪华轨安装。</a:t>
            </a:r>
            <a:endParaRPr b="1" lang="en-US" sz="40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0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片段一：铰链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MVI_1812.AVI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片段二：豪华轨安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MVI_1810.AVI" descr=""/>
          <p:cNvPicPr/>
          <p:nvPr/>
        </p:nvPicPr>
        <p:blipFill>
          <a:blip r:embed="rId1"/>
          <a:stretch/>
        </p:blipFill>
        <p:spPr>
          <a:xfrm>
            <a:off x="533520" y="800280"/>
            <a:ext cx="8076960" cy="6057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68680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75733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5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0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6126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5488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张贵琴</dc:creator>
  <dc:description/>
  <dc:language>en-US</dc:language>
  <cp:lastModifiedBy>Sky123.Org</cp:lastModifiedBy>
  <dcterms:modified xsi:type="dcterms:W3CDTF">2015-10-08T02:42:54Z</dcterms:modified>
  <cp:revision>166</cp:revision>
  <dc:subject/>
  <dc:title>PowerPoint Template</dc:title>
</cp:coreProperties>
</file>