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BAC-18FC-432D-9A9E-7CEB138E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4F2-C37C-4082-8D29-4BE875F2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D51-ABB8-4457-8385-0B403A9B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F5F-90EF-4010-A6B9-64495EE0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4B8F-C4B3-43FF-A786-C721ED1B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3A9-3992-4CCB-BCE7-722742E7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785-27E2-46DA-93E1-B60B5267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3A2A-721D-4E5E-BC95-424CC985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AB6-EB65-4994-B69F-CBFF8030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611D-583A-44C4-8709-0C656D6E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CDC-B8E1-48BF-8F62-9D13119D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55B-1FD1-4739-A74C-9CFB8177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2B1A-8B82-4F43-A7F5-AFB38EE62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05鼠小弟，鼠小弟-10" descr=""/>
          <p:cNvPicPr/>
          <p:nvPr/>
        </p:nvPicPr>
        <p:blipFill>
          <a:blip r:embed="rId1"/>
          <a:stretch/>
        </p:blipFill>
        <p:spPr>
          <a:xfrm>
            <a:off x="1619280" y="3240"/>
            <a:ext cx="58435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05鼠小弟，鼠小弟-11" descr=""/>
          <p:cNvPicPr/>
          <p:nvPr/>
        </p:nvPicPr>
        <p:blipFill>
          <a:blip r:embed="rId1"/>
          <a:stretch/>
        </p:blipFill>
        <p:spPr>
          <a:xfrm>
            <a:off x="1619280" y="3240"/>
            <a:ext cx="58435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05鼠小弟，鼠小弟-12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05鼠小弟，鼠小弟-13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05鼠小弟，鼠小弟-14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05鼠小弟，鼠小弟-15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05鼠小弟，鼠小弟-1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05鼠小弟，鼠小弟-17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05鼠小弟，鼠小弟-18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05鼠小弟，鼠小弟-19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05鼠小弟，鼠小弟-02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05鼠小弟，鼠小弟-20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05鼠小弟，鼠小弟-21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05鼠小弟，鼠小弟-22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05鼠小弟，鼠小弟-23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05鼠小弟，鼠小弟-24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05鼠小弟，鼠小弟-25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05鼠小弟，鼠小弟-2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05鼠小弟，鼠小弟-27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05鼠小弟，鼠小弟-28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05鼠小弟，鼠小弟-29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05鼠小弟，鼠小弟-03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05鼠小弟，鼠小弟-30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05鼠小弟，鼠小弟-31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05鼠小弟，鼠小弟-32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05鼠小弟，鼠小弟-33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05鼠小弟，鼠小弟-34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05鼠小弟，鼠小弟-35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05鼠小弟，鼠小弟-3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05鼠小弟，鼠小弟-04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05鼠小弟，鼠小弟-05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05鼠小弟，鼠小弟-06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05鼠小弟，鼠小弟-07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05鼠小弟，鼠小弟-08" descr=""/>
          <p:cNvPicPr/>
          <p:nvPr/>
        </p:nvPicPr>
        <p:blipFill>
          <a:blip r:embed="rId1"/>
          <a:stretch/>
        </p:blipFill>
        <p:spPr>
          <a:xfrm>
            <a:off x="1622520" y="0"/>
            <a:ext cx="58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05鼠小弟，鼠小弟-09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2:46:19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>绘本在线论坛 www.ppsbook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