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61F-BB3A-46E6-8D83-280C1D0B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B8B-670B-45B0-86CC-3F72DF44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6CB-0ACE-479C-8354-4E5EBB87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447-1F47-4622-AF1E-AC0B81E9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D3C-AFC7-4105-8497-35ACF2C8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92B-37F1-44AC-A060-955B68C3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CA3-5F77-4A3B-AA98-5FBE6B55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46B-A61A-4ABA-8E20-9DED7E3F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DFF-E23B-498B-8EB1-4CBA6BD4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F17-1D70-40CC-9DB1-DDF01C9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6C2-DC8F-4051-948D-06CB7856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02E-8400-45CB-A279-78A08628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996C-27C7-40AE-B77D-504384218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5鼠小弟，鼠小弟-10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5鼠小弟，鼠小弟-11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5鼠小弟，鼠小弟-1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5鼠小弟，鼠小弟-1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5鼠小弟，鼠小弟-1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5鼠小弟，鼠小弟-1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5鼠小弟，鼠小弟-1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5鼠小弟，鼠小弟-1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鼠小弟，鼠小弟-18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5鼠小弟，鼠小弟-19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5鼠小弟，鼠小弟-0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5鼠小弟，鼠小弟-20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鼠小弟，鼠小弟-21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5鼠小弟，鼠小弟-2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5鼠小弟，鼠小弟-2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5鼠小弟，鼠小弟-2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5鼠小弟，鼠小弟-2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5鼠小弟，鼠小弟-2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5鼠小弟，鼠小弟-2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5鼠小弟，鼠小弟-28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5鼠小弟，鼠小弟-29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5鼠小弟，鼠小弟-03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5鼠小弟，鼠小弟-30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5鼠小弟，鼠小弟-31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5鼠小弟，鼠小弟-32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5鼠小弟，鼠小弟-33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5鼠小弟，鼠小弟-34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鼠小弟，鼠小弟-35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05鼠小弟，鼠小弟-3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5鼠小弟，鼠小弟-04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鼠小弟，鼠小弟-05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鼠小弟，鼠小弟-06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5鼠小弟，鼠小弟-07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5鼠小弟，鼠小弟-08" descr=""/>
          <p:cNvPicPr/>
          <p:nvPr/>
        </p:nvPicPr>
        <p:blipFill>
          <a:blip r:embed="rId1"/>
          <a:stretch/>
        </p:blipFill>
        <p:spPr>
          <a:xfrm>
            <a:off x="162252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鼠小弟，鼠小弟-09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46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