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2FD-E3AE-4CBD-9D9F-FDFC65AD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426-CA59-448D-B5C6-430F6FAD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C79C-F982-4CC4-8E39-490C2075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E255-DB0C-448D-A3FE-326253A1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AF3-E0A2-4EB6-9563-A49EC643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9214-94E0-457D-A193-866D0E04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829-9073-43FE-81B3-CC92D4DB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0AB-D1BB-4E1D-A1B5-9B207BB6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CF5-0E79-46BE-AE41-0C90E9A8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326-A4D7-4ADF-9A04-520EC3BD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55A-6960-4CFF-8423-70585A6C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4CF2-5450-4A23-9372-19CE9907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FFB0-0E3F-46AA-92EE-55954DC8B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05鼠小弟，鼠小弟-10" descr=""/>
          <p:cNvPicPr/>
          <p:nvPr/>
        </p:nvPicPr>
        <p:blipFill>
          <a:blip r:embed="rId1"/>
          <a:stretch/>
        </p:blipFill>
        <p:spPr>
          <a:xfrm>
            <a:off x="1619280" y="3240"/>
            <a:ext cx="58435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05鼠小弟，鼠小弟-11" descr=""/>
          <p:cNvPicPr/>
          <p:nvPr/>
        </p:nvPicPr>
        <p:blipFill>
          <a:blip r:embed="rId1"/>
          <a:stretch/>
        </p:blipFill>
        <p:spPr>
          <a:xfrm>
            <a:off x="1619280" y="3240"/>
            <a:ext cx="58435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05鼠小弟，鼠小弟-12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05鼠小弟，鼠小弟-13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05鼠小弟，鼠小弟-14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05鼠小弟，鼠小弟-15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05鼠小弟，鼠小弟-1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05鼠小弟，鼠小弟-17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05鼠小弟，鼠小弟-18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05鼠小弟，鼠小弟-19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05鼠小弟，鼠小弟-02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05鼠小弟，鼠小弟-20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05鼠小弟，鼠小弟-21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05鼠小弟，鼠小弟-22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05鼠小弟，鼠小弟-23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05鼠小弟，鼠小弟-24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05鼠小弟，鼠小弟-25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05鼠小弟，鼠小弟-2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05鼠小弟，鼠小弟-27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05鼠小弟，鼠小弟-28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05鼠小弟，鼠小弟-29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05鼠小弟，鼠小弟-03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05鼠小弟，鼠小弟-30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05鼠小弟，鼠小弟-31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05鼠小弟，鼠小弟-32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05鼠小弟，鼠小弟-33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05鼠小弟，鼠小弟-34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05鼠小弟，鼠小弟-35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05鼠小弟，鼠小弟-3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05鼠小弟，鼠小弟-04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05鼠小弟，鼠小弟-05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05鼠小弟，鼠小弟-06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05鼠小弟，鼠小弟-07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05鼠小弟，鼠小弟-08" descr=""/>
          <p:cNvPicPr/>
          <p:nvPr/>
        </p:nvPicPr>
        <p:blipFill>
          <a:blip r:embed="rId1"/>
          <a:stretch/>
        </p:blipFill>
        <p:spPr>
          <a:xfrm>
            <a:off x="1622520" y="0"/>
            <a:ext cx="58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05鼠小弟，鼠小弟-09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2:46:19Z</dcterms:created>
  <dc:creator>绘本在线论坛 www.ppsbook.com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>绘本在线论坛 www.ppsbook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