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555-1AD4-4B5E-9653-3FB8E144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4E2-AA93-4D8D-879A-1E07EA4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986F-50F6-48B2-B33C-04A7A01C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0B6-A20C-4162-AE8F-09A425F8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583-DEB0-4062-9A2E-01075E8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65F-EDAD-4689-9840-51FC7EF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F6B-6D66-4B2C-A4F2-751A9A2B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54B-A5EE-4054-86A8-AAE166C5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884-CF37-4436-A23A-4A4725F7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EB6-632A-461A-B56D-086A9B0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A03-A631-4D58-9798-C165CEA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72A-97F9-4811-A460-153B92B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CBAB-619D-4BC7-B032-041049E9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5鼠小弟，鼠小弟-10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05鼠小弟，鼠小弟-11" descr=""/>
          <p:cNvPicPr/>
          <p:nvPr/>
        </p:nvPicPr>
        <p:blipFill>
          <a:blip r:embed="rId1"/>
          <a:stretch/>
        </p:blipFill>
        <p:spPr>
          <a:xfrm>
            <a:off x="1619280" y="3240"/>
            <a:ext cx="5843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05鼠小弟，鼠小弟-1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05鼠小弟，鼠小弟-1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05鼠小弟，鼠小弟-1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05鼠小弟，鼠小弟-1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05鼠小弟，鼠小弟-1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05鼠小弟，鼠小弟-1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05鼠小弟，鼠小弟-18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5鼠小弟，鼠小弟-19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5鼠小弟，鼠小弟-0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05鼠小弟，鼠小弟-20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05鼠小弟，鼠小弟-21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5鼠小弟，鼠小弟-22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05鼠小弟，鼠小弟-23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5鼠小弟，鼠小弟-24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05鼠小弟，鼠小弟-25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5鼠小弟，鼠小弟-2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05鼠小弟，鼠小弟-27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05鼠小弟，鼠小弟-28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05鼠小弟，鼠小弟-29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05鼠小弟，鼠小弟-03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05鼠小弟，鼠小弟-30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05鼠小弟，鼠小弟-31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05鼠小弟，鼠小弟-32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5鼠小弟，鼠小弟-33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05鼠小弟，鼠小弟-34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05鼠小弟，鼠小弟-35" descr=""/>
          <p:cNvPicPr/>
          <p:nvPr/>
        </p:nvPicPr>
        <p:blipFill>
          <a:blip r:embed="rId1"/>
          <a:stretch/>
        </p:blipFill>
        <p:spPr>
          <a:xfrm>
            <a:off x="163512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05鼠小弟，鼠小弟-36" descr=""/>
          <p:cNvPicPr/>
          <p:nvPr/>
        </p:nvPicPr>
        <p:blipFill>
          <a:blip r:embed="rId1"/>
          <a:stretch/>
        </p:blipFill>
        <p:spPr>
          <a:xfrm>
            <a:off x="163836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5鼠小弟，鼠小弟-04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5鼠小弟，鼠小弟-05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鼠小弟，鼠小弟-06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05鼠小弟，鼠小弟-07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05鼠小弟，鼠小弟-08" descr=""/>
          <p:cNvPicPr/>
          <p:nvPr/>
        </p:nvPicPr>
        <p:blipFill>
          <a:blip r:embed="rId1"/>
          <a:stretch/>
        </p:blipFill>
        <p:spPr>
          <a:xfrm>
            <a:off x="1622520" y="0"/>
            <a:ext cx="58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05鼠小弟，鼠小弟-09" descr=""/>
          <p:cNvPicPr/>
          <p:nvPr/>
        </p:nvPicPr>
        <p:blipFill>
          <a:blip r:embed="rId1"/>
          <a:stretch/>
        </p:blipFill>
        <p:spPr>
          <a:xfrm>
            <a:off x="1619280" y="0"/>
            <a:ext cx="584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2:46:19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