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097-FE38-4A94-9857-7FF04906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A15-BC13-4CA4-AD0C-324F027A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7C4-9E66-4958-9ADA-E85F43FA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564-7D81-4D08-89F8-05075E6F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7AA6-9EA4-4602-A14E-59FDB4A8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0CD7-8B1A-4009-A3C1-0CC638D5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338B-744C-4EF7-BF17-C4F8AD4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D3D3-8DFC-44E3-8207-AA512AAF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0F91-57FE-4606-8740-B5C4C5AE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DAD3-031A-4021-AF0D-4AEA0D78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11E9-7FDF-43DA-AAE3-ECBF5653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74C-499F-4EA3-8264-A579527E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E9E4-BBE8-42A7-B4EF-3115FCE3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9910-943B-4CAA-8A0A-20DAA057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E545-E643-4541-9359-379A0DBD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94F1-80A5-4965-AE5E-E9A1C8C1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34DE-D1BC-42DE-AE8A-9FE6CEE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9CD-CA04-4EB2-B558-6C1B5ED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B08-CE8C-4B95-9F6E-B896A66B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EB2-5663-429E-A99F-DC126857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EAC-2495-4DC4-85FF-90C736ED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F45-8D63-4BFC-9C12-A52E2F17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851-B44A-4C39-9069-CC46B87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1A7-D8F8-4B9B-96AA-B362E5C3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00F7-B839-4310-90B5-2BF30F44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94FB-748C-429E-91B5-3BEBC381836B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g.mp3" descr=""/>
          <p:cNvPicPr/>
          <p:nvPr/>
        </p:nvPicPr>
        <p:blipFill>
          <a:blip r:embed="rId3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升国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112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119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1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左边撇小小右边竖长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127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134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竖穿扁口上短下更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guzheng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国旗1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4" descr="生字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我们     国旗     升起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立正     敬礼     歌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4" descr="gai"/>
          <p:cNvPicPr/>
          <p:nvPr/>
        </p:nvPicPr>
        <p:blipFill>
          <a:blip r:embed="rId2"/>
          <a:stretch/>
        </p:blipFill>
        <p:spPr>
          <a:xfrm>
            <a:off x="21337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RFNDXzI2MzcguA==_LzDatIfprR8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à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àn bià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à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>刘卉</dc:creator>
  <dc:description/>
  <dc:language>en-US</dc:language>
  <cp:lastModifiedBy>番茄花园</cp:lastModifiedBy>
  <dcterms:modified xsi:type="dcterms:W3CDTF">2009-12-26T08:55:06Z</dcterms:modified>
  <cp:revision>23</cp:revision>
  <dc:subject/>
  <dc:title>PowerPoint 演示文稿</dc:title>
</cp:coreProperties>
</file>